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  <p:sldId id="343" r:id="rId103"/>
    <p:sldId id="344" r:id="rId104"/>
    <p:sldId id="345" r:id="rId105"/>
    <p:sldId id="346" r:id="rId106"/>
    <p:sldId id="347" r:id="rId107"/>
    <p:sldId id="348" r:id="rId108"/>
    <p:sldId id="349" r:id="rId109"/>
    <p:sldId id="350" r:id="rId110"/>
    <p:sldId id="351" r:id="rId111"/>
    <p:sldId id="352" r:id="rId112"/>
    <p:sldId id="353" r:id="rId113"/>
    <p:sldId id="354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slide" Target="slides/slide88.xml"/><Relationship Id="rId104" Type="http://schemas.openxmlformats.org/officeDocument/2006/relationships/slide" Target="slides/slide89.xml"/><Relationship Id="rId105" Type="http://schemas.openxmlformats.org/officeDocument/2006/relationships/slide" Target="slides/slide90.xml"/><Relationship Id="rId106" Type="http://schemas.openxmlformats.org/officeDocument/2006/relationships/slide" Target="slides/slide91.xml"/><Relationship Id="rId107" Type="http://schemas.openxmlformats.org/officeDocument/2006/relationships/slide" Target="slides/slide92.xml"/><Relationship Id="rId108" Type="http://schemas.openxmlformats.org/officeDocument/2006/relationships/slide" Target="slides/slide93.xml"/><Relationship Id="rId109" Type="http://schemas.openxmlformats.org/officeDocument/2006/relationships/slide" Target="slides/slide94.xml"/><Relationship Id="rId110" Type="http://schemas.openxmlformats.org/officeDocument/2006/relationships/slide" Target="slides/slide95.xml"/><Relationship Id="rId111" Type="http://schemas.openxmlformats.org/officeDocument/2006/relationships/slide" Target="slides/slide96.xml"/><Relationship Id="rId112" Type="http://schemas.openxmlformats.org/officeDocument/2006/relationships/slide" Target="slides/slide97.xml"/><Relationship Id="rId113" Type="http://schemas.openxmlformats.org/officeDocument/2006/relationships/slide" Target="slides/slide98.xml"/><Relationship Id="rId114" Type="http://schemas.openxmlformats.org/officeDocument/2006/relationships/slide" Target="slides/slide99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0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12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Imagen" descr="Untitled.jpg"/>
          <p:cNvPicPr/>
          <p:nvPr/>
        </p:nvPicPr>
        <p:blipFill>
          <a:blip r:embed="rId2"/>
          <a:stretch/>
        </p:blipFill>
        <p:spPr>
          <a:xfrm>
            <a:off x="0" y="3191040"/>
            <a:ext cx="3457440" cy="366696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0" y="3214800"/>
            <a:ext cx="3500280" cy="3643200"/>
          </a:xfrm>
          <a:prstGeom prst="rect">
            <a:avLst/>
          </a:prstGeom>
          <a:solidFill>
            <a:srgbClr val="ffff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525600" y="6515280"/>
            <a:ext cx="55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6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7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1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Tema 1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371680" y="2571840"/>
            <a:ext cx="6400800" cy="2519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</a:rPr>
              <a:t>La maximización de los beneficios y la oferta competitiva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maximización de los benefici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Maximizan las empresas los benefici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mplicaciones de perseguir objetivos distintos de los benefici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 unos beneficios a largo plazo, los accionistas no apoyarán la empres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n beneficios, es improbable que sobrevivan las empres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maximización de los benefici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Maximizan las empresas los benefici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maximización de los beneficios a largo plazo es válida, pero no excluye la posibilidad de una conducta altruist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álculo de la maximización de los beneficios para el nivel de la produc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eneficio (    ) = Ingreso total - Coste total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ngreso total (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q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total (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q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r lo tant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Object 6"/>
              <p:cNvSpPr txBox="1"/>
              <p:nvPr/>
            </p:nvSpPr>
            <p:spPr>
              <a:xfrm>
                <a:off x="2838600" y="2448000"/>
                <a:ext cx="463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24" name="Group 24"/>
          <p:cNvGrpSpPr/>
          <p:nvPr/>
        </p:nvGrpSpPr>
        <p:grpSpPr>
          <a:xfrm>
            <a:off x="2352600" y="5272200"/>
            <a:ext cx="4710240" cy="760320"/>
            <a:chOff x="2352600" y="5272200"/>
            <a:chExt cx="4710240" cy="760320"/>
          </a:xfrm>
        </p:grpSpPr>
        <p:sp>
          <p:nvSpPr>
            <p:cNvPr id="625" name="Rectangle 8"/>
            <p:cNvSpPr/>
            <p:nvPr/>
          </p:nvSpPr>
          <p:spPr>
            <a:xfrm>
              <a:off x="2352600" y="5310360"/>
              <a:ext cx="4710240" cy="722160"/>
            </a:xfrm>
            <a:prstGeom prst="rect">
              <a:avLst/>
            </a:prstGeom>
            <a:solidFill>
              <a:srgbClr val="ffd6a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7"/>
            <p:cNvSpPr/>
            <p:nvPr/>
          </p:nvSpPr>
          <p:spPr>
            <a:xfrm>
              <a:off x="5819040" y="5338800"/>
              <a:ext cx="11923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9"/>
            <p:cNvSpPr/>
            <p:nvPr/>
          </p:nvSpPr>
          <p:spPr>
            <a:xfrm>
              <a:off x="4239360" y="5338800"/>
              <a:ext cx="100188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1"/>
            <p:cNvSpPr/>
            <p:nvPr/>
          </p:nvSpPr>
          <p:spPr>
            <a:xfrm>
              <a:off x="5661360" y="5272200"/>
              <a:ext cx="1911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22"/>
            <p:cNvSpPr/>
            <p:nvPr/>
          </p:nvSpPr>
          <p:spPr>
            <a:xfrm>
              <a:off x="3878640" y="5272200"/>
              <a:ext cx="4550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23"/>
            <p:cNvSpPr/>
            <p:nvPr/>
          </p:nvSpPr>
          <p:spPr>
            <a:xfrm>
              <a:off x="2515320" y="5272200"/>
              <a:ext cx="112536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" sz="45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maximización de los beneficios a corto plazo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"/>
          <p:cNvSpPr/>
          <p:nvPr/>
        </p:nvSpPr>
        <p:spPr>
          <a:xfrm>
            <a:off x="2362320" y="2147760"/>
            <a:ext cx="0" cy="401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6"/>
          <p:cNvSpPr/>
          <p:nvPr/>
        </p:nvSpPr>
        <p:spPr>
          <a:xfrm>
            <a:off x="2376360" y="5105520"/>
            <a:ext cx="55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2341080" y="5141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1174680" y="1671480"/>
            <a:ext cx="1069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5638680" y="5938920"/>
            <a:ext cx="301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14"/>
          <p:cNvGrpSpPr/>
          <p:nvPr/>
        </p:nvGrpSpPr>
        <p:grpSpPr>
          <a:xfrm>
            <a:off x="2363760" y="1633680"/>
            <a:ext cx="5825520" cy="3474720"/>
            <a:chOff x="2363760" y="1633680"/>
            <a:chExt cx="5825520" cy="3474720"/>
          </a:xfrm>
        </p:grpSpPr>
        <p:sp>
          <p:nvSpPr>
            <p:cNvPr id="641" name="Freeform 10"/>
            <p:cNvSpPr/>
            <p:nvPr/>
          </p:nvSpPr>
          <p:spPr>
            <a:xfrm>
              <a:off x="2363760" y="2181240"/>
              <a:ext cx="4573440" cy="2927160"/>
            </a:xfrm>
            <a:custGeom>
              <a:avLst/>
              <a:gdLst>
                <a:gd name="textAreaLeft" fmla="*/ 0 w 4573440"/>
                <a:gd name="textAreaRight" fmla="*/ 4573800 w 457344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881" h="1844">
                  <a:moveTo>
                    <a:pt x="0" y="1843"/>
                  </a:moveTo>
                  <a:lnTo>
                    <a:pt x="224" y="1550"/>
                  </a:lnTo>
                  <a:lnTo>
                    <a:pt x="342" y="1405"/>
                  </a:lnTo>
                  <a:lnTo>
                    <a:pt x="454" y="1272"/>
                  </a:lnTo>
                  <a:lnTo>
                    <a:pt x="566" y="1138"/>
                  </a:lnTo>
                  <a:lnTo>
                    <a:pt x="685" y="1009"/>
                  </a:lnTo>
                  <a:lnTo>
                    <a:pt x="797" y="896"/>
                  </a:lnTo>
                  <a:lnTo>
                    <a:pt x="909" y="788"/>
                  </a:lnTo>
                  <a:lnTo>
                    <a:pt x="1028" y="690"/>
                  </a:lnTo>
                  <a:lnTo>
                    <a:pt x="1146" y="603"/>
                  </a:lnTo>
                  <a:lnTo>
                    <a:pt x="1265" y="520"/>
                  </a:lnTo>
                  <a:lnTo>
                    <a:pt x="1384" y="448"/>
                  </a:lnTo>
                  <a:lnTo>
                    <a:pt x="1496" y="376"/>
                  </a:lnTo>
                  <a:lnTo>
                    <a:pt x="1615" y="319"/>
                  </a:lnTo>
                  <a:lnTo>
                    <a:pt x="1720" y="263"/>
                  </a:lnTo>
                  <a:lnTo>
                    <a:pt x="1824" y="211"/>
                  </a:lnTo>
                  <a:lnTo>
                    <a:pt x="1922" y="170"/>
                  </a:lnTo>
                  <a:lnTo>
                    <a:pt x="2020" y="134"/>
                  </a:lnTo>
                  <a:lnTo>
                    <a:pt x="2111" y="103"/>
                  </a:lnTo>
                  <a:lnTo>
                    <a:pt x="2195" y="78"/>
                  </a:lnTo>
                  <a:lnTo>
                    <a:pt x="2356" y="41"/>
                  </a:lnTo>
                  <a:lnTo>
                    <a:pt x="2496" y="16"/>
                  </a:lnTo>
                  <a:lnTo>
                    <a:pt x="2614" y="0"/>
                  </a:lnTo>
                  <a:lnTo>
                    <a:pt x="2712" y="0"/>
                  </a:lnTo>
                  <a:lnTo>
                    <a:pt x="2803" y="5"/>
                  </a:lnTo>
                  <a:lnTo>
                    <a:pt x="2880" y="1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1"/>
            <p:cNvSpPr/>
            <p:nvPr/>
          </p:nvSpPr>
          <p:spPr>
            <a:xfrm>
              <a:off x="7004160" y="1900080"/>
              <a:ext cx="57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2"/>
            <p:cNvSpPr/>
            <p:nvPr/>
          </p:nvSpPr>
          <p:spPr>
            <a:xfrm>
              <a:off x="3876840" y="163368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greso total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3"/>
            <p:cNvSpPr/>
            <p:nvPr/>
          </p:nvSpPr>
          <p:spPr>
            <a:xfrm>
              <a:off x="4863240" y="3503520"/>
              <a:ext cx="332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ndiente d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(q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I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maximización de los beneficios a corto plazo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46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"/>
          <p:cNvSpPr/>
          <p:nvPr/>
        </p:nvSpPr>
        <p:spPr>
          <a:xfrm>
            <a:off x="2362320" y="2147760"/>
            <a:ext cx="0" cy="401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6"/>
          <p:cNvSpPr/>
          <p:nvPr/>
        </p:nvSpPr>
        <p:spPr>
          <a:xfrm>
            <a:off x="2376360" y="5105520"/>
            <a:ext cx="553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2341080" y="514188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2"/>
          <p:cNvSpPr/>
          <p:nvPr/>
        </p:nvSpPr>
        <p:spPr>
          <a:xfrm>
            <a:off x="2365200" y="1752480"/>
            <a:ext cx="4419720" cy="25941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2594160"/>
              <a:gd name="textAreaBottom" fmla="*/ 2594520 h 2594160"/>
            </a:gdLst>
            <a:ahLst/>
            <a:rect l="textAreaLeft" t="textAreaTop" r="textAreaRight" b="textAreaBottom"/>
            <a:pathLst>
              <a:path w="2784" h="1634">
                <a:moveTo>
                  <a:pt x="0" y="1633"/>
                </a:moveTo>
                <a:lnTo>
                  <a:pt x="28" y="1620"/>
                </a:lnTo>
                <a:lnTo>
                  <a:pt x="69" y="1602"/>
                </a:lnTo>
                <a:lnTo>
                  <a:pt x="117" y="1585"/>
                </a:lnTo>
                <a:lnTo>
                  <a:pt x="171" y="1563"/>
                </a:lnTo>
                <a:lnTo>
                  <a:pt x="281" y="1524"/>
                </a:lnTo>
                <a:lnTo>
                  <a:pt x="329" y="1506"/>
                </a:lnTo>
                <a:lnTo>
                  <a:pt x="376" y="1493"/>
                </a:lnTo>
                <a:lnTo>
                  <a:pt x="452" y="1475"/>
                </a:lnTo>
                <a:lnTo>
                  <a:pt x="513" y="1462"/>
                </a:lnTo>
                <a:lnTo>
                  <a:pt x="575" y="1458"/>
                </a:lnTo>
                <a:lnTo>
                  <a:pt x="616" y="1453"/>
                </a:lnTo>
                <a:lnTo>
                  <a:pt x="664" y="1445"/>
                </a:lnTo>
                <a:lnTo>
                  <a:pt x="780" y="1427"/>
                </a:lnTo>
                <a:lnTo>
                  <a:pt x="910" y="1405"/>
                </a:lnTo>
                <a:lnTo>
                  <a:pt x="1053" y="1379"/>
                </a:lnTo>
                <a:lnTo>
                  <a:pt x="1197" y="1344"/>
                </a:lnTo>
                <a:lnTo>
                  <a:pt x="1347" y="1300"/>
                </a:lnTo>
                <a:lnTo>
                  <a:pt x="1505" y="1248"/>
                </a:lnTo>
                <a:lnTo>
                  <a:pt x="1580" y="1217"/>
                </a:lnTo>
                <a:lnTo>
                  <a:pt x="1662" y="1186"/>
                </a:lnTo>
                <a:lnTo>
                  <a:pt x="1744" y="1147"/>
                </a:lnTo>
                <a:lnTo>
                  <a:pt x="1819" y="1103"/>
                </a:lnTo>
                <a:lnTo>
                  <a:pt x="1901" y="1055"/>
                </a:lnTo>
                <a:lnTo>
                  <a:pt x="1983" y="1007"/>
                </a:lnTo>
                <a:lnTo>
                  <a:pt x="2154" y="889"/>
                </a:lnTo>
                <a:lnTo>
                  <a:pt x="2311" y="762"/>
                </a:lnTo>
                <a:lnTo>
                  <a:pt x="2380" y="696"/>
                </a:lnTo>
                <a:lnTo>
                  <a:pt x="2448" y="626"/>
                </a:lnTo>
                <a:lnTo>
                  <a:pt x="2557" y="481"/>
                </a:lnTo>
                <a:lnTo>
                  <a:pt x="2639" y="328"/>
                </a:lnTo>
                <a:lnTo>
                  <a:pt x="2715" y="166"/>
                </a:lnTo>
                <a:lnTo>
                  <a:pt x="2783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6394680" y="1290600"/>
            <a:ext cx="69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(q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6"/>
          <p:cNvSpPr/>
          <p:nvPr/>
        </p:nvSpPr>
        <p:spPr>
          <a:xfrm>
            <a:off x="4669200" y="229860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e 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7"/>
          <p:cNvSpPr/>
          <p:nvPr/>
        </p:nvSpPr>
        <p:spPr>
          <a:xfrm>
            <a:off x="5619240" y="3355920"/>
            <a:ext cx="30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12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diente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(q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0"/>
          <p:cNvSpPr/>
          <p:nvPr/>
        </p:nvSpPr>
        <p:spPr>
          <a:xfrm>
            <a:off x="2829240" y="454968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¿Por qué el coste total es positivo cuando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q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s cer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4"/>
          <p:cNvSpPr/>
          <p:nvPr/>
        </p:nvSpPr>
        <p:spPr>
          <a:xfrm>
            <a:off x="1174680" y="1671480"/>
            <a:ext cx="1069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5638680" y="5938920"/>
            <a:ext cx="301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Ingreso marginal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es el ingreso adicional correspondiente a una unidad adicional de producción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ste marginal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es el coste adicional correspondiente a una unidad adicional de producción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19240" y="1447920"/>
            <a:ext cx="8248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aración de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 y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veles de producción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0-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&gt; I(q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 negativo.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F + CV &gt;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M &gt; CM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221400" indent="-221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Indica un beneficio mayor con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221400" indent="-2214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una producción mayor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31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673" name="Freeform 11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Group 32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676" name="Freeform 13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5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33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679" name="Group 26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680" name="Line 27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Oval 17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18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9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20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Group 36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687" name="Rectangle 21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4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22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37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692" name="Freeform 23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3" name="Object 24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4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6083280" y="597204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52440" y="1247760"/>
            <a:ext cx="427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aración de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 y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egunta</a:t>
            </a: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: ¿por qué el beneficio es negativo cuando la producción es cero?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32"/>
          <p:cNvSpPr/>
          <p:nvPr/>
        </p:nvSpPr>
        <p:spPr>
          <a:xfrm>
            <a:off x="52005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36"/>
          <p:cNvGrpSpPr/>
          <p:nvPr/>
        </p:nvGrpSpPr>
        <p:grpSpPr>
          <a:xfrm>
            <a:off x="5184720" y="3083040"/>
            <a:ext cx="3852000" cy="2243160"/>
            <a:chOff x="5184720" y="3083040"/>
            <a:chExt cx="3852000" cy="2243160"/>
          </a:xfrm>
        </p:grpSpPr>
        <p:sp>
          <p:nvSpPr>
            <p:cNvPr id="703" name="Freeform 37"/>
            <p:cNvSpPr/>
            <p:nvPr/>
          </p:nvSpPr>
          <p:spPr>
            <a:xfrm>
              <a:off x="51847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38"/>
            <p:cNvSpPr/>
            <p:nvPr/>
          </p:nvSpPr>
          <p:spPr>
            <a:xfrm>
              <a:off x="84985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Line 31"/>
          <p:cNvSpPr/>
          <p:nvPr/>
        </p:nvSpPr>
        <p:spPr>
          <a:xfrm>
            <a:off x="518652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51699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39"/>
          <p:cNvGrpSpPr/>
          <p:nvPr/>
        </p:nvGrpSpPr>
        <p:grpSpPr>
          <a:xfrm>
            <a:off x="5183280" y="2647800"/>
            <a:ext cx="3519360" cy="2135160"/>
            <a:chOff x="5183280" y="2647800"/>
            <a:chExt cx="3519360" cy="2135160"/>
          </a:xfrm>
        </p:grpSpPr>
        <p:sp>
          <p:nvSpPr>
            <p:cNvPr id="708" name="Freeform 40"/>
            <p:cNvSpPr/>
            <p:nvPr/>
          </p:nvSpPr>
          <p:spPr>
            <a:xfrm>
              <a:off x="5183280" y="2930400"/>
              <a:ext cx="3160440" cy="1852560"/>
            </a:xfrm>
            <a:custGeom>
              <a:avLst/>
              <a:gdLst>
                <a:gd name="textAreaLeft" fmla="*/ 0 w 3160440"/>
                <a:gd name="textAreaRight" fmla="*/ 3160800 w 316044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41"/>
            <p:cNvSpPr/>
            <p:nvPr/>
          </p:nvSpPr>
          <p:spPr>
            <a:xfrm>
              <a:off x="806400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42"/>
          <p:cNvGrpSpPr/>
          <p:nvPr/>
        </p:nvGrpSpPr>
        <p:grpSpPr>
          <a:xfrm>
            <a:off x="6275520" y="2972880"/>
            <a:ext cx="1801800" cy="1749600"/>
            <a:chOff x="6275520" y="2972880"/>
            <a:chExt cx="1801800" cy="1749600"/>
          </a:xfrm>
        </p:grpSpPr>
        <p:grpSp>
          <p:nvGrpSpPr>
            <p:cNvPr id="711" name="Group 43"/>
            <p:cNvGrpSpPr/>
            <p:nvPr/>
          </p:nvGrpSpPr>
          <p:grpSpPr>
            <a:xfrm>
              <a:off x="6275520" y="2972880"/>
              <a:ext cx="1801800" cy="1749600"/>
              <a:chOff x="6275520" y="2972880"/>
              <a:chExt cx="1801800" cy="1749600"/>
            </a:xfrm>
          </p:grpSpPr>
          <p:sp>
            <p:nvSpPr>
              <p:cNvPr id="712" name="Line 44"/>
              <p:cNvSpPr/>
              <p:nvPr/>
            </p:nvSpPr>
            <p:spPr>
              <a:xfrm flipV="1">
                <a:off x="627552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45"/>
              <p:cNvSpPr/>
              <p:nvPr/>
            </p:nvSpPr>
            <p:spPr>
              <a:xfrm flipV="1">
                <a:off x="627552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4" name="Oval 46"/>
            <p:cNvSpPr/>
            <p:nvPr/>
          </p:nvSpPr>
          <p:spPr>
            <a:xfrm>
              <a:off x="709020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7"/>
            <p:cNvSpPr/>
            <p:nvPr/>
          </p:nvSpPr>
          <p:spPr>
            <a:xfrm>
              <a:off x="709020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48"/>
            <p:cNvSpPr/>
            <p:nvPr/>
          </p:nvSpPr>
          <p:spPr>
            <a:xfrm>
              <a:off x="686628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49"/>
            <p:cNvSpPr/>
            <p:nvPr/>
          </p:nvSpPr>
          <p:spPr>
            <a:xfrm>
              <a:off x="678996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50"/>
          <p:cNvGrpSpPr/>
          <p:nvPr/>
        </p:nvGrpSpPr>
        <p:grpSpPr>
          <a:xfrm>
            <a:off x="5609880" y="3543480"/>
            <a:ext cx="1764360" cy="2210400"/>
            <a:chOff x="5609880" y="3543480"/>
            <a:chExt cx="1764360" cy="2210400"/>
          </a:xfrm>
        </p:grpSpPr>
        <p:sp>
          <p:nvSpPr>
            <p:cNvPr id="719" name="Rectangle 51"/>
            <p:cNvSpPr/>
            <p:nvPr/>
          </p:nvSpPr>
          <p:spPr>
            <a:xfrm>
              <a:off x="56098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52"/>
            <p:cNvSpPr/>
            <p:nvPr/>
          </p:nvSpPr>
          <p:spPr>
            <a:xfrm>
              <a:off x="57308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53"/>
            <p:cNvSpPr/>
            <p:nvPr/>
          </p:nvSpPr>
          <p:spPr>
            <a:xfrm>
              <a:off x="71434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54"/>
            <p:cNvSpPr/>
            <p:nvPr/>
          </p:nvSpPr>
          <p:spPr>
            <a:xfrm>
              <a:off x="69793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60"/>
          <p:cNvGrpSpPr/>
          <p:nvPr/>
        </p:nvGrpSpPr>
        <p:grpSpPr>
          <a:xfrm>
            <a:off x="5180040" y="4653000"/>
            <a:ext cx="3664080" cy="1309680"/>
            <a:chOff x="5180040" y="4653000"/>
            <a:chExt cx="3664080" cy="1309680"/>
          </a:xfrm>
        </p:grpSpPr>
        <p:sp>
          <p:nvSpPr>
            <p:cNvPr id="724" name="Freeform 56"/>
            <p:cNvSpPr/>
            <p:nvPr/>
          </p:nvSpPr>
          <p:spPr>
            <a:xfrm>
              <a:off x="51800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5" name="Object 57"/>
                <p:cNvSpPr txBox="1"/>
                <p:nvPr/>
              </p:nvSpPr>
              <p:spPr>
                <a:xfrm>
                  <a:off x="834084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6" name="Rectangle 65"/>
          <p:cNvSpPr/>
          <p:nvPr/>
        </p:nvSpPr>
        <p:spPr>
          <a:xfrm>
            <a:off x="6083280" y="597204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52440" y="124776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aración de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 y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ctr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veles de producción: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 - </a:t>
            </a:r>
            <a:r>
              <a:rPr b="0" i="1" lang="en-US" sz="2400" spc="-1" strike="noStrike" baseline="-25000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400" spc="-1" strike="noStrike" baseline="30000">
                <a:solidFill>
                  <a:srgbClr val="26262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(q)&gt; C(q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M &gt; CM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Indica un beneficio mayor con una producción mayor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Los beneficios aumentan. 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54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55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735" name="Freeform 56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57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Line 59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60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63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740" name="Freeform 64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65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66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743" name="Group 67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744" name="Line 68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69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Oval 70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71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72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73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74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751" name="Rectangle 75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76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77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78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85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756" name="Freeform 80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Object 81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8" name="Rectangle 92"/>
          <p:cNvSpPr/>
          <p:nvPr/>
        </p:nvSpPr>
        <p:spPr>
          <a:xfrm>
            <a:off x="6286680" y="594036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52080" y="1247760"/>
            <a:ext cx="4228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aración de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 y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vel de producción: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400" spc="-1" strike="noStrike" baseline="30000">
                <a:solidFill>
                  <a:srgbClr val="262626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(q)= C(q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M = CM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os beneficios se maximizan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32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33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767" name="Freeform 34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35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Line 37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0"/>
          <p:cNvSpPr/>
          <p:nvPr/>
        </p:nvSpPr>
        <p:spPr>
          <a:xfrm>
            <a:off x="6286680" y="594036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773" name="Freeform 42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43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4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776" name="Group 45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777" name="Line 46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47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Oval 48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49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50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1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52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784" name="Rectangle 53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54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55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56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Group 91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789" name="Freeform 58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9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1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mercados perfectamente competitiv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maximización de los benefic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l ingreso marginal, el coste marginal y la maximización de los benefic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ección del nivel de producción a cort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37760" y="1471680"/>
            <a:ext cx="380988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¿Por qué disminuyen los beneficios cuando los niveles de producción son superiores o inferiores a 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q*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1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32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799" name="Freeform 33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34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Line 36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7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Group 40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804" name="Freeform 41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42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43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807" name="Group 44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808" name="Line 45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46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0" name="Oval 47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48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49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50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51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815" name="Rectangle 52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53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4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55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60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820" name="Freeform 57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1" name="Object 58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2" name="Rectangle 66"/>
          <p:cNvSpPr/>
          <p:nvPr/>
        </p:nvSpPr>
        <p:spPr>
          <a:xfrm>
            <a:off x="6286680" y="594036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52440" y="1247760"/>
            <a:ext cx="41529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omparación de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I(q) y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C(q)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veles de producción superiores a 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400" spc="-1" strike="noStrike" baseline="30000">
                <a:solidFill>
                  <a:srgbClr val="26262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262626"/>
                </a:solidFill>
                <a:latin typeface="Arial"/>
              </a:rPr>
              <a:t>(q)&gt; C(q)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CM &gt; IM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os beneficios disminuyen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60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61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831" name="Freeform 62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Line 65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6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69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836" name="Freeform 70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71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72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839" name="Group 73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840" name="Line 74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75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2" name="Oval 76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77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78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79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80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847" name="Rectangle 81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82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83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84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Group 85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852" name="Freeform 86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3" name="Object 87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4" name="Rectangle 91"/>
          <p:cNvSpPr/>
          <p:nvPr/>
        </p:nvSpPr>
        <p:spPr>
          <a:xfrm>
            <a:off x="6286680" y="594036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52080" y="1247760"/>
            <a:ext cx="4257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r lo tanto, llegamos a la conclusión de que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21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os beneficios se maximizan cuando CM = IM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Footer Placeholder 4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59"/>
          <p:cNvSpPr/>
          <p:nvPr/>
        </p:nvSpPr>
        <p:spPr>
          <a:xfrm>
            <a:off x="5187960" y="5322960"/>
            <a:ext cx="394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Group 60"/>
          <p:cNvGrpSpPr/>
          <p:nvPr/>
        </p:nvGrpSpPr>
        <p:grpSpPr>
          <a:xfrm>
            <a:off x="5172120" y="3083040"/>
            <a:ext cx="3852000" cy="2243160"/>
            <a:chOff x="5172120" y="3083040"/>
            <a:chExt cx="3852000" cy="2243160"/>
          </a:xfrm>
        </p:grpSpPr>
        <p:sp>
          <p:nvSpPr>
            <p:cNvPr id="863" name="Freeform 61"/>
            <p:cNvSpPr/>
            <p:nvPr/>
          </p:nvSpPr>
          <p:spPr>
            <a:xfrm>
              <a:off x="5172120" y="3235320"/>
              <a:ext cx="3268440" cy="2090880"/>
            </a:xfrm>
            <a:custGeom>
              <a:avLst/>
              <a:gdLst>
                <a:gd name="textAreaLeft" fmla="*/ 0 w 3268440"/>
                <a:gd name="textAreaRight" fmla="*/ 3268800 w 326844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59" h="1317">
                  <a:moveTo>
                    <a:pt x="0" y="1316"/>
                  </a:moveTo>
                  <a:lnTo>
                    <a:pt x="161" y="1107"/>
                  </a:lnTo>
                  <a:lnTo>
                    <a:pt x="331" y="908"/>
                  </a:lnTo>
                  <a:lnTo>
                    <a:pt x="408" y="809"/>
                  </a:lnTo>
                  <a:lnTo>
                    <a:pt x="493" y="721"/>
                  </a:lnTo>
                  <a:lnTo>
                    <a:pt x="570" y="639"/>
                  </a:lnTo>
                  <a:lnTo>
                    <a:pt x="655" y="562"/>
                  </a:lnTo>
                  <a:lnTo>
                    <a:pt x="740" y="490"/>
                  </a:lnTo>
                  <a:lnTo>
                    <a:pt x="816" y="429"/>
                  </a:lnTo>
                  <a:lnTo>
                    <a:pt x="986" y="319"/>
                  </a:lnTo>
                  <a:lnTo>
                    <a:pt x="1148" y="226"/>
                  </a:lnTo>
                  <a:lnTo>
                    <a:pt x="1301" y="148"/>
                  </a:lnTo>
                  <a:lnTo>
                    <a:pt x="1369" y="121"/>
                  </a:lnTo>
                  <a:lnTo>
                    <a:pt x="1437" y="93"/>
                  </a:lnTo>
                  <a:lnTo>
                    <a:pt x="1565" y="55"/>
                  </a:lnTo>
                  <a:lnTo>
                    <a:pt x="1684" y="33"/>
                  </a:lnTo>
                  <a:lnTo>
                    <a:pt x="1786" y="11"/>
                  </a:lnTo>
                  <a:lnTo>
                    <a:pt x="1871" y="0"/>
                  </a:lnTo>
                  <a:lnTo>
                    <a:pt x="1939" y="0"/>
                  </a:lnTo>
                  <a:lnTo>
                    <a:pt x="1998" y="5"/>
                  </a:lnTo>
                  <a:lnTo>
                    <a:pt x="2058" y="11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2"/>
            <p:cNvSpPr/>
            <p:nvPr/>
          </p:nvSpPr>
          <p:spPr>
            <a:xfrm>
              <a:off x="8485920" y="3083040"/>
              <a:ext cx="538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Line 64"/>
          <p:cNvSpPr/>
          <p:nvPr/>
        </p:nvSpPr>
        <p:spPr>
          <a:xfrm>
            <a:off x="5173560" y="3216240"/>
            <a:ext cx="0" cy="28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65"/>
          <p:cNvSpPr/>
          <p:nvPr/>
        </p:nvSpPr>
        <p:spPr>
          <a:xfrm>
            <a:off x="5157360" y="5348160"/>
            <a:ext cx="32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68"/>
          <p:cNvGrpSpPr/>
          <p:nvPr/>
        </p:nvGrpSpPr>
        <p:grpSpPr>
          <a:xfrm>
            <a:off x="5170320" y="2647800"/>
            <a:ext cx="3520080" cy="2135160"/>
            <a:chOff x="5170320" y="2647800"/>
            <a:chExt cx="3520080" cy="2135160"/>
          </a:xfrm>
        </p:grpSpPr>
        <p:sp>
          <p:nvSpPr>
            <p:cNvPr id="868" name="Freeform 69"/>
            <p:cNvSpPr/>
            <p:nvPr/>
          </p:nvSpPr>
          <p:spPr>
            <a:xfrm>
              <a:off x="5170320" y="2930400"/>
              <a:ext cx="3160800" cy="1852560"/>
            </a:xfrm>
            <a:custGeom>
              <a:avLst/>
              <a:gdLst>
                <a:gd name="textAreaLeft" fmla="*/ 0 w 3160800"/>
                <a:gd name="textAreaRight" fmla="*/ 3161160 w 316080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1991" h="1167">
                  <a:moveTo>
                    <a:pt x="0" y="1166"/>
                  </a:moveTo>
                  <a:lnTo>
                    <a:pt x="59" y="1131"/>
                  </a:lnTo>
                  <a:lnTo>
                    <a:pt x="101" y="1111"/>
                  </a:lnTo>
                  <a:lnTo>
                    <a:pt x="143" y="1097"/>
                  </a:lnTo>
                  <a:lnTo>
                    <a:pt x="185" y="1087"/>
                  </a:lnTo>
                  <a:lnTo>
                    <a:pt x="235" y="1082"/>
                  </a:lnTo>
                  <a:lnTo>
                    <a:pt x="303" y="1077"/>
                  </a:lnTo>
                  <a:lnTo>
                    <a:pt x="378" y="1062"/>
                  </a:lnTo>
                  <a:lnTo>
                    <a:pt x="428" y="1052"/>
                  </a:lnTo>
                  <a:lnTo>
                    <a:pt x="479" y="1042"/>
                  </a:lnTo>
                  <a:lnTo>
                    <a:pt x="605" y="1017"/>
                  </a:lnTo>
                  <a:lnTo>
                    <a:pt x="739" y="992"/>
                  </a:lnTo>
                  <a:lnTo>
                    <a:pt x="857" y="958"/>
                  </a:lnTo>
                  <a:lnTo>
                    <a:pt x="974" y="923"/>
                  </a:lnTo>
                  <a:lnTo>
                    <a:pt x="1083" y="888"/>
                  </a:lnTo>
                  <a:lnTo>
                    <a:pt x="1192" y="844"/>
                  </a:lnTo>
                  <a:lnTo>
                    <a:pt x="1302" y="789"/>
                  </a:lnTo>
                  <a:lnTo>
                    <a:pt x="1419" y="715"/>
                  </a:lnTo>
                  <a:lnTo>
                    <a:pt x="1537" y="635"/>
                  </a:lnTo>
                  <a:lnTo>
                    <a:pt x="1654" y="541"/>
                  </a:lnTo>
                  <a:lnTo>
                    <a:pt x="1747" y="447"/>
                  </a:lnTo>
                  <a:lnTo>
                    <a:pt x="1822" y="343"/>
                  </a:lnTo>
                  <a:lnTo>
                    <a:pt x="1889" y="234"/>
                  </a:lnTo>
                  <a:lnTo>
                    <a:pt x="1940" y="119"/>
                  </a:lnTo>
                  <a:lnTo>
                    <a:pt x="1990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70"/>
            <p:cNvSpPr/>
            <p:nvPr/>
          </p:nvSpPr>
          <p:spPr>
            <a:xfrm>
              <a:off x="8051760" y="264780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(q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71"/>
          <p:cNvGrpSpPr/>
          <p:nvPr/>
        </p:nvGrpSpPr>
        <p:grpSpPr>
          <a:xfrm>
            <a:off x="6262560" y="2972880"/>
            <a:ext cx="1801800" cy="1749600"/>
            <a:chOff x="6262560" y="2972880"/>
            <a:chExt cx="1801800" cy="1749600"/>
          </a:xfrm>
        </p:grpSpPr>
        <p:grpSp>
          <p:nvGrpSpPr>
            <p:cNvPr id="871" name="Group 72"/>
            <p:cNvGrpSpPr/>
            <p:nvPr/>
          </p:nvGrpSpPr>
          <p:grpSpPr>
            <a:xfrm>
              <a:off x="6262560" y="2972880"/>
              <a:ext cx="1801800" cy="1749600"/>
              <a:chOff x="6262560" y="2972880"/>
              <a:chExt cx="1801800" cy="1749600"/>
            </a:xfrm>
          </p:grpSpPr>
          <p:sp>
            <p:nvSpPr>
              <p:cNvPr id="872" name="Line 73"/>
              <p:cNvSpPr/>
              <p:nvPr/>
            </p:nvSpPr>
            <p:spPr>
              <a:xfrm flipV="1">
                <a:off x="6262560" y="29728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74"/>
              <p:cNvSpPr/>
              <p:nvPr/>
            </p:nvSpPr>
            <p:spPr>
              <a:xfrm flipV="1">
                <a:off x="6262560" y="3727080"/>
                <a:ext cx="1801800" cy="995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4" name="Oval 75"/>
            <p:cNvSpPr/>
            <p:nvPr/>
          </p:nvSpPr>
          <p:spPr>
            <a:xfrm>
              <a:off x="7077240" y="4181400"/>
              <a:ext cx="109440" cy="108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76"/>
            <p:cNvSpPr/>
            <p:nvPr/>
          </p:nvSpPr>
          <p:spPr>
            <a:xfrm>
              <a:off x="7077240" y="3473280"/>
              <a:ext cx="109440" cy="109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77"/>
            <p:cNvSpPr/>
            <p:nvPr/>
          </p:nvSpPr>
          <p:spPr>
            <a:xfrm>
              <a:off x="6853320" y="3132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78"/>
            <p:cNvSpPr/>
            <p:nvPr/>
          </p:nvSpPr>
          <p:spPr>
            <a:xfrm>
              <a:off x="6777000" y="3894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Group 79"/>
          <p:cNvGrpSpPr/>
          <p:nvPr/>
        </p:nvGrpSpPr>
        <p:grpSpPr>
          <a:xfrm>
            <a:off x="5597280" y="3543480"/>
            <a:ext cx="1764360" cy="2210400"/>
            <a:chOff x="5597280" y="3543480"/>
            <a:chExt cx="1764360" cy="2210400"/>
          </a:xfrm>
        </p:grpSpPr>
        <p:sp>
          <p:nvSpPr>
            <p:cNvPr id="879" name="Rectangle 80"/>
            <p:cNvSpPr/>
            <p:nvPr/>
          </p:nvSpPr>
          <p:spPr>
            <a:xfrm>
              <a:off x="5597280" y="531828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81"/>
            <p:cNvSpPr/>
            <p:nvPr/>
          </p:nvSpPr>
          <p:spPr>
            <a:xfrm>
              <a:off x="5718240" y="4630680"/>
              <a:ext cx="0" cy="679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82"/>
            <p:cNvSpPr/>
            <p:nvPr/>
          </p:nvSpPr>
          <p:spPr>
            <a:xfrm>
              <a:off x="7130880" y="3543480"/>
              <a:ext cx="0" cy="1766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3"/>
            <p:cNvSpPr/>
            <p:nvPr/>
          </p:nvSpPr>
          <p:spPr>
            <a:xfrm>
              <a:off x="6966720" y="5318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84"/>
          <p:cNvGrpSpPr/>
          <p:nvPr/>
        </p:nvGrpSpPr>
        <p:grpSpPr>
          <a:xfrm>
            <a:off x="5167440" y="4653000"/>
            <a:ext cx="3663720" cy="1309680"/>
            <a:chOff x="5167440" y="4653000"/>
            <a:chExt cx="3663720" cy="1309680"/>
          </a:xfrm>
        </p:grpSpPr>
        <p:sp>
          <p:nvSpPr>
            <p:cNvPr id="884" name="Freeform 85"/>
            <p:cNvSpPr/>
            <p:nvPr/>
          </p:nvSpPr>
          <p:spPr>
            <a:xfrm>
              <a:off x="5167440" y="4653000"/>
              <a:ext cx="3267000" cy="1271520"/>
            </a:xfrm>
            <a:custGeom>
              <a:avLst/>
              <a:gdLst>
                <a:gd name="textAreaLeft" fmla="*/ 0 w 3267000"/>
                <a:gd name="textAreaRight" fmla="*/ 3267360 w 326700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2058" h="801">
                  <a:moveTo>
                    <a:pt x="0" y="800"/>
                  </a:moveTo>
                  <a:lnTo>
                    <a:pt x="26" y="794"/>
                  </a:lnTo>
                  <a:lnTo>
                    <a:pt x="51" y="788"/>
                  </a:lnTo>
                  <a:lnTo>
                    <a:pt x="85" y="769"/>
                  </a:lnTo>
                  <a:lnTo>
                    <a:pt x="102" y="751"/>
                  </a:lnTo>
                  <a:lnTo>
                    <a:pt x="119" y="733"/>
                  </a:lnTo>
                  <a:lnTo>
                    <a:pt x="145" y="708"/>
                  </a:lnTo>
                  <a:lnTo>
                    <a:pt x="162" y="672"/>
                  </a:lnTo>
                  <a:lnTo>
                    <a:pt x="213" y="592"/>
                  </a:lnTo>
                  <a:lnTo>
                    <a:pt x="272" y="507"/>
                  </a:lnTo>
                  <a:lnTo>
                    <a:pt x="349" y="421"/>
                  </a:lnTo>
                  <a:lnTo>
                    <a:pt x="434" y="336"/>
                  </a:lnTo>
                  <a:lnTo>
                    <a:pt x="544" y="250"/>
                  </a:lnTo>
                  <a:lnTo>
                    <a:pt x="655" y="171"/>
                  </a:lnTo>
                  <a:lnTo>
                    <a:pt x="714" y="140"/>
                  </a:lnTo>
                  <a:lnTo>
                    <a:pt x="774" y="110"/>
                  </a:lnTo>
                  <a:lnTo>
                    <a:pt x="884" y="61"/>
                  </a:lnTo>
                  <a:lnTo>
                    <a:pt x="1003" y="24"/>
                  </a:lnTo>
                  <a:lnTo>
                    <a:pt x="1122" y="6"/>
                  </a:lnTo>
                  <a:lnTo>
                    <a:pt x="1233" y="0"/>
                  </a:lnTo>
                  <a:lnTo>
                    <a:pt x="1292" y="6"/>
                  </a:lnTo>
                  <a:lnTo>
                    <a:pt x="1352" y="18"/>
                  </a:lnTo>
                  <a:lnTo>
                    <a:pt x="1462" y="61"/>
                  </a:lnTo>
                  <a:lnTo>
                    <a:pt x="1573" y="110"/>
                  </a:lnTo>
                  <a:lnTo>
                    <a:pt x="1666" y="165"/>
                  </a:lnTo>
                  <a:lnTo>
                    <a:pt x="1743" y="220"/>
                  </a:lnTo>
                  <a:lnTo>
                    <a:pt x="1811" y="287"/>
                  </a:lnTo>
                  <a:lnTo>
                    <a:pt x="1870" y="360"/>
                  </a:lnTo>
                  <a:lnTo>
                    <a:pt x="1921" y="421"/>
                  </a:lnTo>
                  <a:lnTo>
                    <a:pt x="1964" y="482"/>
                  </a:lnTo>
                  <a:lnTo>
                    <a:pt x="2006" y="543"/>
                  </a:lnTo>
                  <a:lnTo>
                    <a:pt x="2032" y="598"/>
                  </a:lnTo>
                  <a:lnTo>
                    <a:pt x="2057" y="64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5" name="Object 86"/>
                <p:cNvSpPr txBox="1"/>
                <p:nvPr/>
              </p:nvSpPr>
              <p:spPr>
                <a:xfrm>
                  <a:off x="8327880" y="5649840"/>
                  <a:ext cx="503280" cy="31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6" name="Rectangle 90"/>
          <p:cNvSpPr/>
          <p:nvPr/>
        </p:nvSpPr>
        <p:spPr>
          <a:xfrm>
            <a:off x="6286680" y="5940360"/>
            <a:ext cx="267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(unidades al añ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0"/>
          <p:cNvSpPr/>
          <p:nvPr/>
        </p:nvSpPr>
        <p:spPr>
          <a:xfrm>
            <a:off x="4746600" y="2143080"/>
            <a:ext cx="782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reso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uro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a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8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35"/>
          <p:cNvSpPr/>
          <p:nvPr/>
        </p:nvSpPr>
        <p:spPr>
          <a:xfrm>
            <a:off x="3002400" y="3137040"/>
            <a:ext cx="1944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37"/>
          <p:cNvSpPr/>
          <p:nvPr/>
        </p:nvSpPr>
        <p:spPr>
          <a:xfrm>
            <a:off x="2732400" y="3137040"/>
            <a:ext cx="1944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9"/>
          <p:cNvSpPr/>
          <p:nvPr/>
        </p:nvSpPr>
        <p:spPr>
          <a:xfrm>
            <a:off x="2270880" y="3125880"/>
            <a:ext cx="2156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0"/>
          <p:cNvSpPr/>
          <p:nvPr/>
        </p:nvSpPr>
        <p:spPr>
          <a:xfrm>
            <a:off x="1859760" y="3125880"/>
            <a:ext cx="2156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5"/>
          <p:cNvGrpSpPr/>
          <p:nvPr/>
        </p:nvGrpSpPr>
        <p:grpSpPr>
          <a:xfrm>
            <a:off x="1165320" y="3029040"/>
            <a:ext cx="2574720" cy="1096920"/>
            <a:chOff x="1165320" y="3029040"/>
            <a:chExt cx="2574720" cy="1096920"/>
          </a:xfrm>
        </p:grpSpPr>
        <p:sp>
          <p:nvSpPr>
            <p:cNvPr id="897" name="Rectangle 10"/>
            <p:cNvSpPr/>
            <p:nvPr/>
          </p:nvSpPr>
          <p:spPr>
            <a:xfrm>
              <a:off x="1165320" y="3102120"/>
              <a:ext cx="2574720" cy="10238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34"/>
            <p:cNvSpPr/>
            <p:nvPr/>
          </p:nvSpPr>
          <p:spPr>
            <a:xfrm>
              <a:off x="3058200" y="3137040"/>
              <a:ext cx="5173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6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36"/>
            <p:cNvSpPr/>
            <p:nvPr/>
          </p:nvSpPr>
          <p:spPr>
            <a:xfrm>
              <a:off x="2714760" y="3117960"/>
              <a:ext cx="2581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6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38"/>
            <p:cNvSpPr/>
            <p:nvPr/>
          </p:nvSpPr>
          <p:spPr>
            <a:xfrm>
              <a:off x="2402280" y="3137040"/>
              <a:ext cx="2581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6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41"/>
            <p:cNvSpPr/>
            <p:nvPr/>
          </p:nvSpPr>
          <p:spPr>
            <a:xfrm>
              <a:off x="1913760" y="3048120"/>
              <a:ext cx="6163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42"/>
            <p:cNvSpPr/>
            <p:nvPr/>
          </p:nvSpPr>
          <p:spPr>
            <a:xfrm>
              <a:off x="1338120" y="3029040"/>
              <a:ext cx="42588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6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1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Rectangle 21"/>
          <p:cNvSpPr/>
          <p:nvPr/>
        </p:nvSpPr>
        <p:spPr>
          <a:xfrm>
            <a:off x="6805080" y="2370240"/>
            <a:ext cx="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2"/>
          <p:cNvSpPr/>
          <p:nvPr/>
        </p:nvSpPr>
        <p:spPr>
          <a:xfrm>
            <a:off x="6382800" y="2370240"/>
            <a:ext cx="14400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43"/>
          <p:cNvGrpSpPr/>
          <p:nvPr/>
        </p:nvGrpSpPr>
        <p:grpSpPr>
          <a:xfrm>
            <a:off x="5292720" y="1905120"/>
            <a:ext cx="2487600" cy="1674720"/>
            <a:chOff x="5292720" y="1905120"/>
            <a:chExt cx="2487600" cy="1674720"/>
          </a:xfrm>
        </p:grpSpPr>
        <p:sp>
          <p:nvSpPr>
            <p:cNvPr id="906" name="Rectangle 12"/>
            <p:cNvSpPr/>
            <p:nvPr/>
          </p:nvSpPr>
          <p:spPr>
            <a:xfrm>
              <a:off x="5292720" y="1905120"/>
              <a:ext cx="2487600" cy="1674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8"/>
            <p:cNvSpPr/>
            <p:nvPr/>
          </p:nvSpPr>
          <p:spPr>
            <a:xfrm>
              <a:off x="6832440" y="2732040"/>
              <a:ext cx="763920" cy="1800"/>
            </a:xfrm>
            <a:prstGeom prst="line">
              <a:avLst/>
            </a:prstGeom>
            <a:ln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23"/>
            <p:cNvSpPr/>
            <p:nvPr/>
          </p:nvSpPr>
          <p:spPr>
            <a:xfrm>
              <a:off x="5465880" y="2370240"/>
              <a:ext cx="6667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24"/>
            <p:cNvSpPr/>
            <p:nvPr/>
          </p:nvSpPr>
          <p:spPr>
            <a:xfrm>
              <a:off x="6901920" y="2747880"/>
              <a:ext cx="63612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25"/>
            <p:cNvSpPr/>
            <p:nvPr/>
          </p:nvSpPr>
          <p:spPr>
            <a:xfrm>
              <a:off x="6870600" y="1949400"/>
              <a:ext cx="5400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26"/>
            <p:cNvSpPr/>
            <p:nvPr/>
          </p:nvSpPr>
          <p:spPr>
            <a:xfrm>
              <a:off x="6500880" y="2305080"/>
              <a:ext cx="4550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2" name="Group 46"/>
          <p:cNvGrpSpPr/>
          <p:nvPr/>
        </p:nvGrpSpPr>
        <p:grpSpPr>
          <a:xfrm>
            <a:off x="5326200" y="4146480"/>
            <a:ext cx="2487600" cy="1674720"/>
            <a:chOff x="5326200" y="4146480"/>
            <a:chExt cx="2487600" cy="1674720"/>
          </a:xfrm>
        </p:grpSpPr>
        <p:sp>
          <p:nvSpPr>
            <p:cNvPr id="913" name="Rectangle 13"/>
            <p:cNvSpPr/>
            <p:nvPr/>
          </p:nvSpPr>
          <p:spPr>
            <a:xfrm>
              <a:off x="5326200" y="4146480"/>
              <a:ext cx="2487600" cy="1674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27"/>
            <p:cNvSpPr/>
            <p:nvPr/>
          </p:nvSpPr>
          <p:spPr>
            <a:xfrm>
              <a:off x="6843600" y="5010120"/>
              <a:ext cx="79560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30"/>
            <p:cNvSpPr/>
            <p:nvPr/>
          </p:nvSpPr>
          <p:spPr>
            <a:xfrm>
              <a:off x="5427000" y="4629240"/>
              <a:ext cx="89676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47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1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31"/>
            <p:cNvSpPr/>
            <p:nvPr/>
          </p:nvSpPr>
          <p:spPr>
            <a:xfrm>
              <a:off x="6936480" y="4950000"/>
              <a:ext cx="6652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47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1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32"/>
            <p:cNvSpPr/>
            <p:nvPr/>
          </p:nvSpPr>
          <p:spPr>
            <a:xfrm>
              <a:off x="6900480" y="4203720"/>
              <a:ext cx="7642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s-ES" sz="47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33"/>
            <p:cNvSpPr/>
            <p:nvPr/>
          </p:nvSpPr>
          <p:spPr>
            <a:xfrm>
              <a:off x="6292800" y="4599000"/>
              <a:ext cx="476280" cy="7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2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9"/>
          <p:cNvSpPr/>
          <p:nvPr/>
        </p:nvSpPr>
        <p:spPr>
          <a:xfrm>
            <a:off x="1763640" y="1674720"/>
            <a:ext cx="5803920" cy="2135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6"/>
          <p:cNvSpPr/>
          <p:nvPr/>
        </p:nvSpPr>
        <p:spPr>
          <a:xfrm>
            <a:off x="1920960" y="3046320"/>
            <a:ext cx="630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7"/>
          <p:cNvSpPr/>
          <p:nvPr/>
        </p:nvSpPr>
        <p:spPr>
          <a:xfrm>
            <a:off x="3024360" y="3046320"/>
            <a:ext cx="603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>
            <a:off x="4044960" y="3046320"/>
            <a:ext cx="646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9"/>
          <p:cNvSpPr/>
          <p:nvPr/>
        </p:nvSpPr>
        <p:spPr>
          <a:xfrm>
            <a:off x="5482800" y="276228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2"/>
          <p:cNvSpPr/>
          <p:nvPr/>
        </p:nvSpPr>
        <p:spPr>
          <a:xfrm>
            <a:off x="3445200" y="3110040"/>
            <a:ext cx="223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24"/>
          <p:cNvSpPr/>
          <p:nvPr/>
        </p:nvSpPr>
        <p:spPr>
          <a:xfrm>
            <a:off x="5474160" y="275580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25"/>
          <p:cNvSpPr/>
          <p:nvPr/>
        </p:nvSpPr>
        <p:spPr>
          <a:xfrm>
            <a:off x="5247360" y="2755800"/>
            <a:ext cx="247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26"/>
          <p:cNvSpPr/>
          <p:nvPr/>
        </p:nvSpPr>
        <p:spPr>
          <a:xfrm>
            <a:off x="5140800" y="275580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31"/>
          <p:cNvSpPr/>
          <p:nvPr/>
        </p:nvSpPr>
        <p:spPr>
          <a:xfrm>
            <a:off x="3964680" y="18064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33"/>
          <p:cNvSpPr/>
          <p:nvPr/>
        </p:nvSpPr>
        <p:spPr>
          <a:xfrm>
            <a:off x="3234240" y="1806480"/>
            <a:ext cx="1242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34"/>
          <p:cNvSpPr/>
          <p:nvPr/>
        </p:nvSpPr>
        <p:spPr>
          <a:xfrm>
            <a:off x="1843560" y="1768320"/>
            <a:ext cx="5704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Los beneficios se maximizan cuando: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5"/>
          <p:cNvSpPr/>
          <p:nvPr/>
        </p:nvSpPr>
        <p:spPr>
          <a:xfrm>
            <a:off x="4893120" y="271152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6"/>
          <p:cNvSpPr/>
          <p:nvPr/>
        </p:nvSpPr>
        <p:spPr>
          <a:xfrm>
            <a:off x="4120200" y="3059280"/>
            <a:ext cx="496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7"/>
          <p:cNvSpPr/>
          <p:nvPr/>
        </p:nvSpPr>
        <p:spPr>
          <a:xfrm>
            <a:off x="4073760" y="2430360"/>
            <a:ext cx="5709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8"/>
          <p:cNvSpPr/>
          <p:nvPr/>
        </p:nvSpPr>
        <p:spPr>
          <a:xfrm>
            <a:off x="3905640" y="2711520"/>
            <a:ext cx="1486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39"/>
          <p:cNvSpPr/>
          <p:nvPr/>
        </p:nvSpPr>
        <p:spPr>
          <a:xfrm>
            <a:off x="3219840" y="3059280"/>
            <a:ext cx="273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40"/>
          <p:cNvSpPr/>
          <p:nvPr/>
        </p:nvSpPr>
        <p:spPr>
          <a:xfrm>
            <a:off x="3054240" y="2430360"/>
            <a:ext cx="6098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1"/>
          <p:cNvSpPr/>
          <p:nvPr/>
        </p:nvSpPr>
        <p:spPr>
          <a:xfrm>
            <a:off x="2754720" y="2711520"/>
            <a:ext cx="3542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2"/>
          <p:cNvSpPr/>
          <p:nvPr/>
        </p:nvSpPr>
        <p:spPr>
          <a:xfrm>
            <a:off x="1987920" y="3059280"/>
            <a:ext cx="4960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5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43"/>
          <p:cNvSpPr/>
          <p:nvPr/>
        </p:nvSpPr>
        <p:spPr>
          <a:xfrm>
            <a:off x="1950480" y="2430360"/>
            <a:ext cx="517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ES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56"/>
          <p:cNvGrpSpPr/>
          <p:nvPr/>
        </p:nvGrpSpPr>
        <p:grpSpPr>
          <a:xfrm>
            <a:off x="2222640" y="4214880"/>
            <a:ext cx="4744800" cy="1658880"/>
            <a:chOff x="2222640" y="4214880"/>
            <a:chExt cx="4744800" cy="1658880"/>
          </a:xfrm>
        </p:grpSpPr>
        <p:sp>
          <p:nvSpPr>
            <p:cNvPr id="945" name="Rectangle 12"/>
            <p:cNvSpPr/>
            <p:nvPr/>
          </p:nvSpPr>
          <p:spPr>
            <a:xfrm>
              <a:off x="2222640" y="4214880"/>
              <a:ext cx="4744800" cy="16588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5"/>
            <p:cNvSpPr/>
            <p:nvPr/>
          </p:nvSpPr>
          <p:spPr>
            <a:xfrm>
              <a:off x="4317480" y="5106960"/>
              <a:ext cx="1321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900" spc="-1" strike="noStrike">
                  <a:solidFill>
                    <a:srgbClr val="000000"/>
                  </a:solidFill>
                  <a:latin typeface="Times New Roman"/>
                </a:rPr>
                <a:t>CM(q)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46"/>
            <p:cNvSpPr/>
            <p:nvPr/>
          </p:nvSpPr>
          <p:spPr>
            <a:xfrm>
              <a:off x="2530440" y="5106960"/>
              <a:ext cx="11559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900" spc="-1" strike="noStrike">
                  <a:solidFill>
                    <a:srgbClr val="000000"/>
                  </a:solidFill>
                  <a:latin typeface="Times New Roman"/>
                </a:rPr>
                <a:t>IM(q)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47"/>
            <p:cNvSpPr/>
            <p:nvPr/>
          </p:nvSpPr>
          <p:spPr>
            <a:xfrm>
              <a:off x="3707640" y="4361040"/>
              <a:ext cx="7444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9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48"/>
            <p:cNvSpPr/>
            <p:nvPr/>
          </p:nvSpPr>
          <p:spPr>
            <a:xfrm>
              <a:off x="2530440" y="4361040"/>
              <a:ext cx="5781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39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9"/>
            <p:cNvSpPr/>
            <p:nvPr/>
          </p:nvSpPr>
          <p:spPr>
            <a:xfrm>
              <a:off x="4014720" y="504972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50"/>
            <p:cNvSpPr/>
            <p:nvPr/>
          </p:nvSpPr>
          <p:spPr>
            <a:xfrm>
              <a:off x="4692600" y="4303800"/>
              <a:ext cx="3938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51"/>
            <p:cNvSpPr/>
            <p:nvPr/>
          </p:nvSpPr>
          <p:spPr>
            <a:xfrm>
              <a:off x="3551040" y="4303800"/>
              <a:ext cx="1652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53"/>
            <p:cNvSpPr/>
            <p:nvPr/>
          </p:nvSpPr>
          <p:spPr>
            <a:xfrm>
              <a:off x="5226840" y="4494240"/>
              <a:ext cx="1719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, por lo que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54"/>
            <p:cNvSpPr/>
            <p:nvPr/>
          </p:nvSpPr>
          <p:spPr>
            <a:xfrm>
              <a:off x="5084640" y="4361040"/>
              <a:ext cx="2491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5" name="Rectangle 11"/>
          <p:cNvSpPr/>
          <p:nvPr/>
        </p:nvSpPr>
        <p:spPr>
          <a:xfrm>
            <a:off x="2911320" y="4727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competitiv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Precio-aceptant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ducción del mercado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 y producción de la empresa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manda del mercado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 y demanda de la empresa (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(q )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 una línea rect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2"/>
          <p:cNvSpPr/>
          <p:nvPr/>
        </p:nvSpPr>
        <p:spPr>
          <a:xfrm>
            <a:off x="762120" y="5829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276720" y="5829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demanda a la que se enfrenta un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4" name="Line 5"/>
          <p:cNvSpPr/>
          <p:nvPr/>
        </p:nvSpPr>
        <p:spPr>
          <a:xfrm>
            <a:off x="779400" y="1670040"/>
            <a:ext cx="0" cy="393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6"/>
          <p:cNvSpPr/>
          <p:nvPr/>
        </p:nvSpPr>
        <p:spPr>
          <a:xfrm>
            <a:off x="5046840" y="1670040"/>
            <a:ext cx="0" cy="393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7"/>
          <p:cNvSpPr/>
          <p:nvPr/>
        </p:nvSpPr>
        <p:spPr>
          <a:xfrm>
            <a:off x="776160" y="560088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8"/>
          <p:cNvSpPr/>
          <p:nvPr/>
        </p:nvSpPr>
        <p:spPr>
          <a:xfrm>
            <a:off x="5043600" y="560088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0"/>
          <p:cNvSpPr/>
          <p:nvPr/>
        </p:nvSpPr>
        <p:spPr>
          <a:xfrm>
            <a:off x="247680" y="1195560"/>
            <a:ext cx="20368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" bIns="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 (euro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2"/>
          <p:cNvSpPr/>
          <p:nvPr/>
        </p:nvSpPr>
        <p:spPr>
          <a:xfrm>
            <a:off x="6742080" y="5646600"/>
            <a:ext cx="2401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llones 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32"/>
          <p:cNvGrpSpPr/>
          <p:nvPr/>
        </p:nvGrpSpPr>
        <p:grpSpPr>
          <a:xfrm>
            <a:off x="301680" y="3503520"/>
            <a:ext cx="3992760" cy="393840"/>
            <a:chOff x="301680" y="3503520"/>
            <a:chExt cx="3992760" cy="393840"/>
          </a:xfrm>
        </p:grpSpPr>
        <p:sp>
          <p:nvSpPr>
            <p:cNvPr id="971" name="Line 13"/>
            <p:cNvSpPr/>
            <p:nvPr/>
          </p:nvSpPr>
          <p:spPr>
            <a:xfrm>
              <a:off x="789120" y="3772080"/>
              <a:ext cx="307152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4"/>
            <p:cNvSpPr/>
            <p:nvPr/>
          </p:nvSpPr>
          <p:spPr>
            <a:xfrm>
              <a:off x="3957480" y="350352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5"/>
            <p:cNvSpPr/>
            <p:nvPr/>
          </p:nvSpPr>
          <p:spPr>
            <a:xfrm>
              <a:off x="301680" y="350352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€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Rectangle 18"/>
          <p:cNvSpPr/>
          <p:nvPr/>
        </p:nvSpPr>
        <p:spPr>
          <a:xfrm>
            <a:off x="1578960" y="56372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19"/>
          <p:cNvSpPr/>
          <p:nvPr/>
        </p:nvSpPr>
        <p:spPr>
          <a:xfrm>
            <a:off x="2890080" y="56372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20"/>
          <p:cNvSpPr/>
          <p:nvPr/>
        </p:nvSpPr>
        <p:spPr>
          <a:xfrm>
            <a:off x="6242760" y="5637240"/>
            <a:ext cx="60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21"/>
          <p:cNvSpPr/>
          <p:nvPr/>
        </p:nvSpPr>
        <p:spPr>
          <a:xfrm>
            <a:off x="1883520" y="175104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22"/>
          <p:cNvSpPr/>
          <p:nvPr/>
        </p:nvSpPr>
        <p:spPr>
          <a:xfrm>
            <a:off x="6622920" y="175104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dust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33"/>
          <p:cNvGrpSpPr/>
          <p:nvPr/>
        </p:nvGrpSpPr>
        <p:grpSpPr>
          <a:xfrm>
            <a:off x="4569120" y="1969920"/>
            <a:ext cx="4097520" cy="3618000"/>
            <a:chOff x="4569120" y="1969920"/>
            <a:chExt cx="4097520" cy="3618000"/>
          </a:xfrm>
        </p:grpSpPr>
        <p:sp>
          <p:nvSpPr>
            <p:cNvPr id="980" name="Line 16"/>
            <p:cNvSpPr/>
            <p:nvPr/>
          </p:nvSpPr>
          <p:spPr>
            <a:xfrm>
              <a:off x="5361120" y="1969920"/>
              <a:ext cx="2919240" cy="29196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7"/>
            <p:cNvSpPr/>
            <p:nvPr/>
          </p:nvSpPr>
          <p:spPr>
            <a:xfrm>
              <a:off x="8300880" y="483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3"/>
            <p:cNvSpPr/>
            <p:nvPr/>
          </p:nvSpPr>
          <p:spPr>
            <a:xfrm>
              <a:off x="4569120" y="350352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€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24"/>
            <p:cNvSpPr/>
            <p:nvPr/>
          </p:nvSpPr>
          <p:spPr>
            <a:xfrm>
              <a:off x="5043600" y="3695760"/>
              <a:ext cx="2030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25"/>
            <p:cNvSpPr/>
            <p:nvPr/>
          </p:nvSpPr>
          <p:spPr>
            <a:xfrm>
              <a:off x="7086600" y="3710160"/>
              <a:ext cx="0" cy="1877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31"/>
            <p:cNvSpPr/>
            <p:nvPr/>
          </p:nvSpPr>
          <p:spPr>
            <a:xfrm>
              <a:off x="7021440" y="3616200"/>
              <a:ext cx="158760" cy="158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Rectangle 34"/>
          <p:cNvSpPr/>
          <p:nvPr/>
        </p:nvSpPr>
        <p:spPr>
          <a:xfrm>
            <a:off x="4591080" y="1214280"/>
            <a:ext cx="18842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7200" bIns="7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 (euro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35"/>
          <p:cNvSpPr/>
          <p:nvPr/>
        </p:nvSpPr>
        <p:spPr>
          <a:xfrm>
            <a:off x="3484440" y="5665680"/>
            <a:ext cx="2401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llones d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competitiv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a demanda de la empresa competitiv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 productor vende todas las unidades a 4 euros, sin tener en cuenta el nivel de producción del producto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Si el productor intenta subir el precio, las ventas son nul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competitiv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a demanda de la empresa competitiva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Si el productor intenta bajar los precios no puede aumentar las vent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D = IM = IMe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ingreso marginal, el coste marginal y la maximización de los benefici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mpresa competitiv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maximización de los benefici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(q) = IM = P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oferta a corto plazo de la empresa competitiv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oferta del mercado a cort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ección del nivel de producción a largo plazo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2640" indent="-33264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oferta a largo plazo de la industri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elección del nivel de producción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mbinaremos los análisis de producción y de coste con la demanda para determinar la producción y los beneficio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a empresa competitiva que obtiene unos beneficios positiv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4"/>
          <p:cNvSpPr/>
          <p:nvPr/>
        </p:nvSpPr>
        <p:spPr>
          <a:xfrm rot="16200000">
            <a:off x="5410080" y="2241000"/>
            <a:ext cx="1066680" cy="457200"/>
          </a:xfrm>
          <a:prstGeom prst="rtTriangl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5"/>
          <p:cNvSpPr/>
          <p:nvPr/>
        </p:nvSpPr>
        <p:spPr>
          <a:xfrm rot="5400000">
            <a:off x="4952880" y="3308400"/>
            <a:ext cx="1067040" cy="457200"/>
          </a:xfrm>
          <a:prstGeom prst="rtTriangl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31"/>
          <p:cNvSpPr/>
          <p:nvPr/>
        </p:nvSpPr>
        <p:spPr>
          <a:xfrm flipV="1">
            <a:off x="2590920" y="2991960"/>
            <a:ext cx="0" cy="2691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35"/>
          <p:cNvSpPr/>
          <p:nvPr/>
        </p:nvSpPr>
        <p:spPr>
          <a:xfrm flipV="1">
            <a:off x="5257800" y="2991960"/>
            <a:ext cx="0" cy="2691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36"/>
          <p:cNvSpPr/>
          <p:nvPr/>
        </p:nvSpPr>
        <p:spPr>
          <a:xfrm flipV="1">
            <a:off x="6172200" y="1925640"/>
            <a:ext cx="0" cy="3757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7"/>
          <p:cNvSpPr/>
          <p:nvPr/>
        </p:nvSpPr>
        <p:spPr>
          <a:xfrm>
            <a:off x="2422440" y="589428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53"/>
          <p:cNvSpPr/>
          <p:nvPr/>
        </p:nvSpPr>
        <p:spPr>
          <a:xfrm>
            <a:off x="3703680" y="1762200"/>
            <a:ext cx="240336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79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o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l caso en el 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&lt; q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4"/>
          <p:cNvSpPr/>
          <p:nvPr/>
        </p:nvSpPr>
        <p:spPr>
          <a:xfrm>
            <a:off x="5253120" y="2581200"/>
            <a:ext cx="144360" cy="696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55"/>
          <p:cNvSpPr/>
          <p:nvPr/>
        </p:nvSpPr>
        <p:spPr>
          <a:xfrm>
            <a:off x="6407280" y="1743120"/>
            <a:ext cx="24066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cios perdi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l caso en el 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&gt; q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6"/>
          <p:cNvSpPr/>
          <p:nvPr/>
        </p:nvSpPr>
        <p:spPr>
          <a:xfrm flipH="1">
            <a:off x="6008400" y="2428920"/>
            <a:ext cx="1052280" cy="392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63"/>
          <p:cNvSpPr/>
          <p:nvPr/>
        </p:nvSpPr>
        <p:spPr>
          <a:xfrm>
            <a:off x="5121000" y="589428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64"/>
          <p:cNvSpPr/>
          <p:nvPr/>
        </p:nvSpPr>
        <p:spPr>
          <a:xfrm>
            <a:off x="5967360" y="589428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"/>
          <p:cNvSpPr/>
          <p:nvPr/>
        </p:nvSpPr>
        <p:spPr>
          <a:xfrm>
            <a:off x="3276720" y="5899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3124080" y="5886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9"/>
          <p:cNvSpPr/>
          <p:nvPr/>
        </p:nvSpPr>
        <p:spPr>
          <a:xfrm>
            <a:off x="2227320" y="1419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0"/>
          <p:cNvSpPr/>
          <p:nvPr/>
        </p:nvSpPr>
        <p:spPr>
          <a:xfrm>
            <a:off x="2238480" y="565776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1822680" y="49640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2"/>
          <p:cNvSpPr/>
          <p:nvPr/>
        </p:nvSpPr>
        <p:spPr>
          <a:xfrm>
            <a:off x="1822680" y="425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3"/>
          <p:cNvSpPr/>
          <p:nvPr/>
        </p:nvSpPr>
        <p:spPr>
          <a:xfrm>
            <a:off x="1822680" y="35370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4"/>
          <p:cNvSpPr/>
          <p:nvPr/>
        </p:nvSpPr>
        <p:spPr>
          <a:xfrm>
            <a:off x="1822680" y="28242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5"/>
          <p:cNvSpPr/>
          <p:nvPr/>
        </p:nvSpPr>
        <p:spPr>
          <a:xfrm>
            <a:off x="309960" y="1244520"/>
            <a:ext cx="1580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unid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6"/>
          <p:cNvSpPr/>
          <p:nvPr/>
        </p:nvSpPr>
        <p:spPr>
          <a:xfrm>
            <a:off x="196056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7"/>
          <p:cNvSpPr/>
          <p:nvPr/>
        </p:nvSpPr>
        <p:spPr>
          <a:xfrm>
            <a:off x="241452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8"/>
          <p:cNvSpPr/>
          <p:nvPr/>
        </p:nvSpPr>
        <p:spPr>
          <a:xfrm>
            <a:off x="286848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9"/>
          <p:cNvSpPr/>
          <p:nvPr/>
        </p:nvSpPr>
        <p:spPr>
          <a:xfrm>
            <a:off x="332280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20"/>
          <p:cNvSpPr/>
          <p:nvPr/>
        </p:nvSpPr>
        <p:spPr>
          <a:xfrm>
            <a:off x="377676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1"/>
          <p:cNvSpPr/>
          <p:nvPr/>
        </p:nvSpPr>
        <p:spPr>
          <a:xfrm>
            <a:off x="423072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22"/>
          <p:cNvSpPr/>
          <p:nvPr/>
        </p:nvSpPr>
        <p:spPr>
          <a:xfrm>
            <a:off x="468468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23"/>
          <p:cNvSpPr/>
          <p:nvPr/>
        </p:nvSpPr>
        <p:spPr>
          <a:xfrm>
            <a:off x="513864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24"/>
          <p:cNvSpPr/>
          <p:nvPr/>
        </p:nvSpPr>
        <p:spPr>
          <a:xfrm>
            <a:off x="559260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25"/>
          <p:cNvSpPr/>
          <p:nvPr/>
        </p:nvSpPr>
        <p:spPr>
          <a:xfrm>
            <a:off x="6046920" y="56800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26"/>
          <p:cNvSpPr/>
          <p:nvPr/>
        </p:nvSpPr>
        <p:spPr>
          <a:xfrm>
            <a:off x="6500880" y="5680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7"/>
          <p:cNvSpPr/>
          <p:nvPr/>
        </p:nvSpPr>
        <p:spPr>
          <a:xfrm>
            <a:off x="7081920" y="56800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28"/>
          <p:cNvSpPr/>
          <p:nvPr/>
        </p:nvSpPr>
        <p:spPr>
          <a:xfrm>
            <a:off x="1822680" y="21099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9"/>
          <p:cNvSpPr/>
          <p:nvPr/>
        </p:nvSpPr>
        <p:spPr>
          <a:xfrm>
            <a:off x="1822680" y="139716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33"/>
          <p:cNvSpPr/>
          <p:nvPr/>
        </p:nvSpPr>
        <p:spPr>
          <a:xfrm>
            <a:off x="2468520" y="1476360"/>
            <a:ext cx="3935520" cy="3662280"/>
          </a:xfrm>
          <a:custGeom>
            <a:avLst/>
            <a:gdLst>
              <a:gd name="textAreaLeft" fmla="*/ 0 w 3935520"/>
              <a:gd name="textAreaRight" fmla="*/ 3935880 w 393552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2479" h="2307">
                <a:moveTo>
                  <a:pt x="0" y="503"/>
                </a:moveTo>
                <a:lnTo>
                  <a:pt x="7" y="537"/>
                </a:lnTo>
                <a:lnTo>
                  <a:pt x="13" y="575"/>
                </a:lnTo>
                <a:lnTo>
                  <a:pt x="19" y="625"/>
                </a:lnTo>
                <a:lnTo>
                  <a:pt x="26" y="680"/>
                </a:lnTo>
                <a:lnTo>
                  <a:pt x="39" y="741"/>
                </a:lnTo>
                <a:lnTo>
                  <a:pt x="45" y="813"/>
                </a:lnTo>
                <a:lnTo>
                  <a:pt x="58" y="885"/>
                </a:lnTo>
                <a:lnTo>
                  <a:pt x="78" y="962"/>
                </a:lnTo>
                <a:lnTo>
                  <a:pt x="97" y="1051"/>
                </a:lnTo>
                <a:lnTo>
                  <a:pt x="123" y="1156"/>
                </a:lnTo>
                <a:lnTo>
                  <a:pt x="149" y="1272"/>
                </a:lnTo>
                <a:lnTo>
                  <a:pt x="181" y="1388"/>
                </a:lnTo>
                <a:lnTo>
                  <a:pt x="207" y="1504"/>
                </a:lnTo>
                <a:lnTo>
                  <a:pt x="239" y="1620"/>
                </a:lnTo>
                <a:lnTo>
                  <a:pt x="265" y="1720"/>
                </a:lnTo>
                <a:lnTo>
                  <a:pt x="297" y="1803"/>
                </a:lnTo>
                <a:lnTo>
                  <a:pt x="323" y="1869"/>
                </a:lnTo>
                <a:lnTo>
                  <a:pt x="349" y="1924"/>
                </a:lnTo>
                <a:lnTo>
                  <a:pt x="374" y="1974"/>
                </a:lnTo>
                <a:lnTo>
                  <a:pt x="407" y="2013"/>
                </a:lnTo>
                <a:lnTo>
                  <a:pt x="465" y="2085"/>
                </a:lnTo>
                <a:lnTo>
                  <a:pt x="536" y="2146"/>
                </a:lnTo>
                <a:lnTo>
                  <a:pt x="620" y="2206"/>
                </a:lnTo>
                <a:lnTo>
                  <a:pt x="710" y="2256"/>
                </a:lnTo>
                <a:lnTo>
                  <a:pt x="755" y="2278"/>
                </a:lnTo>
                <a:lnTo>
                  <a:pt x="807" y="2295"/>
                </a:lnTo>
                <a:lnTo>
                  <a:pt x="858" y="2300"/>
                </a:lnTo>
                <a:lnTo>
                  <a:pt x="910" y="2306"/>
                </a:lnTo>
                <a:lnTo>
                  <a:pt x="968" y="2306"/>
                </a:lnTo>
                <a:lnTo>
                  <a:pt x="1026" y="2295"/>
                </a:lnTo>
                <a:lnTo>
                  <a:pt x="1155" y="2267"/>
                </a:lnTo>
                <a:lnTo>
                  <a:pt x="1284" y="2218"/>
                </a:lnTo>
                <a:lnTo>
                  <a:pt x="1342" y="2184"/>
                </a:lnTo>
                <a:lnTo>
                  <a:pt x="1394" y="2146"/>
                </a:lnTo>
                <a:lnTo>
                  <a:pt x="1446" y="2101"/>
                </a:lnTo>
                <a:lnTo>
                  <a:pt x="1491" y="2046"/>
                </a:lnTo>
                <a:lnTo>
                  <a:pt x="1536" y="1985"/>
                </a:lnTo>
                <a:lnTo>
                  <a:pt x="1575" y="1924"/>
                </a:lnTo>
                <a:lnTo>
                  <a:pt x="1652" y="1792"/>
                </a:lnTo>
                <a:lnTo>
                  <a:pt x="1691" y="1725"/>
                </a:lnTo>
                <a:lnTo>
                  <a:pt x="1723" y="1670"/>
                </a:lnTo>
                <a:lnTo>
                  <a:pt x="1781" y="1565"/>
                </a:lnTo>
                <a:lnTo>
                  <a:pt x="1833" y="1466"/>
                </a:lnTo>
                <a:lnTo>
                  <a:pt x="1917" y="1283"/>
                </a:lnTo>
                <a:lnTo>
                  <a:pt x="1936" y="1244"/>
                </a:lnTo>
                <a:lnTo>
                  <a:pt x="1942" y="1217"/>
                </a:lnTo>
                <a:lnTo>
                  <a:pt x="1962" y="1161"/>
                </a:lnTo>
                <a:lnTo>
                  <a:pt x="1975" y="1128"/>
                </a:lnTo>
                <a:lnTo>
                  <a:pt x="1994" y="1089"/>
                </a:lnTo>
                <a:lnTo>
                  <a:pt x="2013" y="1034"/>
                </a:lnTo>
                <a:lnTo>
                  <a:pt x="2046" y="962"/>
                </a:lnTo>
                <a:lnTo>
                  <a:pt x="2084" y="874"/>
                </a:lnTo>
                <a:lnTo>
                  <a:pt x="2136" y="763"/>
                </a:lnTo>
                <a:lnTo>
                  <a:pt x="2194" y="642"/>
                </a:lnTo>
                <a:lnTo>
                  <a:pt x="2252" y="514"/>
                </a:lnTo>
                <a:lnTo>
                  <a:pt x="2375" y="249"/>
                </a:lnTo>
                <a:lnTo>
                  <a:pt x="2433" y="122"/>
                </a:lnTo>
                <a:lnTo>
                  <a:pt x="2478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34"/>
          <p:cNvSpPr/>
          <p:nvPr/>
        </p:nvSpPr>
        <p:spPr>
          <a:xfrm>
            <a:off x="6150600" y="1135080"/>
            <a:ext cx="61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12600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 39"/>
          <p:cNvSpPr/>
          <p:nvPr/>
        </p:nvSpPr>
        <p:spPr>
          <a:xfrm>
            <a:off x="3598920" y="3540240"/>
            <a:ext cx="2867040" cy="606240"/>
          </a:xfrm>
          <a:custGeom>
            <a:avLst/>
            <a:gdLst>
              <a:gd name="textAreaLeft" fmla="*/ 0 w 2867040"/>
              <a:gd name="textAreaRight" fmla="*/ 2867400 w 286704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1806" h="382">
                <a:moveTo>
                  <a:pt x="0" y="0"/>
                </a:moveTo>
                <a:lnTo>
                  <a:pt x="46" y="23"/>
                </a:lnTo>
                <a:lnTo>
                  <a:pt x="105" y="59"/>
                </a:lnTo>
                <a:lnTo>
                  <a:pt x="176" y="96"/>
                </a:lnTo>
                <a:lnTo>
                  <a:pt x="261" y="141"/>
                </a:lnTo>
                <a:lnTo>
                  <a:pt x="339" y="186"/>
                </a:lnTo>
                <a:lnTo>
                  <a:pt x="424" y="227"/>
                </a:lnTo>
                <a:lnTo>
                  <a:pt x="502" y="263"/>
                </a:lnTo>
                <a:lnTo>
                  <a:pt x="574" y="291"/>
                </a:lnTo>
                <a:lnTo>
                  <a:pt x="697" y="332"/>
                </a:lnTo>
                <a:lnTo>
                  <a:pt x="815" y="359"/>
                </a:lnTo>
                <a:lnTo>
                  <a:pt x="925" y="372"/>
                </a:lnTo>
                <a:lnTo>
                  <a:pt x="1043" y="381"/>
                </a:lnTo>
                <a:lnTo>
                  <a:pt x="1167" y="377"/>
                </a:lnTo>
                <a:lnTo>
                  <a:pt x="1290" y="363"/>
                </a:lnTo>
                <a:lnTo>
                  <a:pt x="1408" y="341"/>
                </a:lnTo>
                <a:lnTo>
                  <a:pt x="1512" y="309"/>
                </a:lnTo>
                <a:lnTo>
                  <a:pt x="1557" y="291"/>
                </a:lnTo>
                <a:lnTo>
                  <a:pt x="1603" y="263"/>
                </a:lnTo>
                <a:lnTo>
                  <a:pt x="1681" y="209"/>
                </a:lnTo>
                <a:lnTo>
                  <a:pt x="1753" y="155"/>
                </a:lnTo>
                <a:lnTo>
                  <a:pt x="1779" y="132"/>
                </a:lnTo>
                <a:lnTo>
                  <a:pt x="1805" y="114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40"/>
          <p:cNvSpPr/>
          <p:nvPr/>
        </p:nvSpPr>
        <p:spPr>
          <a:xfrm>
            <a:off x="6472080" y="3532320"/>
            <a:ext cx="851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12600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V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41"/>
          <p:cNvSpPr/>
          <p:nvPr/>
        </p:nvSpPr>
        <p:spPr>
          <a:xfrm>
            <a:off x="6519960" y="2998800"/>
            <a:ext cx="80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T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 42"/>
          <p:cNvSpPr/>
          <p:nvPr/>
        </p:nvSpPr>
        <p:spPr>
          <a:xfrm>
            <a:off x="3630600" y="2305080"/>
            <a:ext cx="2835360" cy="1384200"/>
          </a:xfrm>
          <a:custGeom>
            <a:avLst/>
            <a:gdLst/>
            <a:ahLst/>
            <a:rect l="l" t="t" r="r" b="b"/>
            <a:pathLst>
              <a:path w="1786" h="872">
                <a:moveTo>
                  <a:pt x="0" y="0"/>
                </a:moveTo>
                <a:lnTo>
                  <a:pt x="19" y="25"/>
                </a:lnTo>
                <a:lnTo>
                  <a:pt x="45" y="53"/>
                </a:lnTo>
                <a:lnTo>
                  <a:pt x="78" y="86"/>
                </a:lnTo>
                <a:lnTo>
                  <a:pt x="111" y="127"/>
                </a:lnTo>
                <a:lnTo>
                  <a:pt x="182" y="213"/>
                </a:lnTo>
                <a:lnTo>
                  <a:pt x="267" y="311"/>
                </a:lnTo>
                <a:lnTo>
                  <a:pt x="352" y="409"/>
                </a:lnTo>
                <a:lnTo>
                  <a:pt x="436" y="503"/>
                </a:lnTo>
                <a:lnTo>
                  <a:pt x="475" y="544"/>
                </a:lnTo>
                <a:lnTo>
                  <a:pt x="515" y="585"/>
                </a:lnTo>
                <a:lnTo>
                  <a:pt x="554" y="617"/>
                </a:lnTo>
                <a:lnTo>
                  <a:pt x="586" y="646"/>
                </a:lnTo>
                <a:lnTo>
                  <a:pt x="651" y="695"/>
                </a:lnTo>
                <a:lnTo>
                  <a:pt x="710" y="732"/>
                </a:lnTo>
                <a:lnTo>
                  <a:pt x="769" y="760"/>
                </a:lnTo>
                <a:lnTo>
                  <a:pt x="827" y="785"/>
                </a:lnTo>
                <a:lnTo>
                  <a:pt x="879" y="805"/>
                </a:lnTo>
                <a:lnTo>
                  <a:pt x="932" y="818"/>
                </a:lnTo>
                <a:lnTo>
                  <a:pt x="1036" y="842"/>
                </a:lnTo>
                <a:lnTo>
                  <a:pt x="1127" y="863"/>
                </a:lnTo>
                <a:lnTo>
                  <a:pt x="1212" y="871"/>
                </a:lnTo>
                <a:lnTo>
                  <a:pt x="1290" y="863"/>
                </a:lnTo>
                <a:lnTo>
                  <a:pt x="1335" y="854"/>
                </a:lnTo>
                <a:lnTo>
                  <a:pt x="1381" y="842"/>
                </a:lnTo>
                <a:lnTo>
                  <a:pt x="1433" y="822"/>
                </a:lnTo>
                <a:lnTo>
                  <a:pt x="1485" y="793"/>
                </a:lnTo>
                <a:lnTo>
                  <a:pt x="1544" y="760"/>
                </a:lnTo>
                <a:lnTo>
                  <a:pt x="1596" y="724"/>
                </a:lnTo>
                <a:lnTo>
                  <a:pt x="1655" y="687"/>
                </a:lnTo>
                <a:lnTo>
                  <a:pt x="1707" y="654"/>
                </a:lnTo>
                <a:lnTo>
                  <a:pt x="1746" y="625"/>
                </a:lnTo>
                <a:lnTo>
                  <a:pt x="1785" y="601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Group 65"/>
          <p:cNvGrpSpPr/>
          <p:nvPr/>
        </p:nvGrpSpPr>
        <p:grpSpPr>
          <a:xfrm>
            <a:off x="2236680" y="2770200"/>
            <a:ext cx="6477480" cy="393840"/>
            <a:chOff x="2236680" y="2770200"/>
            <a:chExt cx="6477480" cy="393840"/>
          </a:xfrm>
        </p:grpSpPr>
        <p:sp>
          <p:nvSpPr>
            <p:cNvPr id="1052" name="Line 6"/>
            <p:cNvSpPr/>
            <p:nvPr/>
          </p:nvSpPr>
          <p:spPr>
            <a:xfrm>
              <a:off x="2236680" y="3003480"/>
              <a:ext cx="4824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43"/>
            <p:cNvSpPr/>
            <p:nvPr/>
          </p:nvSpPr>
          <p:spPr>
            <a:xfrm>
              <a:off x="7078680" y="2770200"/>
              <a:ext cx="1635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IMe = IM = P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Rectangle 46"/>
          <p:cNvSpPr/>
          <p:nvPr/>
        </p:nvSpPr>
        <p:spPr>
          <a:xfrm>
            <a:off x="7294320" y="585468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75"/>
          <p:cNvGrpSpPr/>
          <p:nvPr/>
        </p:nvGrpSpPr>
        <p:grpSpPr>
          <a:xfrm>
            <a:off x="5560200" y="2991960"/>
            <a:ext cx="394920" cy="3296160"/>
            <a:chOff x="5560200" y="2991960"/>
            <a:chExt cx="394920" cy="3296160"/>
          </a:xfrm>
        </p:grpSpPr>
        <p:sp>
          <p:nvSpPr>
            <p:cNvPr id="1056" name="Line 32"/>
            <p:cNvSpPr/>
            <p:nvPr/>
          </p:nvSpPr>
          <p:spPr>
            <a:xfrm flipV="1">
              <a:off x="5715000" y="2991960"/>
              <a:ext cx="0" cy="2691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38"/>
            <p:cNvSpPr/>
            <p:nvPr/>
          </p:nvSpPr>
          <p:spPr>
            <a:xfrm>
              <a:off x="5560200" y="5894280"/>
              <a:ext cx="394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Rectangle 2"/>
          <p:cNvSpPr/>
          <p:nvPr/>
        </p:nvSpPr>
        <p:spPr>
          <a:xfrm>
            <a:off x="762120" y="5899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51"/>
          <p:cNvSpPr/>
          <p:nvPr/>
        </p:nvSpPr>
        <p:spPr>
          <a:xfrm>
            <a:off x="6694560" y="3929040"/>
            <a:ext cx="1977840" cy="1460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M = 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 &gt; CT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47"/>
          <p:cNvSpPr/>
          <p:nvPr/>
        </p:nvSpPr>
        <p:spPr>
          <a:xfrm flipH="1">
            <a:off x="2198160" y="364824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5716440" y="3044880"/>
            <a:ext cx="0" cy="582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8"/>
          <p:cNvSpPr/>
          <p:nvPr/>
        </p:nvSpPr>
        <p:spPr>
          <a:xfrm>
            <a:off x="7225200" y="5022720"/>
            <a:ext cx="65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ABC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9"/>
          <p:cNvSpPr/>
          <p:nvPr/>
        </p:nvSpPr>
        <p:spPr>
          <a:xfrm>
            <a:off x="6848640" y="50227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80"/>
          <p:cNvSpPr/>
          <p:nvPr/>
        </p:nvSpPr>
        <p:spPr>
          <a:xfrm>
            <a:off x="8267400" y="4640400"/>
            <a:ext cx="37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1" i="1" lang="es-ES" sz="11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82"/>
          <p:cNvSpPr/>
          <p:nvPr/>
        </p:nvSpPr>
        <p:spPr>
          <a:xfrm>
            <a:off x="8109720" y="4659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83"/>
          <p:cNvSpPr/>
          <p:nvPr/>
        </p:nvSpPr>
        <p:spPr>
          <a:xfrm>
            <a:off x="7669080" y="4659480"/>
            <a:ext cx="561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CMe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84"/>
          <p:cNvSpPr/>
          <p:nvPr/>
        </p:nvSpPr>
        <p:spPr>
          <a:xfrm>
            <a:off x="7647840" y="4659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85"/>
          <p:cNvSpPr/>
          <p:nvPr/>
        </p:nvSpPr>
        <p:spPr>
          <a:xfrm>
            <a:off x="7513200" y="4659480"/>
            <a:ext cx="14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6"/>
          <p:cNvSpPr/>
          <p:nvPr/>
        </p:nvSpPr>
        <p:spPr>
          <a:xfrm>
            <a:off x="7280640" y="4659480"/>
            <a:ext cx="229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(P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7"/>
          <p:cNvSpPr/>
          <p:nvPr/>
        </p:nvSpPr>
        <p:spPr>
          <a:xfrm>
            <a:off x="7227360" y="4659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9"/>
          <p:cNvSpPr/>
          <p:nvPr/>
        </p:nvSpPr>
        <p:spPr>
          <a:xfrm>
            <a:off x="7098120" y="4632480"/>
            <a:ext cx="192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90"/>
          <p:cNvSpPr/>
          <p:nvPr/>
        </p:nvSpPr>
        <p:spPr>
          <a:xfrm>
            <a:off x="7043040" y="465948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91"/>
          <p:cNvSpPr/>
          <p:nvPr/>
        </p:nvSpPr>
        <p:spPr>
          <a:xfrm>
            <a:off x="6912000" y="463248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0"/>
          <p:cNvSpPr/>
          <p:nvPr/>
        </p:nvSpPr>
        <p:spPr>
          <a:xfrm>
            <a:off x="2204640" y="2583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4"/>
          <p:cNvSpPr/>
          <p:nvPr/>
        </p:nvSpPr>
        <p:spPr>
          <a:xfrm>
            <a:off x="5465880" y="25560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45"/>
          <p:cNvSpPr/>
          <p:nvPr/>
        </p:nvSpPr>
        <p:spPr>
          <a:xfrm>
            <a:off x="5634000" y="3303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9"/>
          <p:cNvSpPr/>
          <p:nvPr/>
        </p:nvSpPr>
        <p:spPr>
          <a:xfrm>
            <a:off x="2204640" y="32274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58"/>
          <p:cNvSpPr/>
          <p:nvPr/>
        </p:nvSpPr>
        <p:spPr>
          <a:xfrm>
            <a:off x="662400" y="4041720"/>
            <a:ext cx="1697760" cy="129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IM &gt; C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CM &gt; I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 CM = I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o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M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Una empresa competitiva que incurre en pérdida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80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2203560" y="579744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29"/>
          <p:cNvSpPr/>
          <p:nvPr/>
        </p:nvSpPr>
        <p:spPr>
          <a:xfrm>
            <a:off x="6402240" y="4516560"/>
            <a:ext cx="235908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¿Continuaría este produ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incurriendo en pérdida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762120" y="60390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3276720" y="60390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"/>
          <p:cNvSpPr/>
          <p:nvPr/>
        </p:nvSpPr>
        <p:spPr>
          <a:xfrm>
            <a:off x="3124080" y="6026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6"/>
          <p:cNvSpPr/>
          <p:nvPr/>
        </p:nvSpPr>
        <p:spPr>
          <a:xfrm>
            <a:off x="2209680" y="15415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8"/>
          <p:cNvSpPr/>
          <p:nvPr/>
        </p:nvSpPr>
        <p:spPr>
          <a:xfrm>
            <a:off x="6913080" y="371304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V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1"/>
          <p:cNvGrpSpPr/>
          <p:nvPr/>
        </p:nvGrpSpPr>
        <p:grpSpPr>
          <a:xfrm>
            <a:off x="2236680" y="1274760"/>
            <a:ext cx="6252480" cy="5000760"/>
            <a:chOff x="2236680" y="1274760"/>
            <a:chExt cx="6252480" cy="5000760"/>
          </a:xfrm>
        </p:grpSpPr>
        <p:sp>
          <p:nvSpPr>
            <p:cNvPr id="1089" name="Rectangle 20"/>
            <p:cNvSpPr/>
            <p:nvPr/>
          </p:nvSpPr>
          <p:spPr>
            <a:xfrm>
              <a:off x="7614360" y="130968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T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40"/>
            <p:cNvGrpSpPr/>
            <p:nvPr/>
          </p:nvGrpSpPr>
          <p:grpSpPr>
            <a:xfrm>
              <a:off x="2236680" y="1274760"/>
              <a:ext cx="5765760" cy="5000760"/>
              <a:chOff x="2236680" y="1274760"/>
              <a:chExt cx="5765760" cy="5000760"/>
            </a:xfrm>
          </p:grpSpPr>
          <p:sp>
            <p:nvSpPr>
              <p:cNvPr id="1091" name="Freeform 13"/>
              <p:cNvSpPr/>
              <p:nvPr/>
            </p:nvSpPr>
            <p:spPr>
              <a:xfrm>
                <a:off x="2455920" y="1616040"/>
                <a:ext cx="3935520" cy="3662280"/>
              </a:xfrm>
              <a:custGeom>
                <a:avLst/>
                <a:gdLst>
                  <a:gd name="textAreaLeft" fmla="*/ 0 w 3935520"/>
                  <a:gd name="textAreaRight" fmla="*/ 3935880 w 3935520"/>
                  <a:gd name="textAreaTop" fmla="*/ 0 h 3662280"/>
                  <a:gd name="textAreaBottom" fmla="*/ 3662640 h 3662280"/>
                </a:gdLst>
                <a:ahLst/>
                <a:rect l="textAreaLeft" t="textAreaTop" r="textAreaRight" b="textAreaBottom"/>
                <a:pathLst>
                  <a:path w="2479" h="2307">
                    <a:moveTo>
                      <a:pt x="0" y="503"/>
                    </a:moveTo>
                    <a:lnTo>
                      <a:pt x="7" y="537"/>
                    </a:lnTo>
                    <a:lnTo>
                      <a:pt x="13" y="575"/>
                    </a:lnTo>
                    <a:lnTo>
                      <a:pt x="19" y="625"/>
                    </a:lnTo>
                    <a:lnTo>
                      <a:pt x="26" y="680"/>
                    </a:lnTo>
                    <a:lnTo>
                      <a:pt x="39" y="741"/>
                    </a:lnTo>
                    <a:lnTo>
                      <a:pt x="45" y="813"/>
                    </a:lnTo>
                    <a:lnTo>
                      <a:pt x="58" y="885"/>
                    </a:lnTo>
                    <a:lnTo>
                      <a:pt x="78" y="962"/>
                    </a:lnTo>
                    <a:lnTo>
                      <a:pt x="97" y="1051"/>
                    </a:lnTo>
                    <a:lnTo>
                      <a:pt x="123" y="1156"/>
                    </a:lnTo>
                    <a:lnTo>
                      <a:pt x="149" y="1272"/>
                    </a:lnTo>
                    <a:lnTo>
                      <a:pt x="181" y="1388"/>
                    </a:lnTo>
                    <a:lnTo>
                      <a:pt x="207" y="1504"/>
                    </a:lnTo>
                    <a:lnTo>
                      <a:pt x="239" y="1620"/>
                    </a:lnTo>
                    <a:lnTo>
                      <a:pt x="265" y="1720"/>
                    </a:lnTo>
                    <a:lnTo>
                      <a:pt x="297" y="1803"/>
                    </a:lnTo>
                    <a:lnTo>
                      <a:pt x="323" y="1869"/>
                    </a:lnTo>
                    <a:lnTo>
                      <a:pt x="349" y="1924"/>
                    </a:lnTo>
                    <a:lnTo>
                      <a:pt x="374" y="1974"/>
                    </a:lnTo>
                    <a:lnTo>
                      <a:pt x="407" y="2013"/>
                    </a:lnTo>
                    <a:lnTo>
                      <a:pt x="465" y="2085"/>
                    </a:lnTo>
                    <a:lnTo>
                      <a:pt x="536" y="2146"/>
                    </a:lnTo>
                    <a:lnTo>
                      <a:pt x="620" y="2206"/>
                    </a:lnTo>
                    <a:lnTo>
                      <a:pt x="710" y="2256"/>
                    </a:lnTo>
                    <a:lnTo>
                      <a:pt x="755" y="2278"/>
                    </a:lnTo>
                    <a:lnTo>
                      <a:pt x="807" y="2295"/>
                    </a:lnTo>
                    <a:lnTo>
                      <a:pt x="858" y="2300"/>
                    </a:lnTo>
                    <a:lnTo>
                      <a:pt x="910" y="2306"/>
                    </a:lnTo>
                    <a:lnTo>
                      <a:pt x="968" y="2306"/>
                    </a:lnTo>
                    <a:lnTo>
                      <a:pt x="1026" y="2295"/>
                    </a:lnTo>
                    <a:lnTo>
                      <a:pt x="1155" y="2267"/>
                    </a:lnTo>
                    <a:lnTo>
                      <a:pt x="1284" y="2218"/>
                    </a:lnTo>
                    <a:lnTo>
                      <a:pt x="1342" y="2184"/>
                    </a:lnTo>
                    <a:lnTo>
                      <a:pt x="1394" y="2146"/>
                    </a:lnTo>
                    <a:lnTo>
                      <a:pt x="1446" y="2101"/>
                    </a:lnTo>
                    <a:lnTo>
                      <a:pt x="1491" y="2046"/>
                    </a:lnTo>
                    <a:lnTo>
                      <a:pt x="1536" y="1985"/>
                    </a:lnTo>
                    <a:lnTo>
                      <a:pt x="1575" y="1924"/>
                    </a:lnTo>
                    <a:lnTo>
                      <a:pt x="1652" y="1792"/>
                    </a:lnTo>
                    <a:lnTo>
                      <a:pt x="1691" y="1725"/>
                    </a:lnTo>
                    <a:lnTo>
                      <a:pt x="1723" y="1670"/>
                    </a:lnTo>
                    <a:lnTo>
                      <a:pt x="1781" y="1565"/>
                    </a:lnTo>
                    <a:lnTo>
                      <a:pt x="1833" y="1466"/>
                    </a:lnTo>
                    <a:lnTo>
                      <a:pt x="1917" y="1283"/>
                    </a:lnTo>
                    <a:lnTo>
                      <a:pt x="1936" y="1244"/>
                    </a:lnTo>
                    <a:lnTo>
                      <a:pt x="1942" y="1217"/>
                    </a:lnTo>
                    <a:lnTo>
                      <a:pt x="1962" y="1161"/>
                    </a:lnTo>
                    <a:lnTo>
                      <a:pt x="1975" y="1128"/>
                    </a:lnTo>
                    <a:lnTo>
                      <a:pt x="1994" y="1089"/>
                    </a:lnTo>
                    <a:lnTo>
                      <a:pt x="2013" y="1034"/>
                    </a:lnTo>
                    <a:lnTo>
                      <a:pt x="2046" y="962"/>
                    </a:lnTo>
                    <a:lnTo>
                      <a:pt x="2084" y="874"/>
                    </a:lnTo>
                    <a:lnTo>
                      <a:pt x="2136" y="763"/>
                    </a:lnTo>
                    <a:lnTo>
                      <a:pt x="2194" y="642"/>
                    </a:lnTo>
                    <a:lnTo>
                      <a:pt x="2252" y="514"/>
                    </a:lnTo>
                    <a:lnTo>
                      <a:pt x="2375" y="249"/>
                    </a:lnTo>
                    <a:lnTo>
                      <a:pt x="2433" y="122"/>
                    </a:lnTo>
                    <a:lnTo>
                      <a:pt x="2478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14"/>
              <p:cNvSpPr/>
              <p:nvPr/>
            </p:nvSpPr>
            <p:spPr>
              <a:xfrm>
                <a:off x="6138000" y="1274760"/>
                <a:ext cx="577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M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12"/>
              <p:cNvSpPr/>
              <p:nvPr/>
            </p:nvSpPr>
            <p:spPr>
              <a:xfrm flipV="1">
                <a:off x="5715000" y="4579560"/>
                <a:ext cx="0" cy="124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Rectangle 15"/>
              <p:cNvSpPr/>
              <p:nvPr/>
            </p:nvSpPr>
            <p:spPr>
              <a:xfrm>
                <a:off x="5560200" y="5881680"/>
                <a:ext cx="3949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"/>
              <p:cNvSpPr/>
              <p:nvPr/>
            </p:nvSpPr>
            <p:spPr>
              <a:xfrm>
                <a:off x="3351240" y="3908520"/>
                <a:ext cx="3585960" cy="776160"/>
              </a:xfrm>
              <a:custGeom>
                <a:avLst/>
                <a:gdLst>
                  <a:gd name="textAreaLeft" fmla="*/ 0 w 3585960"/>
                  <a:gd name="textAreaRight" fmla="*/ 3586320 w 3585960"/>
                  <a:gd name="textAreaTop" fmla="*/ 0 h 776160"/>
                  <a:gd name="textAreaBottom" fmla="*/ 776520 h 776160"/>
                </a:gdLst>
                <a:ahLst/>
                <a:rect l="textAreaLeft" t="textAreaTop" r="textAreaRight" b="textAreaBottom"/>
                <a:pathLst>
                  <a:path w="2259" h="489">
                    <a:moveTo>
                      <a:pt x="0" y="95"/>
                    </a:moveTo>
                    <a:lnTo>
                      <a:pt x="266" y="219"/>
                    </a:lnTo>
                    <a:lnTo>
                      <a:pt x="399" y="279"/>
                    </a:lnTo>
                    <a:lnTo>
                      <a:pt x="524" y="334"/>
                    </a:lnTo>
                    <a:lnTo>
                      <a:pt x="650" y="384"/>
                    </a:lnTo>
                    <a:lnTo>
                      <a:pt x="776" y="423"/>
                    </a:lnTo>
                    <a:lnTo>
                      <a:pt x="895" y="458"/>
                    </a:lnTo>
                    <a:lnTo>
                      <a:pt x="1007" y="478"/>
                    </a:lnTo>
                    <a:lnTo>
                      <a:pt x="1119" y="488"/>
                    </a:lnTo>
                    <a:lnTo>
                      <a:pt x="1230" y="483"/>
                    </a:lnTo>
                    <a:lnTo>
                      <a:pt x="1342" y="468"/>
                    </a:lnTo>
                    <a:lnTo>
                      <a:pt x="1447" y="448"/>
                    </a:lnTo>
                    <a:lnTo>
                      <a:pt x="1552" y="418"/>
                    </a:lnTo>
                    <a:lnTo>
                      <a:pt x="1643" y="389"/>
                    </a:lnTo>
                    <a:lnTo>
                      <a:pt x="1734" y="359"/>
                    </a:lnTo>
                    <a:lnTo>
                      <a:pt x="1811" y="324"/>
                    </a:lnTo>
                    <a:lnTo>
                      <a:pt x="1888" y="289"/>
                    </a:lnTo>
                    <a:lnTo>
                      <a:pt x="1957" y="249"/>
                    </a:lnTo>
                    <a:lnTo>
                      <a:pt x="2076" y="155"/>
                    </a:lnTo>
                    <a:lnTo>
                      <a:pt x="2132" y="110"/>
                    </a:lnTo>
                    <a:lnTo>
                      <a:pt x="2181" y="65"/>
                    </a:lnTo>
                    <a:lnTo>
                      <a:pt x="2223" y="30"/>
                    </a:lnTo>
                    <a:lnTo>
                      <a:pt x="2258" y="0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9"/>
              <p:cNvSpPr/>
              <p:nvPr/>
            </p:nvSpPr>
            <p:spPr>
              <a:xfrm>
                <a:off x="4649760" y="1697040"/>
                <a:ext cx="3040200" cy="853920"/>
              </a:xfrm>
              <a:custGeom>
                <a:avLst/>
                <a:gdLst>
                  <a:gd name="textAreaLeft" fmla="*/ 0 w 3040200"/>
                  <a:gd name="textAreaRight" fmla="*/ 3040560 w 3040200"/>
                  <a:gd name="textAreaTop" fmla="*/ 0 h 853920"/>
                  <a:gd name="textAreaBottom" fmla="*/ 854280 h 853920"/>
                </a:gdLst>
                <a:ahLst/>
                <a:rect l="textAreaLeft" t="textAreaTop" r="textAreaRight" b="textAreaBottom"/>
                <a:pathLst>
                  <a:path w="1915" h="538">
                    <a:moveTo>
                      <a:pt x="0" y="2"/>
                    </a:moveTo>
                    <a:lnTo>
                      <a:pt x="16" y="16"/>
                    </a:lnTo>
                    <a:lnTo>
                      <a:pt x="31" y="36"/>
                    </a:lnTo>
                    <a:lnTo>
                      <a:pt x="47" y="55"/>
                    </a:lnTo>
                    <a:lnTo>
                      <a:pt x="62" y="80"/>
                    </a:lnTo>
                    <a:lnTo>
                      <a:pt x="101" y="131"/>
                    </a:lnTo>
                    <a:lnTo>
                      <a:pt x="147" y="189"/>
                    </a:lnTo>
                    <a:lnTo>
                      <a:pt x="202" y="248"/>
                    </a:lnTo>
                    <a:lnTo>
                      <a:pt x="248" y="303"/>
                    </a:lnTo>
                    <a:lnTo>
                      <a:pt x="302" y="353"/>
                    </a:lnTo>
                    <a:lnTo>
                      <a:pt x="333" y="373"/>
                    </a:lnTo>
                    <a:lnTo>
                      <a:pt x="356" y="392"/>
                    </a:lnTo>
                    <a:lnTo>
                      <a:pt x="411" y="423"/>
                    </a:lnTo>
                    <a:lnTo>
                      <a:pt x="465" y="454"/>
                    </a:lnTo>
                    <a:lnTo>
                      <a:pt x="519" y="479"/>
                    </a:lnTo>
                    <a:lnTo>
                      <a:pt x="573" y="498"/>
                    </a:lnTo>
                    <a:lnTo>
                      <a:pt x="635" y="515"/>
                    </a:lnTo>
                    <a:lnTo>
                      <a:pt x="697" y="529"/>
                    </a:lnTo>
                    <a:lnTo>
                      <a:pt x="759" y="534"/>
                    </a:lnTo>
                    <a:lnTo>
                      <a:pt x="829" y="537"/>
                    </a:lnTo>
                    <a:lnTo>
                      <a:pt x="899" y="534"/>
                    </a:lnTo>
                    <a:lnTo>
                      <a:pt x="976" y="526"/>
                    </a:lnTo>
                    <a:lnTo>
                      <a:pt x="1062" y="512"/>
                    </a:lnTo>
                    <a:lnTo>
                      <a:pt x="1147" y="495"/>
                    </a:lnTo>
                    <a:lnTo>
                      <a:pt x="1232" y="470"/>
                    </a:lnTo>
                    <a:lnTo>
                      <a:pt x="1317" y="445"/>
                    </a:lnTo>
                    <a:lnTo>
                      <a:pt x="1395" y="417"/>
                    </a:lnTo>
                    <a:lnTo>
                      <a:pt x="1465" y="384"/>
                    </a:lnTo>
                    <a:lnTo>
                      <a:pt x="1527" y="348"/>
                    </a:lnTo>
                    <a:lnTo>
                      <a:pt x="1589" y="306"/>
                    </a:lnTo>
                    <a:lnTo>
                      <a:pt x="1651" y="261"/>
                    </a:lnTo>
                    <a:lnTo>
                      <a:pt x="1705" y="214"/>
                    </a:lnTo>
                    <a:lnTo>
                      <a:pt x="1813" y="111"/>
                    </a:lnTo>
                    <a:lnTo>
                      <a:pt x="1914" y="0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9"/>
              <p:cNvSpPr/>
              <p:nvPr/>
            </p:nvSpPr>
            <p:spPr>
              <a:xfrm>
                <a:off x="2236680" y="3143160"/>
                <a:ext cx="4824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Rectangle 11"/>
              <p:cNvSpPr/>
              <p:nvPr/>
            </p:nvSpPr>
            <p:spPr>
              <a:xfrm>
                <a:off x="7080480" y="2909880"/>
                <a:ext cx="921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P = IM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Group 44"/>
          <p:cNvGrpSpPr/>
          <p:nvPr/>
        </p:nvGrpSpPr>
        <p:grpSpPr>
          <a:xfrm>
            <a:off x="0" y="2071800"/>
            <a:ext cx="6075720" cy="2908440"/>
            <a:chOff x="0" y="2071800"/>
            <a:chExt cx="6075720" cy="2908440"/>
          </a:xfrm>
        </p:grpSpPr>
        <p:sp>
          <p:nvSpPr>
            <p:cNvPr id="1100" name="Rectangle 24"/>
            <p:cNvSpPr/>
            <p:nvPr/>
          </p:nvSpPr>
          <p:spPr>
            <a:xfrm>
              <a:off x="5557680" y="20718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43"/>
            <p:cNvGrpSpPr/>
            <p:nvPr/>
          </p:nvGrpSpPr>
          <p:grpSpPr>
            <a:xfrm>
              <a:off x="1823760" y="2300400"/>
              <a:ext cx="4251960" cy="2679840"/>
              <a:chOff x="1823760" y="2300400"/>
              <a:chExt cx="4251960" cy="2679840"/>
            </a:xfrm>
          </p:grpSpPr>
          <p:sp>
            <p:nvSpPr>
              <p:cNvPr id="1102" name="Freeform 21"/>
              <p:cNvSpPr/>
              <p:nvPr/>
            </p:nvSpPr>
            <p:spPr>
              <a:xfrm>
                <a:off x="2209680" y="2533680"/>
                <a:ext cx="3506760" cy="2058840"/>
              </a:xfrm>
              <a:custGeom>
                <a:avLst/>
                <a:gdLst>
                  <a:gd name="textAreaLeft" fmla="*/ 0 w 3506760"/>
                  <a:gd name="textAreaRight" fmla="*/ 3507120 w 350676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2209" h="1297">
                    <a:moveTo>
                      <a:pt x="0" y="1296"/>
                    </a:moveTo>
                    <a:lnTo>
                      <a:pt x="2208" y="1296"/>
                    </a:lnTo>
                    <a:lnTo>
                      <a:pt x="220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Rectangle 22"/>
              <p:cNvSpPr/>
              <p:nvPr/>
            </p:nvSpPr>
            <p:spPr>
              <a:xfrm>
                <a:off x="1824120" y="435780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Rectangle 23"/>
              <p:cNvSpPr/>
              <p:nvPr/>
            </p:nvSpPr>
            <p:spPr>
              <a:xfrm>
                <a:off x="1823760" y="2300400"/>
                <a:ext cx="36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Rectangle 25"/>
              <p:cNvSpPr/>
              <p:nvPr/>
            </p:nvSpPr>
            <p:spPr>
              <a:xfrm>
                <a:off x="5709960" y="3138480"/>
                <a:ext cx="36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26"/>
              <p:cNvSpPr/>
              <p:nvPr/>
            </p:nvSpPr>
            <p:spPr>
              <a:xfrm>
                <a:off x="5710320" y="4586400"/>
                <a:ext cx="3506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27"/>
              <p:cNvSpPr/>
              <p:nvPr/>
            </p:nvSpPr>
            <p:spPr>
              <a:xfrm>
                <a:off x="5638680" y="45147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Oval 28"/>
              <p:cNvSpPr/>
              <p:nvPr/>
            </p:nvSpPr>
            <p:spPr>
              <a:xfrm>
                <a:off x="5638680" y="24573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Rectangle 10"/>
              <p:cNvSpPr/>
              <p:nvPr/>
            </p:nvSpPr>
            <p:spPr>
              <a:xfrm>
                <a:off x="1823760" y="2909880"/>
                <a:ext cx="36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0" name="Rectangle 31"/>
            <p:cNvSpPr/>
            <p:nvPr/>
          </p:nvSpPr>
          <p:spPr>
            <a:xfrm>
              <a:off x="0" y="3211560"/>
              <a:ext cx="2422440" cy="11862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 IM = 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P &lt; CTMe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érdidas = (P- CMe) x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ABCD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Rectangle 45"/>
          <p:cNvSpPr/>
          <p:nvPr/>
        </p:nvSpPr>
        <p:spPr>
          <a:xfrm>
            <a:off x="309960" y="1244520"/>
            <a:ext cx="1580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unid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46"/>
          <p:cNvSpPr/>
          <p:nvPr/>
        </p:nvSpPr>
        <p:spPr>
          <a:xfrm>
            <a:off x="7294320" y="5854680"/>
            <a:ext cx="1580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elección del nivel de producción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Resumen de las decisiones de producció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beneficios se maximizan cuand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M = I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&gt; CTM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obtiene benefi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VMe &lt; P &lt; CTM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debe incurrir en pérdid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&lt; CVMe &lt; CTMe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debe cerrar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nivel de producción a corto plazo de una planta de fundición de alumini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4"/>
          <p:cNvSpPr/>
          <p:nvPr/>
        </p:nvSpPr>
        <p:spPr>
          <a:xfrm>
            <a:off x="2209680" y="1709640"/>
            <a:ext cx="0" cy="3506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"/>
          <p:cNvSpPr/>
          <p:nvPr/>
        </p:nvSpPr>
        <p:spPr>
          <a:xfrm>
            <a:off x="2214720" y="5919840"/>
            <a:ext cx="422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648120" y="5707080"/>
            <a:ext cx="2055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toneladas diaria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7"/>
          <p:cNvSpPr/>
          <p:nvPr/>
        </p:nvSpPr>
        <p:spPr>
          <a:xfrm>
            <a:off x="686520" y="1379520"/>
            <a:ext cx="1419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artícul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0"/>
          <p:cNvSpPr/>
          <p:nvPr/>
        </p:nvSpPr>
        <p:spPr>
          <a:xfrm>
            <a:off x="2135160" y="5184720"/>
            <a:ext cx="176400" cy="741240"/>
          </a:xfrm>
          <a:custGeom>
            <a:avLst/>
            <a:gdLst>
              <a:gd name="textAreaLeft" fmla="*/ 0 w 176400"/>
              <a:gd name="textAreaRight" fmla="*/ 176400 w 1764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111" h="467">
                <a:moveTo>
                  <a:pt x="44" y="467"/>
                </a:moveTo>
                <a:lnTo>
                  <a:pt x="44" y="278"/>
                </a:lnTo>
                <a:lnTo>
                  <a:pt x="111" y="189"/>
                </a:lnTo>
                <a:lnTo>
                  <a:pt x="0" y="100"/>
                </a:lnTo>
                <a:lnTo>
                  <a:pt x="5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11"/>
          <p:cNvSpPr/>
          <p:nvPr/>
        </p:nvSpPr>
        <p:spPr>
          <a:xfrm>
            <a:off x="3111480" y="5946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12"/>
          <p:cNvSpPr/>
          <p:nvPr/>
        </p:nvSpPr>
        <p:spPr>
          <a:xfrm>
            <a:off x="4403520" y="5946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13"/>
          <p:cNvSpPr/>
          <p:nvPr/>
        </p:nvSpPr>
        <p:spPr>
          <a:xfrm>
            <a:off x="5695920" y="59468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14"/>
          <p:cNvSpPr/>
          <p:nvPr/>
        </p:nvSpPr>
        <p:spPr>
          <a:xfrm>
            <a:off x="1974960" y="5946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5"/>
          <p:cNvSpPr/>
          <p:nvPr/>
        </p:nvSpPr>
        <p:spPr>
          <a:xfrm>
            <a:off x="1513080" y="4896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16"/>
          <p:cNvSpPr/>
          <p:nvPr/>
        </p:nvSpPr>
        <p:spPr>
          <a:xfrm>
            <a:off x="1513080" y="39877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7"/>
          <p:cNvSpPr/>
          <p:nvPr/>
        </p:nvSpPr>
        <p:spPr>
          <a:xfrm>
            <a:off x="1513080" y="3079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3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8"/>
          <p:cNvSpPr/>
          <p:nvPr/>
        </p:nvSpPr>
        <p:spPr>
          <a:xfrm>
            <a:off x="1513080" y="21718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9"/>
          <p:cNvSpPr/>
          <p:nvPr/>
        </p:nvSpPr>
        <p:spPr>
          <a:xfrm>
            <a:off x="1513080" y="45417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1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Group 34"/>
          <p:cNvGrpSpPr/>
          <p:nvPr/>
        </p:nvGrpSpPr>
        <p:grpSpPr>
          <a:xfrm>
            <a:off x="2205000" y="2482920"/>
            <a:ext cx="4393080" cy="1340640"/>
            <a:chOff x="2205000" y="2482920"/>
            <a:chExt cx="4393080" cy="1340640"/>
          </a:xfrm>
        </p:grpSpPr>
        <p:sp>
          <p:nvSpPr>
            <p:cNvPr id="1135" name="Line 20"/>
            <p:cNvSpPr/>
            <p:nvPr/>
          </p:nvSpPr>
          <p:spPr>
            <a:xfrm>
              <a:off x="2205000" y="3633840"/>
              <a:ext cx="396864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21"/>
            <p:cNvSpPr/>
            <p:nvPr/>
          </p:nvSpPr>
          <p:spPr>
            <a:xfrm>
              <a:off x="6192000" y="3417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2"/>
            <p:cNvSpPr/>
            <p:nvPr/>
          </p:nvSpPr>
          <p:spPr>
            <a:xfrm>
              <a:off x="2205000" y="2717640"/>
              <a:ext cx="396864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23"/>
            <p:cNvSpPr/>
            <p:nvPr/>
          </p:nvSpPr>
          <p:spPr>
            <a:xfrm>
              <a:off x="6192000" y="2482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29"/>
          <p:cNvGrpSpPr/>
          <p:nvPr/>
        </p:nvGrpSpPr>
        <p:grpSpPr>
          <a:xfrm>
            <a:off x="2222640" y="1657080"/>
            <a:ext cx="3632040" cy="3051360"/>
            <a:chOff x="2222640" y="1657080"/>
            <a:chExt cx="3632040" cy="3051360"/>
          </a:xfrm>
        </p:grpSpPr>
        <p:sp>
          <p:nvSpPr>
            <p:cNvPr id="1140" name="Line 25"/>
            <p:cNvSpPr/>
            <p:nvPr/>
          </p:nvSpPr>
          <p:spPr>
            <a:xfrm>
              <a:off x="2222640" y="4708440"/>
              <a:ext cx="2398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26"/>
            <p:cNvSpPr/>
            <p:nvPr/>
          </p:nvSpPr>
          <p:spPr>
            <a:xfrm flipV="1">
              <a:off x="4603680" y="3192120"/>
              <a:ext cx="0" cy="149868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7"/>
            <p:cNvSpPr/>
            <p:nvPr/>
          </p:nvSpPr>
          <p:spPr>
            <a:xfrm>
              <a:off x="4638600" y="3173400"/>
              <a:ext cx="1216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28"/>
            <p:cNvSpPr/>
            <p:nvPr/>
          </p:nvSpPr>
          <p:spPr>
            <a:xfrm flipV="1">
              <a:off x="5837400" y="1657080"/>
              <a:ext cx="0" cy="149868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Group 37"/>
          <p:cNvGrpSpPr/>
          <p:nvPr/>
        </p:nvGrpSpPr>
        <p:grpSpPr>
          <a:xfrm>
            <a:off x="2566440" y="1290600"/>
            <a:ext cx="6360840" cy="3945240"/>
            <a:chOff x="2566440" y="1290600"/>
            <a:chExt cx="6360840" cy="3945240"/>
          </a:xfrm>
        </p:grpSpPr>
        <p:sp>
          <p:nvSpPr>
            <p:cNvPr id="1145" name="Text Box 32"/>
            <p:cNvSpPr/>
            <p:nvPr/>
          </p:nvSpPr>
          <p:spPr>
            <a:xfrm>
              <a:off x="2566440" y="1290600"/>
              <a:ext cx="3876120" cy="1067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servaciones 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 entre 1.140€ y 1.300€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600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 &gt; 1.300€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 900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cio &lt; 1.140€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 = 0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33"/>
            <p:cNvSpPr/>
            <p:nvPr/>
          </p:nvSpPr>
          <p:spPr>
            <a:xfrm>
              <a:off x="5367960" y="4411800"/>
              <a:ext cx="3559320" cy="8240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regunt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¿Una empresa debería permanec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 el mercado, cuando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&lt; 1.140€?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Algunas consideraciones sobre los costes dirigidas a los directiv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Tres directrices para la estimación del coste marginal: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o debe utilizarse el coste variable medio como sustituto del coste marginal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Algunas consideraciones sobre los costes dirigidas a los directiv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Tres directrices para la estimación del coste marginal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a única partida del libro de contabilidad de una empresa puede tener dos componentes, sólo uno de los cuales representa un coste marginal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Algunas consideraciones sobre los costes dirigidas a los directiv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Tres directrices para la estimación del coste marginal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ara hallar el coste marginal hay que incluir todos los costes de oportunidad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corto plazo de l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6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"/>
          <p:cNvSpPr/>
          <p:nvPr/>
        </p:nvSpPr>
        <p:spPr>
          <a:xfrm>
            <a:off x="2203560" y="597204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8"/>
          <p:cNvSpPr/>
          <p:nvPr/>
        </p:nvSpPr>
        <p:spPr>
          <a:xfrm>
            <a:off x="1011960" y="1477800"/>
            <a:ext cx="118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7309440" y="589104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31"/>
          <p:cNvGrpSpPr/>
          <p:nvPr/>
        </p:nvGrpSpPr>
        <p:grpSpPr>
          <a:xfrm>
            <a:off x="2509920" y="2509920"/>
            <a:ext cx="4920480" cy="3008160"/>
            <a:chOff x="2509920" y="2509920"/>
            <a:chExt cx="4920480" cy="3008160"/>
          </a:xfrm>
        </p:grpSpPr>
        <p:sp>
          <p:nvSpPr>
            <p:cNvPr id="1172" name="Rectangle 9"/>
            <p:cNvSpPr/>
            <p:nvPr/>
          </p:nvSpPr>
          <p:spPr>
            <a:xfrm>
              <a:off x="6852600" y="2509920"/>
              <a:ext cx="577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1"/>
            <p:cNvSpPr/>
            <p:nvPr/>
          </p:nvSpPr>
          <p:spPr>
            <a:xfrm>
              <a:off x="2509920" y="2975040"/>
              <a:ext cx="4655880" cy="2543040"/>
            </a:xfrm>
            <a:custGeom>
              <a:avLst/>
              <a:gdLst>
                <a:gd name="textAreaLeft" fmla="*/ 0 w 4655880"/>
                <a:gd name="textAreaRight" fmla="*/ 4656240 w 4655880"/>
                <a:gd name="textAreaTop" fmla="*/ 0 h 2543040"/>
                <a:gd name="textAreaBottom" fmla="*/ 2543400 h 2543040"/>
              </a:gdLst>
              <a:ahLst/>
              <a:rect l="textAreaLeft" t="textAreaTop" r="textAreaRight" b="textAreaBottom"/>
              <a:pathLst>
                <a:path w="2933" h="1602">
                  <a:moveTo>
                    <a:pt x="0" y="672"/>
                  </a:moveTo>
                  <a:lnTo>
                    <a:pt x="145" y="901"/>
                  </a:lnTo>
                  <a:lnTo>
                    <a:pt x="217" y="1008"/>
                  </a:lnTo>
                  <a:lnTo>
                    <a:pt x="289" y="1114"/>
                  </a:lnTo>
                  <a:lnTo>
                    <a:pt x="361" y="1209"/>
                  </a:lnTo>
                  <a:lnTo>
                    <a:pt x="434" y="1298"/>
                  </a:lnTo>
                  <a:lnTo>
                    <a:pt x="506" y="1377"/>
                  </a:lnTo>
                  <a:lnTo>
                    <a:pt x="578" y="1438"/>
                  </a:lnTo>
                  <a:lnTo>
                    <a:pt x="650" y="1489"/>
                  </a:lnTo>
                  <a:lnTo>
                    <a:pt x="715" y="1528"/>
                  </a:lnTo>
                  <a:lnTo>
                    <a:pt x="787" y="1561"/>
                  </a:lnTo>
                  <a:lnTo>
                    <a:pt x="852" y="1584"/>
                  </a:lnTo>
                  <a:lnTo>
                    <a:pt x="925" y="1595"/>
                  </a:lnTo>
                  <a:lnTo>
                    <a:pt x="997" y="1601"/>
                  </a:lnTo>
                  <a:lnTo>
                    <a:pt x="1076" y="1595"/>
                  </a:lnTo>
                  <a:lnTo>
                    <a:pt x="1156" y="1584"/>
                  </a:lnTo>
                  <a:lnTo>
                    <a:pt x="1242" y="1567"/>
                  </a:lnTo>
                  <a:lnTo>
                    <a:pt x="1336" y="1545"/>
                  </a:lnTo>
                  <a:lnTo>
                    <a:pt x="1437" y="1517"/>
                  </a:lnTo>
                  <a:lnTo>
                    <a:pt x="1538" y="1478"/>
                  </a:lnTo>
                  <a:lnTo>
                    <a:pt x="1647" y="1427"/>
                  </a:lnTo>
                  <a:lnTo>
                    <a:pt x="1755" y="1366"/>
                  </a:lnTo>
                  <a:lnTo>
                    <a:pt x="1863" y="1287"/>
                  </a:lnTo>
                  <a:lnTo>
                    <a:pt x="1972" y="1198"/>
                  </a:lnTo>
                  <a:lnTo>
                    <a:pt x="2087" y="1091"/>
                  </a:lnTo>
                  <a:lnTo>
                    <a:pt x="2203" y="963"/>
                  </a:lnTo>
                  <a:lnTo>
                    <a:pt x="2318" y="828"/>
                  </a:lnTo>
                  <a:lnTo>
                    <a:pt x="2441" y="677"/>
                  </a:lnTo>
                  <a:lnTo>
                    <a:pt x="2564" y="515"/>
                  </a:lnTo>
                  <a:lnTo>
                    <a:pt x="2686" y="347"/>
                  </a:lnTo>
                  <a:lnTo>
                    <a:pt x="2932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Group 30"/>
          <p:cNvGrpSpPr/>
          <p:nvPr/>
        </p:nvGrpSpPr>
        <p:grpSpPr>
          <a:xfrm>
            <a:off x="3246480" y="2890800"/>
            <a:ext cx="5323320" cy="2112840"/>
            <a:chOff x="3246480" y="2890800"/>
            <a:chExt cx="5323320" cy="2112840"/>
          </a:xfrm>
        </p:grpSpPr>
        <p:sp>
          <p:nvSpPr>
            <p:cNvPr id="1175" name="Freeform 12"/>
            <p:cNvSpPr/>
            <p:nvPr/>
          </p:nvSpPr>
          <p:spPr>
            <a:xfrm>
              <a:off x="3246480" y="3736800"/>
              <a:ext cx="4403520" cy="1266840"/>
            </a:xfrm>
            <a:custGeom>
              <a:avLst/>
              <a:gdLst>
                <a:gd name="textAreaLeft" fmla="*/ 0 w 4403520"/>
                <a:gd name="textAreaRight" fmla="*/ 4403520 w 440352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2774" h="798">
                  <a:moveTo>
                    <a:pt x="0" y="97"/>
                  </a:moveTo>
                  <a:lnTo>
                    <a:pt x="46" y="132"/>
                  </a:lnTo>
                  <a:lnTo>
                    <a:pt x="99" y="178"/>
                  </a:lnTo>
                  <a:lnTo>
                    <a:pt x="168" y="234"/>
                  </a:lnTo>
                  <a:lnTo>
                    <a:pt x="245" y="294"/>
                  </a:lnTo>
                  <a:lnTo>
                    <a:pt x="406" y="416"/>
                  </a:lnTo>
                  <a:lnTo>
                    <a:pt x="490" y="472"/>
                  </a:lnTo>
                  <a:lnTo>
                    <a:pt x="567" y="518"/>
                  </a:lnTo>
                  <a:lnTo>
                    <a:pt x="720" y="599"/>
                  </a:lnTo>
                  <a:lnTo>
                    <a:pt x="888" y="675"/>
                  </a:lnTo>
                  <a:lnTo>
                    <a:pt x="965" y="710"/>
                  </a:lnTo>
                  <a:lnTo>
                    <a:pt x="1049" y="736"/>
                  </a:lnTo>
                  <a:lnTo>
                    <a:pt x="1126" y="761"/>
                  </a:lnTo>
                  <a:lnTo>
                    <a:pt x="1203" y="776"/>
                  </a:lnTo>
                  <a:lnTo>
                    <a:pt x="1279" y="787"/>
                  </a:lnTo>
                  <a:lnTo>
                    <a:pt x="1348" y="797"/>
                  </a:lnTo>
                  <a:lnTo>
                    <a:pt x="1478" y="797"/>
                  </a:lnTo>
                  <a:lnTo>
                    <a:pt x="1616" y="776"/>
                  </a:lnTo>
                  <a:lnTo>
                    <a:pt x="1754" y="746"/>
                  </a:lnTo>
                  <a:lnTo>
                    <a:pt x="1823" y="721"/>
                  </a:lnTo>
                  <a:lnTo>
                    <a:pt x="1900" y="695"/>
                  </a:lnTo>
                  <a:lnTo>
                    <a:pt x="2053" y="624"/>
                  </a:lnTo>
                  <a:lnTo>
                    <a:pt x="2198" y="543"/>
                  </a:lnTo>
                  <a:lnTo>
                    <a:pt x="2336" y="452"/>
                  </a:lnTo>
                  <a:lnTo>
                    <a:pt x="2398" y="401"/>
                  </a:lnTo>
                  <a:lnTo>
                    <a:pt x="2467" y="345"/>
                  </a:lnTo>
                  <a:lnTo>
                    <a:pt x="2581" y="213"/>
                  </a:lnTo>
                  <a:lnTo>
                    <a:pt x="2643" y="152"/>
                  </a:lnTo>
                  <a:lnTo>
                    <a:pt x="2689" y="91"/>
                  </a:lnTo>
                  <a:lnTo>
                    <a:pt x="2735" y="41"/>
                  </a:lnTo>
                  <a:lnTo>
                    <a:pt x="2773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3"/>
            <p:cNvSpPr/>
            <p:nvPr/>
          </p:nvSpPr>
          <p:spPr>
            <a:xfrm>
              <a:off x="3895560" y="2971800"/>
              <a:ext cx="3867120" cy="1292400"/>
            </a:xfrm>
            <a:custGeom>
              <a:avLst/>
              <a:gdLst>
                <a:gd name="textAreaLeft" fmla="*/ 0 w 3867120"/>
                <a:gd name="textAreaRight" fmla="*/ 3867480 w 3867120"/>
                <a:gd name="textAreaTop" fmla="*/ 0 h 1292400"/>
                <a:gd name="textAreaBottom" fmla="*/ 1292760 h 1292400"/>
              </a:gdLst>
              <a:ahLst/>
              <a:rect l="textAreaLeft" t="textAreaTop" r="textAreaRight" b="textAreaBottom"/>
              <a:pathLst>
                <a:path w="2521" h="771">
                  <a:moveTo>
                    <a:pt x="0" y="0"/>
                  </a:moveTo>
                  <a:lnTo>
                    <a:pt x="23" y="26"/>
                  </a:lnTo>
                  <a:lnTo>
                    <a:pt x="61" y="56"/>
                  </a:lnTo>
                  <a:lnTo>
                    <a:pt x="99" y="95"/>
                  </a:lnTo>
                  <a:lnTo>
                    <a:pt x="137" y="139"/>
                  </a:lnTo>
                  <a:lnTo>
                    <a:pt x="245" y="229"/>
                  </a:lnTo>
                  <a:lnTo>
                    <a:pt x="360" y="324"/>
                  </a:lnTo>
                  <a:lnTo>
                    <a:pt x="429" y="372"/>
                  </a:lnTo>
                  <a:lnTo>
                    <a:pt x="505" y="424"/>
                  </a:lnTo>
                  <a:lnTo>
                    <a:pt x="681" y="536"/>
                  </a:lnTo>
                  <a:lnTo>
                    <a:pt x="766" y="588"/>
                  </a:lnTo>
                  <a:lnTo>
                    <a:pt x="858" y="640"/>
                  </a:lnTo>
                  <a:lnTo>
                    <a:pt x="942" y="679"/>
                  </a:lnTo>
                  <a:lnTo>
                    <a:pt x="1026" y="714"/>
                  </a:lnTo>
                  <a:lnTo>
                    <a:pt x="1103" y="739"/>
                  </a:lnTo>
                  <a:lnTo>
                    <a:pt x="1179" y="752"/>
                  </a:lnTo>
                  <a:lnTo>
                    <a:pt x="1256" y="765"/>
                  </a:lnTo>
                  <a:lnTo>
                    <a:pt x="1333" y="770"/>
                  </a:lnTo>
                  <a:lnTo>
                    <a:pt x="1470" y="770"/>
                  </a:lnTo>
                  <a:lnTo>
                    <a:pt x="1608" y="761"/>
                  </a:lnTo>
                  <a:lnTo>
                    <a:pt x="1739" y="744"/>
                  </a:lnTo>
                  <a:lnTo>
                    <a:pt x="1861" y="709"/>
                  </a:lnTo>
                  <a:lnTo>
                    <a:pt x="1984" y="662"/>
                  </a:lnTo>
                  <a:lnTo>
                    <a:pt x="2099" y="597"/>
                  </a:lnTo>
                  <a:lnTo>
                    <a:pt x="2160" y="558"/>
                  </a:lnTo>
                  <a:lnTo>
                    <a:pt x="2214" y="506"/>
                  </a:lnTo>
                  <a:lnTo>
                    <a:pt x="2275" y="450"/>
                  </a:lnTo>
                  <a:lnTo>
                    <a:pt x="2336" y="394"/>
                  </a:lnTo>
                  <a:lnTo>
                    <a:pt x="2390" y="337"/>
                  </a:lnTo>
                  <a:lnTo>
                    <a:pt x="2436" y="281"/>
                  </a:lnTo>
                  <a:lnTo>
                    <a:pt x="2482" y="238"/>
                  </a:lnTo>
                  <a:lnTo>
                    <a:pt x="2520" y="199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4"/>
            <p:cNvSpPr/>
            <p:nvPr/>
          </p:nvSpPr>
          <p:spPr>
            <a:xfrm>
              <a:off x="7681320" y="3500280"/>
              <a:ext cx="888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V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5"/>
            <p:cNvSpPr/>
            <p:nvPr/>
          </p:nvSpPr>
          <p:spPr>
            <a:xfrm>
              <a:off x="7680960" y="2890800"/>
              <a:ext cx="874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T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35 Grupo"/>
          <p:cNvGrpSpPr/>
          <p:nvPr/>
        </p:nvGrpSpPr>
        <p:grpSpPr>
          <a:xfrm>
            <a:off x="1065960" y="4836960"/>
            <a:ext cx="4433040" cy="363240"/>
            <a:chOff x="1065960" y="4836960"/>
            <a:chExt cx="4433040" cy="363240"/>
          </a:xfrm>
        </p:grpSpPr>
        <p:sp>
          <p:nvSpPr>
            <p:cNvPr id="1180" name="Line 16"/>
            <p:cNvSpPr/>
            <p:nvPr/>
          </p:nvSpPr>
          <p:spPr>
            <a:xfrm flipH="1">
              <a:off x="2198520" y="5029200"/>
              <a:ext cx="3300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7"/>
            <p:cNvSpPr/>
            <p:nvPr/>
          </p:nvSpPr>
          <p:spPr>
            <a:xfrm>
              <a:off x="1065960" y="4836960"/>
              <a:ext cx="1230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 = CVM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Rectangle 27"/>
          <p:cNvSpPr/>
          <p:nvPr/>
        </p:nvSpPr>
        <p:spPr>
          <a:xfrm>
            <a:off x="7217280" y="4649760"/>
            <a:ext cx="1497240" cy="575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12600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¿Qué ocur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si P &lt; CV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Group 33"/>
          <p:cNvGrpSpPr/>
          <p:nvPr/>
        </p:nvGrpSpPr>
        <p:grpSpPr>
          <a:xfrm>
            <a:off x="1834200" y="2967120"/>
            <a:ext cx="5494680" cy="3326400"/>
            <a:chOff x="1834200" y="2967120"/>
            <a:chExt cx="5494680" cy="3326400"/>
          </a:xfrm>
        </p:grpSpPr>
        <p:sp>
          <p:nvSpPr>
            <p:cNvPr id="1184" name="Line 19"/>
            <p:cNvSpPr/>
            <p:nvPr/>
          </p:nvSpPr>
          <p:spPr>
            <a:xfrm flipH="1">
              <a:off x="2198160" y="3200400"/>
              <a:ext cx="4753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21"/>
            <p:cNvSpPr/>
            <p:nvPr/>
          </p:nvSpPr>
          <p:spPr>
            <a:xfrm>
              <a:off x="1834200" y="29671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23"/>
            <p:cNvSpPr/>
            <p:nvPr/>
          </p:nvSpPr>
          <p:spPr>
            <a:xfrm>
              <a:off x="701028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25"/>
            <p:cNvSpPr/>
            <p:nvPr/>
          </p:nvSpPr>
          <p:spPr>
            <a:xfrm>
              <a:off x="6934320" y="5892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Oval 28"/>
            <p:cNvSpPr/>
            <p:nvPr/>
          </p:nvSpPr>
          <p:spPr>
            <a:xfrm>
              <a:off x="6934320" y="3124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32"/>
          <p:cNvGrpSpPr/>
          <p:nvPr/>
        </p:nvGrpSpPr>
        <p:grpSpPr>
          <a:xfrm>
            <a:off x="1834200" y="1601640"/>
            <a:ext cx="5008680" cy="4691880"/>
            <a:chOff x="1834200" y="1601640"/>
            <a:chExt cx="5008680" cy="4691880"/>
          </a:xfrm>
        </p:grpSpPr>
        <p:sp>
          <p:nvSpPr>
            <p:cNvPr id="1190" name="Line 18"/>
            <p:cNvSpPr/>
            <p:nvPr/>
          </p:nvSpPr>
          <p:spPr>
            <a:xfrm flipH="1">
              <a:off x="2198520" y="3809880"/>
              <a:ext cx="4291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20"/>
            <p:cNvSpPr/>
            <p:nvPr/>
          </p:nvSpPr>
          <p:spPr>
            <a:xfrm>
              <a:off x="1834200" y="3576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22"/>
            <p:cNvSpPr/>
            <p:nvPr/>
          </p:nvSpPr>
          <p:spPr>
            <a:xfrm>
              <a:off x="6553080" y="3824280"/>
              <a:ext cx="0" cy="2182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4"/>
            <p:cNvSpPr/>
            <p:nvPr/>
          </p:nvSpPr>
          <p:spPr>
            <a:xfrm>
              <a:off x="6401160" y="5892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6"/>
            <p:cNvSpPr/>
            <p:nvPr/>
          </p:nvSpPr>
          <p:spPr>
            <a:xfrm>
              <a:off x="3486960" y="1601640"/>
              <a:ext cx="3355920" cy="1154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empresa elige su nivel 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de tal forma que IM = CM,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la medida en que la empres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eda cubrir su coste variable 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Oval 29"/>
            <p:cNvSpPr/>
            <p:nvPr/>
          </p:nvSpPr>
          <p:spPr>
            <a:xfrm>
              <a:off x="647712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corto plazo de l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I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M = C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 = CM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oferta indica cuánto producirá a cada uno de los precios posibles. Por lo tan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 entonce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P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, entonce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mercados perfectamente competitiv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 de los mercados perfectamente competitiv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empresas son precio-aceptant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Homogeneidad del product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bertad de entrada y salid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corto plazo de l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5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6"/>
          <p:cNvSpPr/>
          <p:nvPr/>
        </p:nvSpPr>
        <p:spPr>
          <a:xfrm>
            <a:off x="2209680" y="1690560"/>
            <a:ext cx="0" cy="431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"/>
          <p:cNvSpPr/>
          <p:nvPr/>
        </p:nvSpPr>
        <p:spPr>
          <a:xfrm>
            <a:off x="2203560" y="598968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9"/>
          <p:cNvSpPr/>
          <p:nvPr/>
        </p:nvSpPr>
        <p:spPr>
          <a:xfrm>
            <a:off x="6852600" y="250992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11"/>
          <p:cNvSpPr/>
          <p:nvPr/>
        </p:nvSpPr>
        <p:spPr>
          <a:xfrm>
            <a:off x="3198960" y="3736800"/>
            <a:ext cx="4403520" cy="1266840"/>
          </a:xfrm>
          <a:custGeom>
            <a:avLst/>
            <a:gdLst>
              <a:gd name="textAreaLeft" fmla="*/ 0 w 4403520"/>
              <a:gd name="textAreaRight" fmla="*/ 4403520 w 440352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2774" h="798">
                <a:moveTo>
                  <a:pt x="0" y="97"/>
                </a:moveTo>
                <a:lnTo>
                  <a:pt x="46" y="132"/>
                </a:lnTo>
                <a:lnTo>
                  <a:pt x="99" y="178"/>
                </a:lnTo>
                <a:lnTo>
                  <a:pt x="168" y="234"/>
                </a:lnTo>
                <a:lnTo>
                  <a:pt x="245" y="294"/>
                </a:lnTo>
                <a:lnTo>
                  <a:pt x="406" y="416"/>
                </a:lnTo>
                <a:lnTo>
                  <a:pt x="490" y="472"/>
                </a:lnTo>
                <a:lnTo>
                  <a:pt x="567" y="518"/>
                </a:lnTo>
                <a:lnTo>
                  <a:pt x="720" y="599"/>
                </a:lnTo>
                <a:lnTo>
                  <a:pt x="888" y="675"/>
                </a:lnTo>
                <a:lnTo>
                  <a:pt x="965" y="710"/>
                </a:lnTo>
                <a:lnTo>
                  <a:pt x="1049" y="736"/>
                </a:lnTo>
                <a:lnTo>
                  <a:pt x="1126" y="761"/>
                </a:lnTo>
                <a:lnTo>
                  <a:pt x="1203" y="776"/>
                </a:lnTo>
                <a:lnTo>
                  <a:pt x="1279" y="787"/>
                </a:lnTo>
                <a:lnTo>
                  <a:pt x="1348" y="797"/>
                </a:lnTo>
                <a:lnTo>
                  <a:pt x="1478" y="797"/>
                </a:lnTo>
                <a:lnTo>
                  <a:pt x="1616" y="776"/>
                </a:lnTo>
                <a:lnTo>
                  <a:pt x="1754" y="746"/>
                </a:lnTo>
                <a:lnTo>
                  <a:pt x="1823" y="721"/>
                </a:lnTo>
                <a:lnTo>
                  <a:pt x="1900" y="695"/>
                </a:lnTo>
                <a:lnTo>
                  <a:pt x="2053" y="624"/>
                </a:lnTo>
                <a:lnTo>
                  <a:pt x="2198" y="543"/>
                </a:lnTo>
                <a:lnTo>
                  <a:pt x="2336" y="452"/>
                </a:lnTo>
                <a:lnTo>
                  <a:pt x="2398" y="401"/>
                </a:lnTo>
                <a:lnTo>
                  <a:pt x="2467" y="345"/>
                </a:lnTo>
                <a:lnTo>
                  <a:pt x="2581" y="213"/>
                </a:lnTo>
                <a:lnTo>
                  <a:pt x="2643" y="152"/>
                </a:lnTo>
                <a:lnTo>
                  <a:pt x="2689" y="91"/>
                </a:lnTo>
                <a:lnTo>
                  <a:pt x="2735" y="41"/>
                </a:lnTo>
                <a:lnTo>
                  <a:pt x="2773" y="0"/>
                </a:lnTo>
              </a:path>
            </a:pathLst>
          </a:custGeom>
          <a:noFill/>
          <a:ln cap="rnd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12"/>
          <p:cNvSpPr/>
          <p:nvPr/>
        </p:nvSpPr>
        <p:spPr>
          <a:xfrm>
            <a:off x="3762360" y="3040200"/>
            <a:ext cx="4002120" cy="1224000"/>
          </a:xfrm>
          <a:custGeom>
            <a:avLst/>
            <a:gdLst>
              <a:gd name="textAreaLeft" fmla="*/ 0 w 4002120"/>
              <a:gd name="textAreaRight" fmla="*/ 4002480 w 40021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521" h="771">
                <a:moveTo>
                  <a:pt x="0" y="0"/>
                </a:moveTo>
                <a:lnTo>
                  <a:pt x="23" y="26"/>
                </a:lnTo>
                <a:lnTo>
                  <a:pt x="61" y="56"/>
                </a:lnTo>
                <a:lnTo>
                  <a:pt x="99" y="95"/>
                </a:lnTo>
                <a:lnTo>
                  <a:pt x="137" y="139"/>
                </a:lnTo>
                <a:lnTo>
                  <a:pt x="245" y="229"/>
                </a:lnTo>
                <a:lnTo>
                  <a:pt x="360" y="324"/>
                </a:lnTo>
                <a:lnTo>
                  <a:pt x="429" y="372"/>
                </a:lnTo>
                <a:lnTo>
                  <a:pt x="505" y="424"/>
                </a:lnTo>
                <a:lnTo>
                  <a:pt x="681" y="536"/>
                </a:lnTo>
                <a:lnTo>
                  <a:pt x="766" y="588"/>
                </a:lnTo>
                <a:lnTo>
                  <a:pt x="858" y="640"/>
                </a:lnTo>
                <a:lnTo>
                  <a:pt x="942" y="679"/>
                </a:lnTo>
                <a:lnTo>
                  <a:pt x="1026" y="714"/>
                </a:lnTo>
                <a:lnTo>
                  <a:pt x="1103" y="739"/>
                </a:lnTo>
                <a:lnTo>
                  <a:pt x="1179" y="752"/>
                </a:lnTo>
                <a:lnTo>
                  <a:pt x="1256" y="765"/>
                </a:lnTo>
                <a:lnTo>
                  <a:pt x="1333" y="770"/>
                </a:lnTo>
                <a:lnTo>
                  <a:pt x="1470" y="770"/>
                </a:lnTo>
                <a:lnTo>
                  <a:pt x="1608" y="761"/>
                </a:lnTo>
                <a:lnTo>
                  <a:pt x="1739" y="744"/>
                </a:lnTo>
                <a:lnTo>
                  <a:pt x="1861" y="709"/>
                </a:lnTo>
                <a:lnTo>
                  <a:pt x="1984" y="662"/>
                </a:lnTo>
                <a:lnTo>
                  <a:pt x="2099" y="597"/>
                </a:lnTo>
                <a:lnTo>
                  <a:pt x="2160" y="558"/>
                </a:lnTo>
                <a:lnTo>
                  <a:pt x="2214" y="506"/>
                </a:lnTo>
                <a:lnTo>
                  <a:pt x="2275" y="450"/>
                </a:lnTo>
                <a:lnTo>
                  <a:pt x="2336" y="394"/>
                </a:lnTo>
                <a:lnTo>
                  <a:pt x="2390" y="337"/>
                </a:lnTo>
                <a:lnTo>
                  <a:pt x="2436" y="281"/>
                </a:lnTo>
                <a:lnTo>
                  <a:pt x="2482" y="238"/>
                </a:lnTo>
                <a:lnTo>
                  <a:pt x="2520" y="199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Rectangle 13"/>
          <p:cNvSpPr/>
          <p:nvPr/>
        </p:nvSpPr>
        <p:spPr>
          <a:xfrm>
            <a:off x="7614720" y="3500280"/>
            <a:ext cx="888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V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Rectangle 14"/>
          <p:cNvSpPr/>
          <p:nvPr/>
        </p:nvSpPr>
        <p:spPr>
          <a:xfrm>
            <a:off x="7614360" y="2890800"/>
            <a:ext cx="87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T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5"/>
          <p:cNvSpPr/>
          <p:nvPr/>
        </p:nvSpPr>
        <p:spPr>
          <a:xfrm flipH="1">
            <a:off x="2198520" y="5029200"/>
            <a:ext cx="33004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6"/>
          <p:cNvSpPr/>
          <p:nvPr/>
        </p:nvSpPr>
        <p:spPr>
          <a:xfrm>
            <a:off x="908280" y="4836960"/>
            <a:ext cx="1347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CV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7"/>
          <p:cNvSpPr/>
          <p:nvPr/>
        </p:nvSpPr>
        <p:spPr>
          <a:xfrm flipH="1">
            <a:off x="2198520" y="3809880"/>
            <a:ext cx="4291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8"/>
          <p:cNvSpPr/>
          <p:nvPr/>
        </p:nvSpPr>
        <p:spPr>
          <a:xfrm flipH="1">
            <a:off x="2198520" y="3200400"/>
            <a:ext cx="482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19"/>
          <p:cNvSpPr/>
          <p:nvPr/>
        </p:nvSpPr>
        <p:spPr>
          <a:xfrm>
            <a:off x="1676520" y="357660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20"/>
          <p:cNvSpPr/>
          <p:nvPr/>
        </p:nvSpPr>
        <p:spPr>
          <a:xfrm>
            <a:off x="1676520" y="296712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1"/>
          <p:cNvSpPr/>
          <p:nvPr/>
        </p:nvSpPr>
        <p:spPr>
          <a:xfrm>
            <a:off x="6553080" y="3824280"/>
            <a:ext cx="0" cy="218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2"/>
          <p:cNvSpPr/>
          <p:nvPr/>
        </p:nvSpPr>
        <p:spPr>
          <a:xfrm>
            <a:off x="7010280" y="3290760"/>
            <a:ext cx="0" cy="27162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23"/>
          <p:cNvSpPr/>
          <p:nvPr/>
        </p:nvSpPr>
        <p:spPr>
          <a:xfrm>
            <a:off x="6400440" y="587520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24"/>
          <p:cNvSpPr/>
          <p:nvPr/>
        </p:nvSpPr>
        <p:spPr>
          <a:xfrm>
            <a:off x="6933960" y="587520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25"/>
          <p:cNvSpPr/>
          <p:nvPr/>
        </p:nvSpPr>
        <p:spPr>
          <a:xfrm>
            <a:off x="2687400" y="1630440"/>
            <a:ext cx="4187880" cy="393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CM está por encima de CV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4" name="Group 26"/>
          <p:cNvGrpSpPr/>
          <p:nvPr/>
        </p:nvGrpSpPr>
        <p:grpSpPr>
          <a:xfrm>
            <a:off x="2141640" y="5105520"/>
            <a:ext cx="137880" cy="761760"/>
            <a:chOff x="2141640" y="5105520"/>
            <a:chExt cx="137880" cy="761760"/>
          </a:xfrm>
        </p:grpSpPr>
        <p:sp>
          <p:nvSpPr>
            <p:cNvPr id="1225" name="Line 27"/>
            <p:cNvSpPr/>
            <p:nvPr/>
          </p:nvSpPr>
          <p:spPr>
            <a:xfrm>
              <a:off x="2141640" y="556272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28"/>
            <p:cNvSpPr/>
            <p:nvPr/>
          </p:nvSpPr>
          <p:spPr>
            <a:xfrm>
              <a:off x="2141640" y="57150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29"/>
            <p:cNvSpPr/>
            <p:nvPr/>
          </p:nvSpPr>
          <p:spPr>
            <a:xfrm>
              <a:off x="2141640" y="58672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30"/>
            <p:cNvSpPr/>
            <p:nvPr/>
          </p:nvSpPr>
          <p:spPr>
            <a:xfrm>
              <a:off x="2141640" y="510552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31"/>
            <p:cNvSpPr/>
            <p:nvPr/>
          </p:nvSpPr>
          <p:spPr>
            <a:xfrm>
              <a:off x="2141640" y="52578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32"/>
            <p:cNvSpPr/>
            <p:nvPr/>
          </p:nvSpPr>
          <p:spPr>
            <a:xfrm>
              <a:off x="2141640" y="541008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Group 33"/>
          <p:cNvGrpSpPr/>
          <p:nvPr/>
        </p:nvGrpSpPr>
        <p:grpSpPr>
          <a:xfrm>
            <a:off x="5513400" y="3048120"/>
            <a:ext cx="1700280" cy="1828800"/>
            <a:chOff x="5513400" y="3048120"/>
            <a:chExt cx="1700280" cy="1828800"/>
          </a:xfrm>
        </p:grpSpPr>
        <p:sp>
          <p:nvSpPr>
            <p:cNvPr id="1232" name="Line 34"/>
            <p:cNvSpPr/>
            <p:nvPr/>
          </p:nvSpPr>
          <p:spPr>
            <a:xfrm>
              <a:off x="5513400" y="487692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35"/>
            <p:cNvSpPr/>
            <p:nvPr/>
          </p:nvSpPr>
          <p:spPr>
            <a:xfrm>
              <a:off x="6961320" y="304812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36"/>
            <p:cNvSpPr/>
            <p:nvPr/>
          </p:nvSpPr>
          <p:spPr>
            <a:xfrm>
              <a:off x="6885000" y="320040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37"/>
            <p:cNvSpPr/>
            <p:nvPr/>
          </p:nvSpPr>
          <p:spPr>
            <a:xfrm>
              <a:off x="6732720" y="335268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38"/>
            <p:cNvSpPr/>
            <p:nvPr/>
          </p:nvSpPr>
          <p:spPr>
            <a:xfrm>
              <a:off x="6656400" y="350532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39"/>
            <p:cNvSpPr/>
            <p:nvPr/>
          </p:nvSpPr>
          <p:spPr>
            <a:xfrm>
              <a:off x="6580080" y="365760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40"/>
            <p:cNvSpPr/>
            <p:nvPr/>
          </p:nvSpPr>
          <p:spPr>
            <a:xfrm>
              <a:off x="6427800" y="380988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41"/>
            <p:cNvSpPr/>
            <p:nvPr/>
          </p:nvSpPr>
          <p:spPr>
            <a:xfrm>
              <a:off x="6351480" y="396252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42"/>
            <p:cNvSpPr/>
            <p:nvPr/>
          </p:nvSpPr>
          <p:spPr>
            <a:xfrm>
              <a:off x="6199200" y="411480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43"/>
            <p:cNvSpPr/>
            <p:nvPr/>
          </p:nvSpPr>
          <p:spPr>
            <a:xfrm>
              <a:off x="6046920" y="426708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44"/>
            <p:cNvSpPr/>
            <p:nvPr/>
          </p:nvSpPr>
          <p:spPr>
            <a:xfrm>
              <a:off x="5970600" y="441972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45"/>
            <p:cNvSpPr/>
            <p:nvPr/>
          </p:nvSpPr>
          <p:spPr>
            <a:xfrm>
              <a:off x="5818320" y="457200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46"/>
            <p:cNvSpPr/>
            <p:nvPr/>
          </p:nvSpPr>
          <p:spPr>
            <a:xfrm>
              <a:off x="5665680" y="4724280"/>
              <a:ext cx="25236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Freeform 47"/>
          <p:cNvSpPr/>
          <p:nvPr/>
        </p:nvSpPr>
        <p:spPr>
          <a:xfrm>
            <a:off x="2509920" y="2975040"/>
            <a:ext cx="4655880" cy="2543040"/>
          </a:xfrm>
          <a:custGeom>
            <a:avLst/>
            <a:gdLst>
              <a:gd name="textAreaLeft" fmla="*/ 0 w 4655880"/>
              <a:gd name="textAreaRight" fmla="*/ 4656240 w 4655880"/>
              <a:gd name="textAreaTop" fmla="*/ 0 h 2543040"/>
              <a:gd name="textAreaBottom" fmla="*/ 2543400 h 2543040"/>
            </a:gdLst>
            <a:ahLst/>
            <a:rect l="textAreaLeft" t="textAreaTop" r="textAreaRight" b="textAreaBottom"/>
            <a:pathLst>
              <a:path w="2933" h="1602">
                <a:moveTo>
                  <a:pt x="0" y="672"/>
                </a:moveTo>
                <a:lnTo>
                  <a:pt x="145" y="901"/>
                </a:lnTo>
                <a:lnTo>
                  <a:pt x="217" y="1008"/>
                </a:lnTo>
                <a:lnTo>
                  <a:pt x="289" y="1114"/>
                </a:lnTo>
                <a:lnTo>
                  <a:pt x="361" y="1209"/>
                </a:lnTo>
                <a:lnTo>
                  <a:pt x="434" y="1298"/>
                </a:lnTo>
                <a:lnTo>
                  <a:pt x="506" y="1377"/>
                </a:lnTo>
                <a:lnTo>
                  <a:pt x="578" y="1438"/>
                </a:lnTo>
                <a:lnTo>
                  <a:pt x="650" y="1489"/>
                </a:lnTo>
                <a:lnTo>
                  <a:pt x="715" y="1528"/>
                </a:lnTo>
                <a:lnTo>
                  <a:pt x="787" y="1561"/>
                </a:lnTo>
                <a:lnTo>
                  <a:pt x="852" y="1584"/>
                </a:lnTo>
                <a:lnTo>
                  <a:pt x="925" y="1595"/>
                </a:lnTo>
                <a:lnTo>
                  <a:pt x="997" y="1601"/>
                </a:lnTo>
                <a:lnTo>
                  <a:pt x="1076" y="1595"/>
                </a:lnTo>
                <a:lnTo>
                  <a:pt x="1156" y="1584"/>
                </a:lnTo>
                <a:lnTo>
                  <a:pt x="1242" y="1567"/>
                </a:lnTo>
                <a:lnTo>
                  <a:pt x="1336" y="1545"/>
                </a:lnTo>
                <a:lnTo>
                  <a:pt x="1437" y="1517"/>
                </a:lnTo>
                <a:lnTo>
                  <a:pt x="1538" y="1478"/>
                </a:lnTo>
                <a:lnTo>
                  <a:pt x="1647" y="1427"/>
                </a:lnTo>
                <a:lnTo>
                  <a:pt x="1755" y="1366"/>
                </a:lnTo>
                <a:lnTo>
                  <a:pt x="1863" y="1287"/>
                </a:lnTo>
                <a:lnTo>
                  <a:pt x="1972" y="1198"/>
                </a:lnTo>
                <a:lnTo>
                  <a:pt x="2087" y="1091"/>
                </a:lnTo>
                <a:lnTo>
                  <a:pt x="2203" y="963"/>
                </a:lnTo>
                <a:lnTo>
                  <a:pt x="2318" y="828"/>
                </a:lnTo>
                <a:lnTo>
                  <a:pt x="2441" y="677"/>
                </a:lnTo>
                <a:lnTo>
                  <a:pt x="2564" y="515"/>
                </a:lnTo>
                <a:lnTo>
                  <a:pt x="2686" y="347"/>
                </a:lnTo>
                <a:lnTo>
                  <a:pt x="2932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50"/>
          <p:cNvSpPr/>
          <p:nvPr/>
        </p:nvSpPr>
        <p:spPr>
          <a:xfrm>
            <a:off x="4896000" y="55022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er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51"/>
          <p:cNvSpPr/>
          <p:nvPr/>
        </p:nvSpPr>
        <p:spPr>
          <a:xfrm>
            <a:off x="5499000" y="5095800"/>
            <a:ext cx="270000" cy="457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54"/>
          <p:cNvSpPr/>
          <p:nvPr/>
        </p:nvSpPr>
        <p:spPr>
          <a:xfrm>
            <a:off x="1011960" y="1477800"/>
            <a:ext cx="118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55"/>
          <p:cNvSpPr/>
          <p:nvPr/>
        </p:nvSpPr>
        <p:spPr>
          <a:xfrm>
            <a:off x="7309440" y="589104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corto plazo de l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a curva de oferta tiene pendiente positiva debido a los rendimientos decreciente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a subida de precio hace que la producción adicional sea rentable y eleva los beneficios totales de la empresa porque se aplica a todas las unidades que produce ést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corto plazo de la empresa competitiv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spuesta de la empresa a la variación del precio de los factore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do varía el precio del producto, la empresa altera su nivel de producción para que el coste marginal de producción siga siendo igual al preci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producción a corto plazo de productos derivados del petróle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61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4"/>
          <p:cNvSpPr/>
          <p:nvPr/>
        </p:nvSpPr>
        <p:spPr>
          <a:xfrm>
            <a:off x="5029200" y="2514600"/>
            <a:ext cx="992160" cy="1297080"/>
          </a:xfrm>
          <a:custGeom>
            <a:avLst/>
            <a:gdLst>
              <a:gd name="textAreaLeft" fmla="*/ 0 w 992160"/>
              <a:gd name="textAreaRight" fmla="*/ 992520 w 992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625" h="817">
                <a:moveTo>
                  <a:pt x="0" y="816"/>
                </a:moveTo>
                <a:lnTo>
                  <a:pt x="624" y="816"/>
                </a:lnTo>
                <a:lnTo>
                  <a:pt x="624" y="0"/>
                </a:lnTo>
                <a:lnTo>
                  <a:pt x="480" y="336"/>
                </a:lnTo>
                <a:lnTo>
                  <a:pt x="240" y="576"/>
                </a:lnTo>
                <a:lnTo>
                  <a:pt x="48" y="720"/>
                </a:lnTo>
                <a:lnTo>
                  <a:pt x="0" y="816"/>
                </a:lnTo>
              </a:path>
            </a:pathLst>
          </a:custGeom>
          <a:solidFill>
            <a:srgbClr val="fbe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14"/>
          <p:cNvSpPr/>
          <p:nvPr/>
        </p:nvSpPr>
        <p:spPr>
          <a:xfrm>
            <a:off x="3348000" y="2209680"/>
            <a:ext cx="2827440" cy="2365560"/>
          </a:xfrm>
          <a:custGeom>
            <a:avLst/>
            <a:gdLst>
              <a:gd name="textAreaLeft" fmla="*/ 0 w 2827440"/>
              <a:gd name="textAreaRight" fmla="*/ 2827440 w 282744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781" h="1490">
                <a:moveTo>
                  <a:pt x="0" y="1489"/>
                </a:moveTo>
                <a:lnTo>
                  <a:pt x="324" y="1355"/>
                </a:lnTo>
                <a:lnTo>
                  <a:pt x="486" y="1282"/>
                </a:lnTo>
                <a:lnTo>
                  <a:pt x="635" y="1212"/>
                </a:lnTo>
                <a:lnTo>
                  <a:pt x="784" y="1134"/>
                </a:lnTo>
                <a:lnTo>
                  <a:pt x="921" y="1056"/>
                </a:lnTo>
                <a:lnTo>
                  <a:pt x="1052" y="973"/>
                </a:lnTo>
                <a:lnTo>
                  <a:pt x="1170" y="881"/>
                </a:lnTo>
                <a:lnTo>
                  <a:pt x="1276" y="784"/>
                </a:lnTo>
                <a:lnTo>
                  <a:pt x="1369" y="687"/>
                </a:lnTo>
                <a:lnTo>
                  <a:pt x="1456" y="581"/>
                </a:lnTo>
                <a:lnTo>
                  <a:pt x="1531" y="470"/>
                </a:lnTo>
                <a:lnTo>
                  <a:pt x="1600" y="355"/>
                </a:lnTo>
                <a:lnTo>
                  <a:pt x="1662" y="240"/>
                </a:lnTo>
                <a:lnTo>
                  <a:pt x="1780" y="0"/>
                </a:lnTo>
              </a:path>
            </a:pathLst>
          </a:custGeom>
          <a:noFill/>
          <a:ln cap="rnd" w="50760">
            <a:solidFill>
              <a:srgbClr val="99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5"/>
          <p:cNvSpPr/>
          <p:nvPr/>
        </p:nvSpPr>
        <p:spPr>
          <a:xfrm>
            <a:off x="5866560" y="1900080"/>
            <a:ext cx="660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9"/>
          <p:cNvSpPr/>
          <p:nvPr/>
        </p:nvSpPr>
        <p:spPr>
          <a:xfrm>
            <a:off x="4952880" y="3824280"/>
            <a:ext cx="0" cy="21826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20"/>
          <p:cNvSpPr/>
          <p:nvPr/>
        </p:nvSpPr>
        <p:spPr>
          <a:xfrm>
            <a:off x="4876920" y="37339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22"/>
          <p:cNvSpPr/>
          <p:nvPr/>
        </p:nvSpPr>
        <p:spPr>
          <a:xfrm>
            <a:off x="4724280" y="585792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3"/>
          <p:cNvSpPr/>
          <p:nvPr/>
        </p:nvSpPr>
        <p:spPr>
          <a:xfrm>
            <a:off x="6539040" y="1411200"/>
            <a:ext cx="2566800" cy="1163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7200" bIns="115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s costes de l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tores aumentan 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 desplaza haci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minuye 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24"/>
          <p:cNvSpPr/>
          <p:nvPr/>
        </p:nvSpPr>
        <p:spPr>
          <a:xfrm>
            <a:off x="5029200" y="5410080"/>
            <a:ext cx="839880" cy="534960"/>
          </a:xfrm>
          <a:custGeom>
            <a:avLst/>
            <a:gdLst>
              <a:gd name="textAreaLeft" fmla="*/ 0 w 839880"/>
              <a:gd name="textAreaRight" fmla="*/ 840240 w 83988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529" h="337">
                <a:moveTo>
                  <a:pt x="231" y="0"/>
                </a:moveTo>
                <a:lnTo>
                  <a:pt x="231" y="97"/>
                </a:lnTo>
                <a:lnTo>
                  <a:pt x="528" y="97"/>
                </a:lnTo>
                <a:lnTo>
                  <a:pt x="528" y="239"/>
                </a:lnTo>
                <a:lnTo>
                  <a:pt x="231" y="239"/>
                </a:lnTo>
                <a:lnTo>
                  <a:pt x="231" y="336"/>
                </a:lnTo>
                <a:lnTo>
                  <a:pt x="0" y="168"/>
                </a:lnTo>
                <a:lnTo>
                  <a:pt x="231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Oval 18"/>
          <p:cNvSpPr/>
          <p:nvPr/>
        </p:nvSpPr>
        <p:spPr>
          <a:xfrm>
            <a:off x="5943600" y="24382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33"/>
          <p:cNvSpPr/>
          <p:nvPr/>
        </p:nvSpPr>
        <p:spPr>
          <a:xfrm>
            <a:off x="6019920" y="2563920"/>
            <a:ext cx="0" cy="1112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Group 35"/>
          <p:cNvGrpSpPr/>
          <p:nvPr/>
        </p:nvGrpSpPr>
        <p:grpSpPr>
          <a:xfrm>
            <a:off x="3728880" y="2779560"/>
            <a:ext cx="3087000" cy="3513960"/>
            <a:chOff x="3728880" y="2779560"/>
            <a:chExt cx="3087000" cy="3513960"/>
          </a:xfrm>
        </p:grpSpPr>
        <p:sp>
          <p:nvSpPr>
            <p:cNvPr id="1273" name="Freeform 12"/>
            <p:cNvSpPr/>
            <p:nvPr/>
          </p:nvSpPr>
          <p:spPr>
            <a:xfrm>
              <a:off x="3728880" y="3197160"/>
              <a:ext cx="2675160" cy="2063880"/>
            </a:xfrm>
            <a:custGeom>
              <a:avLst/>
              <a:gdLst>
                <a:gd name="textAreaLeft" fmla="*/ 0 w 2675160"/>
                <a:gd name="textAreaRight" fmla="*/ 2675520 w 2675160"/>
                <a:gd name="textAreaTop" fmla="*/ 0 h 2063880"/>
                <a:gd name="textAreaBottom" fmla="*/ 2064240 h 2063880"/>
              </a:gdLst>
              <a:ahLst/>
              <a:rect l="textAreaLeft" t="textAreaTop" r="textAreaRight" b="textAreaBottom"/>
              <a:pathLst>
                <a:path w="1685" h="1300">
                  <a:moveTo>
                    <a:pt x="0" y="1299"/>
                  </a:moveTo>
                  <a:lnTo>
                    <a:pt x="310" y="1182"/>
                  </a:lnTo>
                  <a:lnTo>
                    <a:pt x="606" y="1055"/>
                  </a:lnTo>
                  <a:lnTo>
                    <a:pt x="742" y="992"/>
                  </a:lnTo>
                  <a:lnTo>
                    <a:pt x="877" y="923"/>
                  </a:lnTo>
                  <a:lnTo>
                    <a:pt x="1000" y="848"/>
                  </a:lnTo>
                  <a:lnTo>
                    <a:pt x="1110" y="769"/>
                  </a:lnTo>
                  <a:lnTo>
                    <a:pt x="1206" y="684"/>
                  </a:lnTo>
                  <a:lnTo>
                    <a:pt x="1297" y="594"/>
                  </a:lnTo>
                  <a:lnTo>
                    <a:pt x="1374" y="504"/>
                  </a:lnTo>
                  <a:lnTo>
                    <a:pt x="1445" y="408"/>
                  </a:lnTo>
                  <a:lnTo>
                    <a:pt x="1568" y="207"/>
                  </a:lnTo>
                  <a:lnTo>
                    <a:pt x="168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3"/>
            <p:cNvSpPr/>
            <p:nvPr/>
          </p:nvSpPr>
          <p:spPr>
            <a:xfrm>
              <a:off x="6155640" y="2779560"/>
              <a:ext cx="6602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Oval 16"/>
            <p:cNvSpPr/>
            <p:nvPr/>
          </p:nvSpPr>
          <p:spPr>
            <a:xfrm>
              <a:off x="5943600" y="37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7"/>
            <p:cNvSpPr/>
            <p:nvPr/>
          </p:nvSpPr>
          <p:spPr>
            <a:xfrm>
              <a:off x="6019920" y="3852720"/>
              <a:ext cx="0" cy="2154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21"/>
            <p:cNvSpPr/>
            <p:nvPr/>
          </p:nvSpPr>
          <p:spPr>
            <a:xfrm>
              <a:off x="5867280" y="585792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7"/>
          <p:cNvSpPr/>
          <p:nvPr/>
        </p:nvSpPr>
        <p:spPr>
          <a:xfrm>
            <a:off x="2203560" y="597204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8"/>
          <p:cNvSpPr/>
          <p:nvPr/>
        </p:nvSpPr>
        <p:spPr>
          <a:xfrm>
            <a:off x="1011960" y="1405080"/>
            <a:ext cx="1182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9"/>
          <p:cNvSpPr/>
          <p:nvPr/>
        </p:nvSpPr>
        <p:spPr>
          <a:xfrm>
            <a:off x="7346160" y="59086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Group 25"/>
          <p:cNvGrpSpPr/>
          <p:nvPr/>
        </p:nvGrpSpPr>
        <p:grpSpPr>
          <a:xfrm>
            <a:off x="1749600" y="3618000"/>
            <a:ext cx="5159160" cy="393840"/>
            <a:chOff x="1749600" y="3618000"/>
            <a:chExt cx="5159160" cy="393840"/>
          </a:xfrm>
        </p:grpSpPr>
        <p:sp>
          <p:nvSpPr>
            <p:cNvPr id="1285" name="Line 10"/>
            <p:cNvSpPr/>
            <p:nvPr/>
          </p:nvSpPr>
          <p:spPr>
            <a:xfrm>
              <a:off x="2236680" y="3809880"/>
              <a:ext cx="4672080" cy="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11"/>
            <p:cNvSpPr/>
            <p:nvPr/>
          </p:nvSpPr>
          <p:spPr>
            <a:xfrm>
              <a:off x="1749600" y="3618000"/>
              <a:ext cx="46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€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7" name="Text Box 36"/>
          <p:cNvSpPr/>
          <p:nvPr/>
        </p:nvSpPr>
        <p:spPr>
          <a:xfrm>
            <a:off x="2505240" y="1890720"/>
            <a:ext cx="289548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orro de la empresa debido a la reducció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nivel de producció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37"/>
          <p:cNvSpPr/>
          <p:nvPr/>
        </p:nvSpPr>
        <p:spPr>
          <a:xfrm>
            <a:off x="3846600" y="2917800"/>
            <a:ext cx="1949400" cy="53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producción a corto plazo de productos derivados del petróleo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6"/>
          <p:cNvSpPr/>
          <p:nvPr/>
        </p:nvSpPr>
        <p:spPr>
          <a:xfrm>
            <a:off x="2192400" y="168120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7"/>
          <p:cNvSpPr/>
          <p:nvPr/>
        </p:nvSpPr>
        <p:spPr>
          <a:xfrm>
            <a:off x="2203560" y="593712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8"/>
          <p:cNvSpPr/>
          <p:nvPr/>
        </p:nvSpPr>
        <p:spPr>
          <a:xfrm>
            <a:off x="663480" y="1228680"/>
            <a:ext cx="1257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barri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9"/>
          <p:cNvSpPr/>
          <p:nvPr/>
        </p:nvSpPr>
        <p:spPr>
          <a:xfrm>
            <a:off x="7371000" y="5595840"/>
            <a:ext cx="1769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arriles diario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128680" y="5959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10080" y="595944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2"/>
          <p:cNvSpPr/>
          <p:nvPr/>
        </p:nvSpPr>
        <p:spPr>
          <a:xfrm>
            <a:off x="38098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3"/>
          <p:cNvSpPr/>
          <p:nvPr/>
        </p:nvSpPr>
        <p:spPr>
          <a:xfrm>
            <a:off x="5091120" y="59594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4"/>
          <p:cNvSpPr/>
          <p:nvPr/>
        </p:nvSpPr>
        <p:spPr>
          <a:xfrm>
            <a:off x="6700680" y="59594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5"/>
          <p:cNvSpPr/>
          <p:nvPr/>
        </p:nvSpPr>
        <p:spPr>
          <a:xfrm>
            <a:off x="1824120" y="56340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6"/>
          <p:cNvSpPr/>
          <p:nvPr/>
        </p:nvSpPr>
        <p:spPr>
          <a:xfrm>
            <a:off x="1824120" y="4719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17"/>
          <p:cNvSpPr/>
          <p:nvPr/>
        </p:nvSpPr>
        <p:spPr>
          <a:xfrm>
            <a:off x="1824120" y="3728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18"/>
          <p:cNvSpPr/>
          <p:nvPr/>
        </p:nvSpPr>
        <p:spPr>
          <a:xfrm>
            <a:off x="1824120" y="28144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9"/>
          <p:cNvSpPr/>
          <p:nvPr/>
        </p:nvSpPr>
        <p:spPr>
          <a:xfrm>
            <a:off x="1824120" y="16714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34"/>
          <p:cNvGrpSpPr/>
          <p:nvPr/>
        </p:nvGrpSpPr>
        <p:grpSpPr>
          <a:xfrm>
            <a:off x="2209680" y="1747800"/>
            <a:ext cx="4490640" cy="3511440"/>
            <a:chOff x="2209680" y="1747800"/>
            <a:chExt cx="4490640" cy="3511440"/>
          </a:xfrm>
        </p:grpSpPr>
        <p:grpSp>
          <p:nvGrpSpPr>
            <p:cNvPr id="1309" name="Group 24"/>
            <p:cNvGrpSpPr/>
            <p:nvPr/>
          </p:nvGrpSpPr>
          <p:grpSpPr>
            <a:xfrm>
              <a:off x="2209680" y="2033280"/>
              <a:ext cx="4470480" cy="3225960"/>
              <a:chOff x="2209680" y="2033280"/>
              <a:chExt cx="4470480" cy="3225960"/>
            </a:xfrm>
          </p:grpSpPr>
          <p:sp>
            <p:nvSpPr>
              <p:cNvPr id="1310" name="Freeform 25"/>
              <p:cNvSpPr/>
              <p:nvPr/>
            </p:nvSpPr>
            <p:spPr>
              <a:xfrm>
                <a:off x="2209680" y="3962520"/>
                <a:ext cx="2668680" cy="1296720"/>
              </a:xfrm>
              <a:custGeom>
                <a:avLst/>
                <a:gdLst>
                  <a:gd name="textAreaLeft" fmla="*/ 0 w 2668680"/>
                  <a:gd name="textAreaRight" fmla="*/ 2669040 w 2668680"/>
                  <a:gd name="textAreaTop" fmla="*/ 0 h 1296720"/>
                  <a:gd name="textAreaBottom" fmla="*/ 1296720 h 1296720"/>
                </a:gdLst>
                <a:ahLst/>
                <a:rect l="textAreaLeft" t="textAreaTop" r="textAreaRight" b="textAreaBottom"/>
                <a:pathLst>
                  <a:path w="1681" h="817">
                    <a:moveTo>
                      <a:pt x="0" y="816"/>
                    </a:moveTo>
                    <a:lnTo>
                      <a:pt x="1632" y="624"/>
                    </a:lnTo>
                    <a:lnTo>
                      <a:pt x="1680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26"/>
              <p:cNvSpPr/>
              <p:nvPr/>
            </p:nvSpPr>
            <p:spPr>
              <a:xfrm>
                <a:off x="4876920" y="3354480"/>
                <a:ext cx="1527120" cy="610920"/>
              </a:xfrm>
              <a:custGeom>
                <a:avLst/>
                <a:gdLst>
                  <a:gd name="textAreaLeft" fmla="*/ 0 w 1527120"/>
                  <a:gd name="textAreaRight" fmla="*/ 1527480 w 1527120"/>
                  <a:gd name="textAreaTop" fmla="*/ 0 h 610920"/>
                  <a:gd name="textAreaBottom" fmla="*/ 611280 h 610920"/>
                </a:gdLst>
                <a:ahLst/>
                <a:rect l="textAreaLeft" t="textAreaTop" r="textAreaRight" b="textAreaBottom"/>
                <a:pathLst>
                  <a:path w="962" h="385">
                    <a:moveTo>
                      <a:pt x="0" y="384"/>
                    </a:moveTo>
                    <a:lnTo>
                      <a:pt x="154" y="372"/>
                    </a:lnTo>
                    <a:lnTo>
                      <a:pt x="309" y="356"/>
                    </a:lnTo>
                    <a:lnTo>
                      <a:pt x="451" y="328"/>
                    </a:lnTo>
                    <a:lnTo>
                      <a:pt x="516" y="308"/>
                    </a:lnTo>
                    <a:lnTo>
                      <a:pt x="574" y="288"/>
                    </a:lnTo>
                    <a:lnTo>
                      <a:pt x="632" y="260"/>
                    </a:lnTo>
                    <a:lnTo>
                      <a:pt x="684" y="232"/>
                    </a:lnTo>
                    <a:lnTo>
                      <a:pt x="787" y="164"/>
                    </a:lnTo>
                    <a:lnTo>
                      <a:pt x="877" y="84"/>
                    </a:lnTo>
                    <a:lnTo>
                      <a:pt x="96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27"/>
              <p:cNvSpPr/>
              <p:nvPr/>
            </p:nvSpPr>
            <p:spPr>
              <a:xfrm flipV="1">
                <a:off x="6427800" y="2033280"/>
                <a:ext cx="252360" cy="134460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3" name="Rectangle 28"/>
            <p:cNvSpPr/>
            <p:nvPr/>
          </p:nvSpPr>
          <p:spPr>
            <a:xfrm>
              <a:off x="5938200" y="1747800"/>
              <a:ext cx="76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Rectangle 29"/>
          <p:cNvSpPr/>
          <p:nvPr/>
        </p:nvSpPr>
        <p:spPr>
          <a:xfrm>
            <a:off x="6832440" y="3924360"/>
            <a:ext cx="20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5" name="Group 35"/>
          <p:cNvGrpSpPr/>
          <p:nvPr/>
        </p:nvGrpSpPr>
        <p:grpSpPr>
          <a:xfrm>
            <a:off x="2206800" y="1379520"/>
            <a:ext cx="6328800" cy="4546440"/>
            <a:chOff x="2206800" y="1379520"/>
            <a:chExt cx="6328800" cy="4546440"/>
          </a:xfrm>
        </p:grpSpPr>
        <p:sp>
          <p:nvSpPr>
            <p:cNvPr id="1316" name="Line 20"/>
            <p:cNvSpPr/>
            <p:nvPr/>
          </p:nvSpPr>
          <p:spPr>
            <a:xfrm flipV="1">
              <a:off x="4859280" y="4427640"/>
              <a:ext cx="0" cy="1482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21"/>
            <p:cNvSpPr/>
            <p:nvPr/>
          </p:nvSpPr>
          <p:spPr>
            <a:xfrm flipV="1">
              <a:off x="6330960" y="3483000"/>
              <a:ext cx="0" cy="2442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22"/>
            <p:cNvSpPr/>
            <p:nvPr/>
          </p:nvSpPr>
          <p:spPr>
            <a:xfrm>
              <a:off x="2206800" y="4400640"/>
              <a:ext cx="2639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23"/>
            <p:cNvSpPr/>
            <p:nvPr/>
          </p:nvSpPr>
          <p:spPr>
            <a:xfrm>
              <a:off x="2230560" y="3422520"/>
              <a:ext cx="4087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30"/>
            <p:cNvSpPr/>
            <p:nvPr/>
          </p:nvSpPr>
          <p:spPr>
            <a:xfrm>
              <a:off x="6917040" y="3524400"/>
              <a:ext cx="1618560" cy="11862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¿Cuánto se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produciría si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P =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23€ o</a:t>
              </a: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s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P 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= 24€-25€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31"/>
            <p:cNvSpPr/>
            <p:nvPr/>
          </p:nvSpPr>
          <p:spPr>
            <a:xfrm>
              <a:off x="2914920" y="1379520"/>
              <a:ext cx="305100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 CM de producir product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rivados del petróleo a parti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 crudo aumenta acusadamen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varios niveles de produ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ando la refinería pasa de un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dad de tratamiento a otra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Oval 32"/>
            <p:cNvSpPr/>
            <p:nvPr/>
          </p:nvSpPr>
          <p:spPr>
            <a:xfrm>
              <a:off x="4762440" y="4321080"/>
              <a:ext cx="141480" cy="14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Oval 33"/>
            <p:cNvSpPr/>
            <p:nvPr/>
          </p:nvSpPr>
          <p:spPr>
            <a:xfrm>
              <a:off x="6280200" y="3351240"/>
              <a:ext cx="141120" cy="141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producción a corto plazo de productos derivados del petróle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Un CMC escalonado muestra distintos procesos de producción (coste) con distintos niveles de capacidad.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n una función de CM escalonada, las pequeñas variaciones producidas en el precio no provocarían una variación de la producción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curva de oferta del mercado a corto plazo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uestra la cantidad de producción que obtiene la industria a corto plazo a cada uno de los precios posibl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sideremos un mercado competitivo con tres empresas para simplificar el gráf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oferta de la industria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Group 60"/>
          <p:cNvGrpSpPr/>
          <p:nvPr/>
        </p:nvGrpSpPr>
        <p:grpSpPr>
          <a:xfrm>
            <a:off x="3722760" y="1647720"/>
            <a:ext cx="1492920" cy="3178440"/>
            <a:chOff x="3722760" y="1647720"/>
            <a:chExt cx="1492920" cy="3178440"/>
          </a:xfrm>
        </p:grpSpPr>
        <p:sp>
          <p:nvSpPr>
            <p:cNvPr id="1337" name="Freeform 10"/>
            <p:cNvSpPr/>
            <p:nvPr/>
          </p:nvSpPr>
          <p:spPr>
            <a:xfrm>
              <a:off x="3722760" y="2101680"/>
              <a:ext cx="1452600" cy="27244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2724480"/>
                <a:gd name="textAreaBottom" fmla="*/ 2724840 h 2724480"/>
              </a:gdLst>
              <a:ahLst/>
              <a:rect l="textAreaLeft" t="textAreaTop" r="textAreaRight" b="textAreaBottom"/>
              <a:pathLst>
                <a:path w="562" h="1411">
                  <a:moveTo>
                    <a:pt x="15" y="1388"/>
                  </a:moveTo>
                  <a:lnTo>
                    <a:pt x="10" y="1393"/>
                  </a:lnTo>
                  <a:lnTo>
                    <a:pt x="5" y="1406"/>
                  </a:lnTo>
                  <a:lnTo>
                    <a:pt x="0" y="1410"/>
                  </a:lnTo>
                  <a:lnTo>
                    <a:pt x="5" y="1410"/>
                  </a:lnTo>
                  <a:lnTo>
                    <a:pt x="5" y="1402"/>
                  </a:lnTo>
                  <a:lnTo>
                    <a:pt x="15" y="1388"/>
                  </a:lnTo>
                  <a:lnTo>
                    <a:pt x="31" y="1367"/>
                  </a:lnTo>
                  <a:lnTo>
                    <a:pt x="51" y="1336"/>
                  </a:lnTo>
                  <a:lnTo>
                    <a:pt x="77" y="1301"/>
                  </a:lnTo>
                  <a:lnTo>
                    <a:pt x="108" y="1261"/>
                  </a:lnTo>
                  <a:lnTo>
                    <a:pt x="165" y="1174"/>
                  </a:lnTo>
                  <a:lnTo>
                    <a:pt x="216" y="1082"/>
                  </a:lnTo>
                  <a:lnTo>
                    <a:pt x="262" y="999"/>
                  </a:lnTo>
                  <a:lnTo>
                    <a:pt x="304" y="915"/>
                  </a:lnTo>
                  <a:lnTo>
                    <a:pt x="324" y="867"/>
                  </a:lnTo>
                  <a:lnTo>
                    <a:pt x="345" y="815"/>
                  </a:lnTo>
                  <a:lnTo>
                    <a:pt x="365" y="762"/>
                  </a:lnTo>
                  <a:lnTo>
                    <a:pt x="386" y="697"/>
                  </a:lnTo>
                  <a:lnTo>
                    <a:pt x="407" y="626"/>
                  </a:lnTo>
                  <a:lnTo>
                    <a:pt x="427" y="548"/>
                  </a:lnTo>
                  <a:lnTo>
                    <a:pt x="453" y="464"/>
                  </a:lnTo>
                  <a:lnTo>
                    <a:pt x="473" y="377"/>
                  </a:lnTo>
                  <a:lnTo>
                    <a:pt x="520" y="193"/>
                  </a:lnTo>
                  <a:lnTo>
                    <a:pt x="561" y="0"/>
                  </a:lnTo>
                </a:path>
              </a:pathLst>
            </a:custGeom>
            <a:noFill/>
            <a:ln cap="rnd" w="5076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43"/>
            <p:cNvSpPr/>
            <p:nvPr/>
          </p:nvSpPr>
          <p:spPr>
            <a:xfrm>
              <a:off x="4606200" y="1647720"/>
              <a:ext cx="60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13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4"/>
          <p:cNvSpPr/>
          <p:nvPr/>
        </p:nvSpPr>
        <p:spPr>
          <a:xfrm>
            <a:off x="2203560" y="5954760"/>
            <a:ext cx="628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15"/>
          <p:cNvSpPr/>
          <p:nvPr/>
        </p:nvSpPr>
        <p:spPr>
          <a:xfrm>
            <a:off x="831600" y="1670040"/>
            <a:ext cx="1365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u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16"/>
          <p:cNvSpPr/>
          <p:nvPr/>
        </p:nvSpPr>
        <p:spPr>
          <a:xfrm>
            <a:off x="196056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17"/>
          <p:cNvSpPr/>
          <p:nvPr/>
        </p:nvSpPr>
        <p:spPr>
          <a:xfrm>
            <a:off x="250992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18"/>
          <p:cNvSpPr/>
          <p:nvPr/>
        </p:nvSpPr>
        <p:spPr>
          <a:xfrm>
            <a:off x="304308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19"/>
          <p:cNvSpPr/>
          <p:nvPr/>
        </p:nvSpPr>
        <p:spPr>
          <a:xfrm>
            <a:off x="403380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Rectangle 20"/>
          <p:cNvSpPr/>
          <p:nvPr/>
        </p:nvSpPr>
        <p:spPr>
          <a:xfrm>
            <a:off x="4642920" y="59626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Rectangle 21"/>
          <p:cNvSpPr/>
          <p:nvPr/>
        </p:nvSpPr>
        <p:spPr>
          <a:xfrm>
            <a:off x="334800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22"/>
          <p:cNvSpPr/>
          <p:nvPr/>
        </p:nvSpPr>
        <p:spPr>
          <a:xfrm>
            <a:off x="3805200" y="59626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23"/>
          <p:cNvSpPr/>
          <p:nvPr/>
        </p:nvSpPr>
        <p:spPr>
          <a:xfrm>
            <a:off x="6624360" y="59626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24"/>
          <p:cNvSpPr/>
          <p:nvPr/>
        </p:nvSpPr>
        <p:spPr>
          <a:xfrm>
            <a:off x="8071920" y="59626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Group 58"/>
          <p:cNvGrpSpPr/>
          <p:nvPr/>
        </p:nvGrpSpPr>
        <p:grpSpPr>
          <a:xfrm>
            <a:off x="2592360" y="1595520"/>
            <a:ext cx="1294560" cy="2751120"/>
            <a:chOff x="2592360" y="1595520"/>
            <a:chExt cx="1294560" cy="2751120"/>
          </a:xfrm>
        </p:grpSpPr>
        <p:sp>
          <p:nvSpPr>
            <p:cNvPr id="1354" name="Freeform 27"/>
            <p:cNvSpPr/>
            <p:nvPr/>
          </p:nvSpPr>
          <p:spPr>
            <a:xfrm>
              <a:off x="2592360" y="2057400"/>
              <a:ext cx="915840" cy="228924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577" h="1442">
                  <a:moveTo>
                    <a:pt x="0" y="1441"/>
                  </a:moveTo>
                  <a:lnTo>
                    <a:pt x="49" y="1375"/>
                  </a:lnTo>
                  <a:lnTo>
                    <a:pt x="95" y="1310"/>
                  </a:lnTo>
                  <a:lnTo>
                    <a:pt x="145" y="1235"/>
                  </a:lnTo>
                  <a:lnTo>
                    <a:pt x="191" y="1152"/>
                  </a:lnTo>
                  <a:lnTo>
                    <a:pt x="240" y="1064"/>
                  </a:lnTo>
                  <a:lnTo>
                    <a:pt x="286" y="972"/>
                  </a:lnTo>
                  <a:lnTo>
                    <a:pt x="311" y="924"/>
                  </a:lnTo>
                  <a:lnTo>
                    <a:pt x="336" y="867"/>
                  </a:lnTo>
                  <a:lnTo>
                    <a:pt x="357" y="810"/>
                  </a:lnTo>
                  <a:lnTo>
                    <a:pt x="382" y="740"/>
                  </a:lnTo>
                  <a:lnTo>
                    <a:pt x="406" y="666"/>
                  </a:lnTo>
                  <a:lnTo>
                    <a:pt x="431" y="583"/>
                  </a:lnTo>
                  <a:lnTo>
                    <a:pt x="456" y="495"/>
                  </a:lnTo>
                  <a:lnTo>
                    <a:pt x="481" y="403"/>
                  </a:lnTo>
                  <a:lnTo>
                    <a:pt x="530" y="206"/>
                  </a:lnTo>
                  <a:lnTo>
                    <a:pt x="576" y="0"/>
                  </a:lnTo>
                </a:path>
              </a:pathLst>
            </a:custGeom>
            <a:noFill/>
            <a:ln cap="rnd" w="5076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28"/>
            <p:cNvSpPr/>
            <p:nvPr/>
          </p:nvSpPr>
          <p:spPr>
            <a:xfrm>
              <a:off x="3277440" y="1595520"/>
              <a:ext cx="60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56"/>
          <p:cNvGrpSpPr/>
          <p:nvPr/>
        </p:nvGrpSpPr>
        <p:grpSpPr>
          <a:xfrm>
            <a:off x="3736800" y="1366920"/>
            <a:ext cx="5279040" cy="3436920"/>
            <a:chOff x="3736800" y="1366920"/>
            <a:chExt cx="5279040" cy="3436920"/>
          </a:xfrm>
        </p:grpSpPr>
        <p:sp>
          <p:nvSpPr>
            <p:cNvPr id="1357" name="Line 8"/>
            <p:cNvSpPr/>
            <p:nvPr/>
          </p:nvSpPr>
          <p:spPr>
            <a:xfrm>
              <a:off x="4218120" y="4343400"/>
              <a:ext cx="2614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3736800" y="4341960"/>
              <a:ext cx="457200" cy="461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288" h="291">
                  <a:moveTo>
                    <a:pt x="0" y="290"/>
                  </a:moveTo>
                  <a:lnTo>
                    <a:pt x="88" y="203"/>
                  </a:lnTo>
                  <a:lnTo>
                    <a:pt x="169" y="116"/>
                  </a:lnTo>
                  <a:lnTo>
                    <a:pt x="207" y="82"/>
                  </a:lnTo>
                  <a:lnTo>
                    <a:pt x="236" y="48"/>
                  </a:lnTo>
                  <a:lnTo>
                    <a:pt x="266" y="19"/>
                  </a:lnTo>
                  <a:lnTo>
                    <a:pt x="287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6"/>
            <p:cNvSpPr/>
            <p:nvPr/>
          </p:nvSpPr>
          <p:spPr>
            <a:xfrm>
              <a:off x="6864480" y="1752480"/>
              <a:ext cx="2130120" cy="2594160"/>
            </a:xfrm>
            <a:custGeom>
              <a:avLst/>
              <a:gdLst>
                <a:gd name="textAreaLeft" fmla="*/ 0 w 2130120"/>
                <a:gd name="textAreaRight" fmla="*/ 2130480 w 2130120"/>
                <a:gd name="textAreaTop" fmla="*/ 0 h 2594160"/>
                <a:gd name="textAreaBottom" fmla="*/ 2594520 h 2594160"/>
              </a:gdLst>
              <a:ahLst/>
              <a:rect l="textAreaLeft" t="textAreaTop" r="textAreaRight" b="textAreaBottom"/>
              <a:pathLst>
                <a:path w="1342" h="1634">
                  <a:moveTo>
                    <a:pt x="0" y="1633"/>
                  </a:moveTo>
                  <a:lnTo>
                    <a:pt x="253" y="1432"/>
                  </a:lnTo>
                  <a:lnTo>
                    <a:pt x="498" y="1226"/>
                  </a:lnTo>
                  <a:lnTo>
                    <a:pt x="725" y="1020"/>
                  </a:lnTo>
                  <a:lnTo>
                    <a:pt x="815" y="919"/>
                  </a:lnTo>
                  <a:lnTo>
                    <a:pt x="906" y="814"/>
                  </a:lnTo>
                  <a:lnTo>
                    <a:pt x="988" y="713"/>
                  </a:lnTo>
                  <a:lnTo>
                    <a:pt x="1051" y="613"/>
                  </a:lnTo>
                  <a:lnTo>
                    <a:pt x="1169" y="407"/>
                  </a:lnTo>
                  <a:lnTo>
                    <a:pt x="1259" y="205"/>
                  </a:lnTo>
                  <a:lnTo>
                    <a:pt x="1341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49"/>
            <p:cNvSpPr/>
            <p:nvPr/>
          </p:nvSpPr>
          <p:spPr>
            <a:xfrm>
              <a:off x="8682120" y="136692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32"/>
            <p:cNvSpPr/>
            <p:nvPr/>
          </p:nvSpPr>
          <p:spPr>
            <a:xfrm>
              <a:off x="5539320" y="1373040"/>
              <a:ext cx="2444760" cy="1305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curva de oferta de l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ustria a corto plazo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 la suma horizont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las curvas de ofert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 todas las empresas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Rectangle 34"/>
          <p:cNvSpPr/>
          <p:nvPr/>
        </p:nvSpPr>
        <p:spPr>
          <a:xfrm>
            <a:off x="7084800" y="5913360"/>
            <a:ext cx="1159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Group 59"/>
          <p:cNvGrpSpPr/>
          <p:nvPr/>
        </p:nvGrpSpPr>
        <p:grpSpPr>
          <a:xfrm>
            <a:off x="3273480" y="1595520"/>
            <a:ext cx="1222920" cy="2751120"/>
            <a:chOff x="3273480" y="1595520"/>
            <a:chExt cx="1222920" cy="2751120"/>
          </a:xfrm>
        </p:grpSpPr>
        <p:sp>
          <p:nvSpPr>
            <p:cNvPr id="1364" name="Freeform 37"/>
            <p:cNvSpPr/>
            <p:nvPr/>
          </p:nvSpPr>
          <p:spPr>
            <a:xfrm>
              <a:off x="3273480" y="2057400"/>
              <a:ext cx="920520" cy="228924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580" h="1442">
                  <a:moveTo>
                    <a:pt x="0" y="1441"/>
                  </a:moveTo>
                  <a:lnTo>
                    <a:pt x="51" y="1375"/>
                  </a:lnTo>
                  <a:lnTo>
                    <a:pt x="97" y="1310"/>
                  </a:lnTo>
                  <a:lnTo>
                    <a:pt x="148" y="1235"/>
                  </a:lnTo>
                  <a:lnTo>
                    <a:pt x="194" y="1152"/>
                  </a:lnTo>
                  <a:lnTo>
                    <a:pt x="241" y="1064"/>
                  </a:lnTo>
                  <a:lnTo>
                    <a:pt x="292" y="972"/>
                  </a:lnTo>
                  <a:lnTo>
                    <a:pt x="313" y="924"/>
                  </a:lnTo>
                  <a:lnTo>
                    <a:pt x="338" y="867"/>
                  </a:lnTo>
                  <a:lnTo>
                    <a:pt x="359" y="810"/>
                  </a:lnTo>
                  <a:lnTo>
                    <a:pt x="385" y="740"/>
                  </a:lnTo>
                  <a:lnTo>
                    <a:pt x="410" y="666"/>
                  </a:lnTo>
                  <a:lnTo>
                    <a:pt x="431" y="583"/>
                  </a:lnTo>
                  <a:lnTo>
                    <a:pt x="456" y="495"/>
                  </a:lnTo>
                  <a:lnTo>
                    <a:pt x="482" y="403"/>
                  </a:lnTo>
                  <a:lnTo>
                    <a:pt x="533" y="206"/>
                  </a:lnTo>
                  <a:lnTo>
                    <a:pt x="579" y="0"/>
                  </a:lnTo>
                </a:path>
              </a:pathLst>
            </a:custGeom>
            <a:noFill/>
            <a:ln cap="rnd" w="5076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40"/>
            <p:cNvSpPr/>
            <p:nvPr/>
          </p:nvSpPr>
          <p:spPr>
            <a:xfrm>
              <a:off x="3886920" y="1595520"/>
              <a:ext cx="60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55"/>
          <p:cNvGrpSpPr/>
          <p:nvPr/>
        </p:nvGrpSpPr>
        <p:grpSpPr>
          <a:xfrm>
            <a:off x="1737360" y="2814480"/>
            <a:ext cx="6644520" cy="3192480"/>
            <a:chOff x="1737360" y="2814480"/>
            <a:chExt cx="6644520" cy="3192480"/>
          </a:xfrm>
        </p:grpSpPr>
        <p:sp>
          <p:nvSpPr>
            <p:cNvPr id="1367" name="Oval 45"/>
            <p:cNvSpPr/>
            <p:nvPr/>
          </p:nvSpPr>
          <p:spPr>
            <a:xfrm>
              <a:off x="3657600" y="4724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4"/>
            <p:cNvSpPr/>
            <p:nvPr/>
          </p:nvSpPr>
          <p:spPr>
            <a:xfrm>
              <a:off x="8305920" y="3062160"/>
              <a:ext cx="0" cy="294480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5"/>
            <p:cNvSpPr/>
            <p:nvPr/>
          </p:nvSpPr>
          <p:spPr>
            <a:xfrm>
              <a:off x="6858000" y="4357800"/>
              <a:ext cx="0" cy="164916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6"/>
            <p:cNvSpPr/>
            <p:nvPr/>
          </p:nvSpPr>
          <p:spPr>
            <a:xfrm>
              <a:off x="487692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7"/>
            <p:cNvSpPr/>
            <p:nvPr/>
          </p:nvSpPr>
          <p:spPr>
            <a:xfrm>
              <a:off x="4191120" y="4357800"/>
              <a:ext cx="0" cy="1649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11"/>
            <p:cNvSpPr/>
            <p:nvPr/>
          </p:nvSpPr>
          <p:spPr>
            <a:xfrm>
              <a:off x="2224080" y="4343400"/>
              <a:ext cx="188280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25"/>
            <p:cNvSpPr/>
            <p:nvPr/>
          </p:nvSpPr>
          <p:spPr>
            <a:xfrm>
              <a:off x="1737360" y="45324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26"/>
            <p:cNvSpPr/>
            <p:nvPr/>
          </p:nvSpPr>
          <p:spPr>
            <a:xfrm>
              <a:off x="1737360" y="28144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29"/>
            <p:cNvSpPr/>
            <p:nvPr/>
          </p:nvSpPr>
          <p:spPr>
            <a:xfrm>
              <a:off x="2590920" y="4433760"/>
              <a:ext cx="0" cy="1573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30"/>
            <p:cNvSpPr/>
            <p:nvPr/>
          </p:nvSpPr>
          <p:spPr>
            <a:xfrm>
              <a:off x="251460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31"/>
            <p:cNvSpPr/>
            <p:nvPr/>
          </p:nvSpPr>
          <p:spPr>
            <a:xfrm>
              <a:off x="327672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33"/>
            <p:cNvSpPr/>
            <p:nvPr/>
          </p:nvSpPr>
          <p:spPr>
            <a:xfrm>
              <a:off x="2224080" y="3048120"/>
              <a:ext cx="599904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35"/>
            <p:cNvSpPr/>
            <p:nvPr/>
          </p:nvSpPr>
          <p:spPr>
            <a:xfrm>
              <a:off x="32004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36"/>
            <p:cNvSpPr/>
            <p:nvPr/>
          </p:nvSpPr>
          <p:spPr>
            <a:xfrm>
              <a:off x="1737360" y="40338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ff33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38"/>
            <p:cNvSpPr/>
            <p:nvPr/>
          </p:nvSpPr>
          <p:spPr>
            <a:xfrm>
              <a:off x="411480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39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41"/>
            <p:cNvSpPr/>
            <p:nvPr/>
          </p:nvSpPr>
          <p:spPr>
            <a:xfrm>
              <a:off x="320040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42"/>
            <p:cNvSpPr/>
            <p:nvPr/>
          </p:nvSpPr>
          <p:spPr>
            <a:xfrm>
              <a:off x="38862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44"/>
            <p:cNvSpPr/>
            <p:nvPr/>
          </p:nvSpPr>
          <p:spPr>
            <a:xfrm>
              <a:off x="2147760" y="4800600"/>
              <a:ext cx="1484280" cy="0"/>
            </a:xfrm>
            <a:prstGeom prst="line">
              <a:avLst/>
            </a:prstGeom>
            <a:ln w="255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47"/>
            <p:cNvSpPr/>
            <p:nvPr/>
          </p:nvSpPr>
          <p:spPr>
            <a:xfrm>
              <a:off x="8229600" y="2971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48"/>
            <p:cNvSpPr/>
            <p:nvPr/>
          </p:nvSpPr>
          <p:spPr>
            <a:xfrm>
              <a:off x="6781680" y="42670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Rectangle 57"/>
          <p:cNvSpPr/>
          <p:nvPr/>
        </p:nvSpPr>
        <p:spPr>
          <a:xfrm>
            <a:off x="5036760" y="4548240"/>
            <a:ext cx="3007080" cy="1305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gunta: Si la 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creciente aumenta los cos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 los factores, ¿qué efec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tendrá en la curva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ferta del mercad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asticidad de la oferta del mercad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8"/>
          <p:cNvGrpSpPr/>
          <p:nvPr/>
        </p:nvGrpSpPr>
        <p:grpSpPr>
          <a:xfrm>
            <a:off x="1657440" y="2946240"/>
            <a:ext cx="5821200" cy="952560"/>
            <a:chOff x="1657440" y="2946240"/>
            <a:chExt cx="5821200" cy="952560"/>
          </a:xfrm>
        </p:grpSpPr>
        <p:sp>
          <p:nvSpPr>
            <p:cNvPr id="1395" name="Rectangle 7"/>
            <p:cNvSpPr/>
            <p:nvPr/>
          </p:nvSpPr>
          <p:spPr>
            <a:xfrm>
              <a:off x="1657440" y="2946240"/>
              <a:ext cx="5821200" cy="952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6" name="Object 6"/>
                <p:cNvSpPr txBox="1"/>
                <p:nvPr/>
              </p:nvSpPr>
              <p:spPr>
                <a:xfrm>
                  <a:off x="1709640" y="2955600"/>
                  <a:ext cx="560664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ΔQ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f>
                        <m:fPr>
                          <m:type m:val="lin"/>
                        </m:fPr>
                        <m:num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</m:den>
                      </m:f>
                      <m:f>
                        <m:fPr>
                          <m:type m:val="lin"/>
                        </m:fPr>
                        <m:num>
                          <m:r>
                            <m:t xml:space="preserve">Δ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ferta perfectamente inelástica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surge cuando la planta y el equipo de la industria se utilizan tanto que sólo es posible aumentar la producción construyendo nuevas planta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oferta perfectamente elástica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rge cuando los costes marginales son constant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mercados perfectamente competitiv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empresas son precio-aceptant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empresa vende una proporción suficientemente pequeña de la producción total del mercado, por lo tanto, no pueden influir en el precio de merc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ada consumidor compra una proporción tan pequeña de la producción total de la industria que no influye en el precio de merc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scriba un ejemplo de una oferta perfectamente inelástic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 el C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umenta rápidamente, ¿la oferta sería más o menos elástica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industria mundial de cobre (1999)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08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3"/>
          <p:cNvSpPr/>
          <p:nvPr/>
        </p:nvSpPr>
        <p:spPr>
          <a:xfrm>
            <a:off x="974880" y="1292400"/>
            <a:ext cx="78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371760"/>
                <a:tab algn="ct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ción an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e marg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3371760"/>
                <a:tab algn="ct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ís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les de toneladas métrica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euros por libr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4"/>
          <p:cNvSpPr/>
          <p:nvPr/>
        </p:nvSpPr>
        <p:spPr>
          <a:xfrm>
            <a:off x="781200" y="2152800"/>
            <a:ext cx="7905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5"/>
          <p:cNvSpPr/>
          <p:nvPr/>
        </p:nvSpPr>
        <p:spPr>
          <a:xfrm>
            <a:off x="1089000" y="2244600"/>
            <a:ext cx="77025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6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6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on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s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s Uni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8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7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r" pos="36576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mb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,5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oferta mundial de cobre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3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4"/>
          <p:cNvSpPr/>
          <p:nvPr/>
        </p:nvSpPr>
        <p:spPr>
          <a:xfrm>
            <a:off x="2209680" y="1420920"/>
            <a:ext cx="0" cy="421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5"/>
          <p:cNvSpPr/>
          <p:nvPr/>
        </p:nvSpPr>
        <p:spPr>
          <a:xfrm>
            <a:off x="2214720" y="5630760"/>
            <a:ext cx="56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Rectangle 6"/>
          <p:cNvSpPr/>
          <p:nvPr/>
        </p:nvSpPr>
        <p:spPr>
          <a:xfrm>
            <a:off x="3089880" y="5850000"/>
            <a:ext cx="478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ción (miles de toneladas métrica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7"/>
          <p:cNvSpPr/>
          <p:nvPr/>
        </p:nvSpPr>
        <p:spPr>
          <a:xfrm>
            <a:off x="228960" y="1339920"/>
            <a:ext cx="1935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uros por libr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8"/>
          <p:cNvSpPr/>
          <p:nvPr/>
        </p:nvSpPr>
        <p:spPr>
          <a:xfrm>
            <a:off x="2081160" y="5661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9"/>
          <p:cNvSpPr/>
          <p:nvPr/>
        </p:nvSpPr>
        <p:spPr>
          <a:xfrm>
            <a:off x="3110040" y="5661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10"/>
          <p:cNvSpPr/>
          <p:nvPr/>
        </p:nvSpPr>
        <p:spPr>
          <a:xfrm>
            <a:off x="4138920" y="5661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11"/>
          <p:cNvSpPr/>
          <p:nvPr/>
        </p:nvSpPr>
        <p:spPr>
          <a:xfrm>
            <a:off x="5167440" y="5661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12"/>
          <p:cNvSpPr/>
          <p:nvPr/>
        </p:nvSpPr>
        <p:spPr>
          <a:xfrm>
            <a:off x="6196320" y="56610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13"/>
          <p:cNvSpPr/>
          <p:nvPr/>
        </p:nvSpPr>
        <p:spPr>
          <a:xfrm>
            <a:off x="7224840" y="5661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14"/>
          <p:cNvSpPr/>
          <p:nvPr/>
        </p:nvSpPr>
        <p:spPr>
          <a:xfrm>
            <a:off x="1643400" y="54514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15"/>
          <p:cNvSpPr/>
          <p:nvPr/>
        </p:nvSpPr>
        <p:spPr>
          <a:xfrm>
            <a:off x="1643400" y="47768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16"/>
          <p:cNvSpPr/>
          <p:nvPr/>
        </p:nvSpPr>
        <p:spPr>
          <a:xfrm>
            <a:off x="1643400" y="4102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6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7"/>
          <p:cNvSpPr/>
          <p:nvPr/>
        </p:nvSpPr>
        <p:spPr>
          <a:xfrm>
            <a:off x="1643400" y="3427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7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18"/>
          <p:cNvSpPr/>
          <p:nvPr/>
        </p:nvSpPr>
        <p:spPr>
          <a:xfrm>
            <a:off x="1643400" y="27525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8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19"/>
          <p:cNvSpPr/>
          <p:nvPr/>
        </p:nvSpPr>
        <p:spPr>
          <a:xfrm>
            <a:off x="1643400" y="2079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28"/>
          <p:cNvSpPr/>
          <p:nvPr/>
        </p:nvSpPr>
        <p:spPr>
          <a:xfrm>
            <a:off x="2209680" y="2933640"/>
            <a:ext cx="4934160" cy="2000160"/>
          </a:xfrm>
          <a:custGeom>
            <a:avLst/>
            <a:gdLst>
              <a:gd name="textAreaLeft" fmla="*/ 0 w 4934160"/>
              <a:gd name="textAreaRight" fmla="*/ 4934520 w 493416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3108" h="1260">
                <a:moveTo>
                  <a:pt x="0" y="1248"/>
                </a:moveTo>
                <a:lnTo>
                  <a:pt x="1392" y="1260"/>
                </a:lnTo>
                <a:lnTo>
                  <a:pt x="1392" y="1044"/>
                </a:lnTo>
                <a:lnTo>
                  <a:pt x="1848" y="1044"/>
                </a:lnTo>
                <a:lnTo>
                  <a:pt x="1848" y="612"/>
                </a:lnTo>
                <a:lnTo>
                  <a:pt x="1968" y="612"/>
                </a:lnTo>
                <a:lnTo>
                  <a:pt x="1968" y="456"/>
                </a:lnTo>
                <a:lnTo>
                  <a:pt x="2664" y="444"/>
                </a:lnTo>
                <a:lnTo>
                  <a:pt x="2664" y="228"/>
                </a:lnTo>
                <a:lnTo>
                  <a:pt x="2904" y="228"/>
                </a:lnTo>
                <a:lnTo>
                  <a:pt x="2904" y="12"/>
                </a:lnTo>
                <a:lnTo>
                  <a:pt x="3108" y="0"/>
                </a:lnTo>
              </a:path>
            </a:pathLst>
          </a:custGeom>
          <a:noFill/>
          <a:ln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9"/>
          <p:cNvSpPr/>
          <p:nvPr/>
        </p:nvSpPr>
        <p:spPr>
          <a:xfrm>
            <a:off x="2803320" y="4575240"/>
            <a:ext cx="1038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0"/>
          <p:cNvSpPr/>
          <p:nvPr/>
        </p:nvSpPr>
        <p:spPr>
          <a:xfrm>
            <a:off x="4169160" y="4232160"/>
            <a:ext cx="1028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31"/>
          <p:cNvSpPr/>
          <p:nvPr/>
        </p:nvSpPr>
        <p:spPr>
          <a:xfrm>
            <a:off x="4737600" y="3546360"/>
            <a:ext cx="581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33"/>
          <p:cNvSpPr/>
          <p:nvPr/>
        </p:nvSpPr>
        <p:spPr>
          <a:xfrm>
            <a:off x="5062320" y="3298680"/>
            <a:ext cx="13435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EE:UU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34"/>
          <p:cNvSpPr/>
          <p:nvPr/>
        </p:nvSpPr>
        <p:spPr>
          <a:xfrm>
            <a:off x="6210720" y="2955960"/>
            <a:ext cx="646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5"/>
          <p:cNvSpPr/>
          <p:nvPr/>
        </p:nvSpPr>
        <p:spPr>
          <a:xfrm>
            <a:off x="6725520" y="2593800"/>
            <a:ext cx="64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P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xcedente del productor a cort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mpresa obtiene un excedente en todas las unidades de producción, salvo en la últim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cedente del productor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la suma de la diferencia entre el precio de mercado de un bien y el coste marginal de producción (en todas las unidades de producción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excedente del productor de una empresa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2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3" name="Group 38"/>
          <p:cNvGrpSpPr/>
          <p:nvPr/>
        </p:nvGrpSpPr>
        <p:grpSpPr>
          <a:xfrm>
            <a:off x="1824120" y="1900080"/>
            <a:ext cx="6888600" cy="3587760"/>
            <a:chOff x="1824120" y="1900080"/>
            <a:chExt cx="6888600" cy="3587760"/>
          </a:xfrm>
        </p:grpSpPr>
        <p:sp>
          <p:nvSpPr>
            <p:cNvPr id="1444" name="Freeform 4"/>
            <p:cNvSpPr/>
            <p:nvPr/>
          </p:nvSpPr>
          <p:spPr>
            <a:xfrm>
              <a:off x="2209680" y="3276720"/>
              <a:ext cx="2287800" cy="2211120"/>
            </a:xfrm>
            <a:custGeom>
              <a:avLst/>
              <a:gdLst>
                <a:gd name="textAreaLeft" fmla="*/ 0 w 2287800"/>
                <a:gd name="textAreaRight" fmla="*/ 2288160 w 2287800"/>
                <a:gd name="textAreaTop" fmla="*/ 0 h 2211120"/>
                <a:gd name="textAreaBottom" fmla="*/ 2211120 h 2211120"/>
              </a:gdLst>
              <a:ahLst/>
              <a:rect l="textAreaLeft" t="textAreaTop" r="textAreaRight" b="textAreaBottom"/>
              <a:pathLst>
                <a:path w="1441" h="1393">
                  <a:moveTo>
                    <a:pt x="0" y="528"/>
                  </a:moveTo>
                  <a:lnTo>
                    <a:pt x="48" y="768"/>
                  </a:lnTo>
                  <a:lnTo>
                    <a:pt x="48" y="960"/>
                  </a:lnTo>
                  <a:lnTo>
                    <a:pt x="144" y="1152"/>
                  </a:lnTo>
                  <a:lnTo>
                    <a:pt x="240" y="1296"/>
                  </a:lnTo>
                  <a:lnTo>
                    <a:pt x="384" y="1392"/>
                  </a:lnTo>
                  <a:lnTo>
                    <a:pt x="528" y="1392"/>
                  </a:lnTo>
                  <a:lnTo>
                    <a:pt x="624" y="1344"/>
                  </a:lnTo>
                  <a:lnTo>
                    <a:pt x="720" y="1248"/>
                  </a:lnTo>
                  <a:lnTo>
                    <a:pt x="1251" y="353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0" y="528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17"/>
            <p:cNvSpPr/>
            <p:nvPr/>
          </p:nvSpPr>
          <p:spPr>
            <a:xfrm>
              <a:off x="1824120" y="3084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21"/>
            <p:cNvSpPr/>
            <p:nvPr/>
          </p:nvSpPr>
          <p:spPr>
            <a:xfrm>
              <a:off x="1824120" y="4491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Oval 22"/>
            <p:cNvSpPr/>
            <p:nvPr/>
          </p:nvSpPr>
          <p:spPr>
            <a:xfrm>
              <a:off x="4419720" y="3200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Oval 23"/>
            <p:cNvSpPr/>
            <p:nvPr/>
          </p:nvSpPr>
          <p:spPr>
            <a:xfrm>
              <a:off x="4419720" y="4648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24"/>
            <p:cNvSpPr/>
            <p:nvPr/>
          </p:nvSpPr>
          <p:spPr>
            <a:xfrm>
              <a:off x="4110120" y="2814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25"/>
            <p:cNvSpPr/>
            <p:nvPr/>
          </p:nvSpPr>
          <p:spPr>
            <a:xfrm>
              <a:off x="4491000" y="46432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27"/>
            <p:cNvSpPr/>
            <p:nvPr/>
          </p:nvSpPr>
          <p:spPr>
            <a:xfrm>
              <a:off x="2526120" y="1900080"/>
              <a:ext cx="1486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cedent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 producto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28"/>
            <p:cNvSpPr/>
            <p:nvPr/>
          </p:nvSpPr>
          <p:spPr>
            <a:xfrm flipH="1">
              <a:off x="3100320" y="2770200"/>
              <a:ext cx="201600" cy="938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29"/>
            <p:cNvSpPr/>
            <p:nvPr/>
          </p:nvSpPr>
          <p:spPr>
            <a:xfrm>
              <a:off x="6289560" y="4002120"/>
              <a:ext cx="2423160" cy="1154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 otra part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es l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ma de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M 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ODCq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 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 x q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OABq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cedente del productor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 - CV o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CD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Line 20"/>
            <p:cNvSpPr/>
            <p:nvPr/>
          </p:nvSpPr>
          <p:spPr>
            <a:xfrm>
              <a:off x="2224080" y="4724280"/>
              <a:ext cx="2259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6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7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8"/>
          <p:cNvSpPr/>
          <p:nvPr/>
        </p:nvSpPr>
        <p:spPr>
          <a:xfrm>
            <a:off x="2203560" y="597204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9"/>
          <p:cNvSpPr/>
          <p:nvPr/>
        </p:nvSpPr>
        <p:spPr>
          <a:xfrm>
            <a:off x="548280" y="1670040"/>
            <a:ext cx="16430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un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producció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0"/>
          <p:cNvSpPr/>
          <p:nvPr/>
        </p:nvSpPr>
        <p:spPr>
          <a:xfrm>
            <a:off x="6852240" y="601344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"/>
          <p:cNvSpPr/>
          <p:nvPr/>
        </p:nvSpPr>
        <p:spPr>
          <a:xfrm>
            <a:off x="2212920" y="2587680"/>
            <a:ext cx="4343400" cy="23972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2397240"/>
              <a:gd name="textAreaBottom" fmla="*/ 2397600 h 2397240"/>
            </a:gdLst>
            <a:ahLst/>
            <a:rect l="textAreaLeft" t="textAreaTop" r="textAreaRight" b="textAreaBottom"/>
            <a:pathLst>
              <a:path w="2736" h="1510">
                <a:moveTo>
                  <a:pt x="0" y="820"/>
                </a:moveTo>
                <a:lnTo>
                  <a:pt x="20" y="851"/>
                </a:lnTo>
                <a:lnTo>
                  <a:pt x="40" y="891"/>
                </a:lnTo>
                <a:lnTo>
                  <a:pt x="66" y="942"/>
                </a:lnTo>
                <a:lnTo>
                  <a:pt x="99" y="997"/>
                </a:lnTo>
                <a:lnTo>
                  <a:pt x="165" y="1109"/>
                </a:lnTo>
                <a:lnTo>
                  <a:pt x="205" y="1164"/>
                </a:lnTo>
                <a:lnTo>
                  <a:pt x="244" y="1210"/>
                </a:lnTo>
                <a:lnTo>
                  <a:pt x="330" y="1296"/>
                </a:lnTo>
                <a:lnTo>
                  <a:pt x="423" y="1377"/>
                </a:lnTo>
                <a:lnTo>
                  <a:pt x="469" y="1413"/>
                </a:lnTo>
                <a:lnTo>
                  <a:pt x="522" y="1443"/>
                </a:lnTo>
                <a:lnTo>
                  <a:pt x="568" y="1468"/>
                </a:lnTo>
                <a:lnTo>
                  <a:pt x="621" y="1488"/>
                </a:lnTo>
                <a:lnTo>
                  <a:pt x="674" y="1504"/>
                </a:lnTo>
                <a:lnTo>
                  <a:pt x="727" y="1509"/>
                </a:lnTo>
                <a:lnTo>
                  <a:pt x="786" y="1509"/>
                </a:lnTo>
                <a:lnTo>
                  <a:pt x="839" y="1509"/>
                </a:lnTo>
                <a:lnTo>
                  <a:pt x="958" y="1488"/>
                </a:lnTo>
                <a:lnTo>
                  <a:pt x="1070" y="1468"/>
                </a:lnTo>
                <a:lnTo>
                  <a:pt x="1182" y="1443"/>
                </a:lnTo>
                <a:lnTo>
                  <a:pt x="1295" y="1407"/>
                </a:lnTo>
                <a:lnTo>
                  <a:pt x="1407" y="1362"/>
                </a:lnTo>
                <a:lnTo>
                  <a:pt x="1467" y="1332"/>
                </a:lnTo>
                <a:lnTo>
                  <a:pt x="1533" y="1296"/>
                </a:lnTo>
                <a:lnTo>
                  <a:pt x="1678" y="1220"/>
                </a:lnTo>
                <a:lnTo>
                  <a:pt x="1757" y="1175"/>
                </a:lnTo>
                <a:lnTo>
                  <a:pt x="1837" y="1129"/>
                </a:lnTo>
                <a:lnTo>
                  <a:pt x="1922" y="1073"/>
                </a:lnTo>
                <a:lnTo>
                  <a:pt x="2002" y="1013"/>
                </a:lnTo>
                <a:lnTo>
                  <a:pt x="2081" y="942"/>
                </a:lnTo>
                <a:lnTo>
                  <a:pt x="2160" y="866"/>
                </a:lnTo>
                <a:lnTo>
                  <a:pt x="2233" y="780"/>
                </a:lnTo>
                <a:lnTo>
                  <a:pt x="2306" y="684"/>
                </a:lnTo>
                <a:lnTo>
                  <a:pt x="2378" y="582"/>
                </a:lnTo>
                <a:lnTo>
                  <a:pt x="2451" y="471"/>
                </a:lnTo>
                <a:lnTo>
                  <a:pt x="2590" y="243"/>
                </a:lnTo>
                <a:lnTo>
                  <a:pt x="2735" y="0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2"/>
          <p:cNvSpPr/>
          <p:nvPr/>
        </p:nvSpPr>
        <p:spPr>
          <a:xfrm>
            <a:off x="6303960" y="2192400"/>
            <a:ext cx="99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V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32"/>
          <p:cNvGrpSpPr/>
          <p:nvPr/>
        </p:nvGrpSpPr>
        <p:grpSpPr>
          <a:xfrm>
            <a:off x="2211480" y="2058840"/>
            <a:ext cx="3200400" cy="3453120"/>
            <a:chOff x="2211480" y="2058840"/>
            <a:chExt cx="3200400" cy="3453120"/>
          </a:xfrm>
        </p:grpSpPr>
        <p:sp>
          <p:nvSpPr>
            <p:cNvPr id="1465" name="Freeform 13"/>
            <p:cNvSpPr/>
            <p:nvPr/>
          </p:nvSpPr>
          <p:spPr>
            <a:xfrm>
              <a:off x="2211480" y="2438280"/>
              <a:ext cx="2744640" cy="3073680"/>
            </a:xfrm>
            <a:custGeom>
              <a:avLst/>
              <a:gdLst>
                <a:gd name="textAreaLeft" fmla="*/ 0 w 2744640"/>
                <a:gd name="textAreaRight" fmla="*/ 2744640 w 2744640"/>
                <a:gd name="textAreaTop" fmla="*/ 0 h 3073680"/>
                <a:gd name="textAreaBottom" fmla="*/ 3074040 h 3073680"/>
              </a:gdLst>
              <a:ahLst/>
              <a:rect l="textAreaLeft" t="textAreaTop" r="textAreaRight" b="textAreaBottom"/>
              <a:pathLst>
                <a:path w="1729" h="1936">
                  <a:moveTo>
                    <a:pt x="0" y="1081"/>
                  </a:moveTo>
                  <a:lnTo>
                    <a:pt x="35" y="1275"/>
                  </a:lnTo>
                  <a:lnTo>
                    <a:pt x="75" y="1451"/>
                  </a:lnTo>
                  <a:lnTo>
                    <a:pt x="95" y="1536"/>
                  </a:lnTo>
                  <a:lnTo>
                    <a:pt x="120" y="1610"/>
                  </a:lnTo>
                  <a:lnTo>
                    <a:pt x="150" y="1679"/>
                  </a:lnTo>
                  <a:lnTo>
                    <a:pt x="185" y="1736"/>
                  </a:lnTo>
                  <a:lnTo>
                    <a:pt x="270" y="1832"/>
                  </a:lnTo>
                  <a:lnTo>
                    <a:pt x="315" y="1878"/>
                  </a:lnTo>
                  <a:lnTo>
                    <a:pt x="365" y="1912"/>
                  </a:lnTo>
                  <a:lnTo>
                    <a:pt x="420" y="1929"/>
                  </a:lnTo>
                  <a:lnTo>
                    <a:pt x="480" y="1935"/>
                  </a:lnTo>
                  <a:lnTo>
                    <a:pt x="510" y="1935"/>
                  </a:lnTo>
                  <a:lnTo>
                    <a:pt x="540" y="1923"/>
                  </a:lnTo>
                  <a:lnTo>
                    <a:pt x="574" y="1906"/>
                  </a:lnTo>
                  <a:lnTo>
                    <a:pt x="604" y="1883"/>
                  </a:lnTo>
                  <a:lnTo>
                    <a:pt x="639" y="1855"/>
                  </a:lnTo>
                  <a:lnTo>
                    <a:pt x="669" y="1821"/>
                  </a:lnTo>
                  <a:lnTo>
                    <a:pt x="709" y="1775"/>
                  </a:lnTo>
                  <a:lnTo>
                    <a:pt x="744" y="1724"/>
                  </a:lnTo>
                  <a:lnTo>
                    <a:pt x="824" y="1610"/>
                  </a:lnTo>
                  <a:lnTo>
                    <a:pt x="904" y="1479"/>
                  </a:lnTo>
                  <a:lnTo>
                    <a:pt x="984" y="1343"/>
                  </a:lnTo>
                  <a:lnTo>
                    <a:pt x="1064" y="1201"/>
                  </a:lnTo>
                  <a:lnTo>
                    <a:pt x="1139" y="1064"/>
                  </a:lnTo>
                  <a:lnTo>
                    <a:pt x="1214" y="939"/>
                  </a:lnTo>
                  <a:lnTo>
                    <a:pt x="1353" y="706"/>
                  </a:lnTo>
                  <a:lnTo>
                    <a:pt x="1483" y="467"/>
                  </a:lnTo>
                  <a:lnTo>
                    <a:pt x="1608" y="233"/>
                  </a:lnTo>
                  <a:lnTo>
                    <a:pt x="1728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14"/>
            <p:cNvSpPr/>
            <p:nvPr/>
          </p:nvSpPr>
          <p:spPr>
            <a:xfrm>
              <a:off x="4643280" y="2058840"/>
              <a:ext cx="76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Rectangle 26"/>
          <p:cNvSpPr/>
          <p:nvPr/>
        </p:nvSpPr>
        <p:spPr>
          <a:xfrm>
            <a:off x="1824120" y="5938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8" name="Group 35"/>
          <p:cNvGrpSpPr/>
          <p:nvPr/>
        </p:nvGrpSpPr>
        <p:grpSpPr>
          <a:xfrm>
            <a:off x="2224080" y="1239840"/>
            <a:ext cx="5596920" cy="5065560"/>
            <a:chOff x="2224080" y="1239840"/>
            <a:chExt cx="5596920" cy="5065560"/>
          </a:xfrm>
        </p:grpSpPr>
        <p:sp>
          <p:nvSpPr>
            <p:cNvPr id="1469" name="Line 15"/>
            <p:cNvSpPr/>
            <p:nvPr/>
          </p:nvSpPr>
          <p:spPr>
            <a:xfrm>
              <a:off x="2224080" y="3276720"/>
              <a:ext cx="4545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16"/>
            <p:cNvSpPr/>
            <p:nvPr/>
          </p:nvSpPr>
          <p:spPr>
            <a:xfrm>
              <a:off x="6837480" y="3084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Line 18"/>
            <p:cNvSpPr/>
            <p:nvPr/>
          </p:nvSpPr>
          <p:spPr>
            <a:xfrm>
              <a:off x="449568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19"/>
            <p:cNvSpPr/>
            <p:nvPr/>
          </p:nvSpPr>
          <p:spPr>
            <a:xfrm>
              <a:off x="4325760" y="5942160"/>
              <a:ext cx="373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30"/>
            <p:cNvSpPr/>
            <p:nvPr/>
          </p:nvSpPr>
          <p:spPr>
            <a:xfrm>
              <a:off x="5728320" y="1239840"/>
              <a:ext cx="2092680" cy="7282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CM = IM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re 0 y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, IM &gt; CM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todas las unidades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xcedente del productor a corto plaz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7"/>
          <p:cNvSpPr/>
          <p:nvPr/>
        </p:nvSpPr>
        <p:spPr>
          <a:xfrm>
            <a:off x="717912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19"/>
          <p:cNvSpPr/>
          <p:nvPr/>
        </p:nvSpPr>
        <p:spPr>
          <a:xfrm>
            <a:off x="670896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20"/>
          <p:cNvSpPr/>
          <p:nvPr/>
        </p:nvSpPr>
        <p:spPr>
          <a:xfrm>
            <a:off x="629784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22"/>
          <p:cNvSpPr/>
          <p:nvPr/>
        </p:nvSpPr>
        <p:spPr>
          <a:xfrm>
            <a:off x="550728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23"/>
          <p:cNvSpPr/>
          <p:nvPr/>
        </p:nvSpPr>
        <p:spPr>
          <a:xfrm>
            <a:off x="509616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25"/>
          <p:cNvSpPr/>
          <p:nvPr/>
        </p:nvSpPr>
        <p:spPr>
          <a:xfrm>
            <a:off x="3204000" y="3048120"/>
            <a:ext cx="1454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5" name="Group 46"/>
          <p:cNvGrpSpPr/>
          <p:nvPr/>
        </p:nvGrpSpPr>
        <p:grpSpPr>
          <a:xfrm>
            <a:off x="495360" y="2990880"/>
            <a:ext cx="8058240" cy="762120"/>
            <a:chOff x="495360" y="2990880"/>
            <a:chExt cx="8058240" cy="762120"/>
          </a:xfrm>
        </p:grpSpPr>
        <p:sp>
          <p:nvSpPr>
            <p:cNvPr id="1486" name="Rectangle 9"/>
            <p:cNvSpPr/>
            <p:nvPr/>
          </p:nvSpPr>
          <p:spPr>
            <a:xfrm>
              <a:off x="495360" y="2990880"/>
              <a:ext cx="8058240" cy="7621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15"/>
            <p:cNvSpPr/>
            <p:nvPr/>
          </p:nvSpPr>
          <p:spPr>
            <a:xfrm>
              <a:off x="7345080" y="3048120"/>
              <a:ext cx="8694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4100" spc="-1" strike="noStrike">
                  <a:solidFill>
                    <a:srgbClr val="000000"/>
                  </a:solidFill>
                  <a:latin typeface="Arial"/>
                </a:rPr>
                <a:t>CV</a:t>
              </a:r>
              <a:endParaRPr b="1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16"/>
            <p:cNvSpPr/>
            <p:nvPr/>
          </p:nvSpPr>
          <p:spPr>
            <a:xfrm>
              <a:off x="7311240" y="3048120"/>
              <a:ext cx="17460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18"/>
            <p:cNvSpPr/>
            <p:nvPr/>
          </p:nvSpPr>
          <p:spPr>
            <a:xfrm>
              <a:off x="6269400" y="3009960"/>
              <a:ext cx="7045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s-E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ES" sz="4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21"/>
            <p:cNvSpPr/>
            <p:nvPr/>
          </p:nvSpPr>
          <p:spPr>
            <a:xfrm>
              <a:off x="5494320" y="3048120"/>
              <a:ext cx="6955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100" spc="-1" strike="noStrike">
                  <a:solidFill>
                    <a:srgbClr val="000000"/>
                  </a:solidFill>
                  <a:latin typeface="Arial"/>
                </a:rPr>
                <a:t>EP</a:t>
              </a:r>
              <a:endParaRPr b="1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26"/>
            <p:cNvSpPr/>
            <p:nvPr/>
          </p:nvSpPr>
          <p:spPr>
            <a:xfrm>
              <a:off x="636840" y="3105000"/>
              <a:ext cx="44035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Excedente del producto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28"/>
            <p:cNvSpPr/>
            <p:nvPr/>
          </p:nvSpPr>
          <p:spPr>
            <a:xfrm>
              <a:off x="5216040" y="2995560"/>
              <a:ext cx="4150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Rectangle 35"/>
          <p:cNvSpPr/>
          <p:nvPr/>
        </p:nvSpPr>
        <p:spPr>
          <a:xfrm>
            <a:off x="5144040" y="4454640"/>
            <a:ext cx="159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47"/>
          <p:cNvGrpSpPr/>
          <p:nvPr/>
        </p:nvGrpSpPr>
        <p:grpSpPr>
          <a:xfrm>
            <a:off x="1322280" y="4435560"/>
            <a:ext cx="6259680" cy="689040"/>
            <a:chOff x="1322280" y="4435560"/>
            <a:chExt cx="6259680" cy="689040"/>
          </a:xfrm>
        </p:grpSpPr>
        <p:sp>
          <p:nvSpPr>
            <p:cNvPr id="1495" name="Rectangle 11"/>
            <p:cNvSpPr/>
            <p:nvPr/>
          </p:nvSpPr>
          <p:spPr>
            <a:xfrm>
              <a:off x="1428840" y="4438800"/>
              <a:ext cx="6153120" cy="6858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36"/>
            <p:cNvSpPr/>
            <p:nvPr/>
          </p:nvSpPr>
          <p:spPr>
            <a:xfrm>
              <a:off x="1322280" y="4435560"/>
              <a:ext cx="622188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"/>
                </a:rPr>
                <a:t>Beneficios</a:t>
              </a:r>
              <a:r>
                <a:rPr b="0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</a:t>
              </a:r>
              <a:r>
                <a:rPr b="0" i="1" lang="es-E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</a:t>
              </a:r>
              <a:r>
                <a:rPr b="0" lang="es-ES" sz="4500" spc="-1" strike="noStrike">
                  <a:solidFill>
                    <a:srgbClr val="000000"/>
                  </a:solidFill>
                  <a:latin typeface="Arial"/>
                </a:rPr>
                <a:t> - I - CV - CF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Rectangle 40"/>
          <p:cNvSpPr/>
          <p:nvPr/>
        </p:nvSpPr>
        <p:spPr>
          <a:xfrm>
            <a:off x="3834360" y="4454640"/>
            <a:ext cx="15912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curva de oferta del mercado a cort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bserva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rto plazo con un coste fijo positiv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Group 18"/>
          <p:cNvGrpSpPr/>
          <p:nvPr/>
        </p:nvGrpSpPr>
        <p:grpSpPr>
          <a:xfrm>
            <a:off x="3448080" y="3524400"/>
            <a:ext cx="2286000" cy="933480"/>
            <a:chOff x="3448080" y="3524400"/>
            <a:chExt cx="2286000" cy="933480"/>
          </a:xfrm>
        </p:grpSpPr>
        <p:sp>
          <p:nvSpPr>
            <p:cNvPr id="1504" name="Rectangle 9"/>
            <p:cNvSpPr/>
            <p:nvPr/>
          </p:nvSpPr>
          <p:spPr>
            <a:xfrm>
              <a:off x="3448080" y="3524400"/>
              <a:ext cx="2286000" cy="933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16"/>
            <p:cNvSpPr/>
            <p:nvPr/>
          </p:nvSpPr>
          <p:spPr>
            <a:xfrm>
              <a:off x="3467160" y="3610080"/>
              <a:ext cx="2187720" cy="8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300" spc="-1" strike="noStrike">
                  <a:solidFill>
                    <a:srgbClr val="000000"/>
                  </a:solidFill>
                  <a:latin typeface="Arial"/>
                </a:rPr>
                <a:t>EP </a:t>
              </a:r>
              <a:r>
                <a:rPr b="0" lang="es-ES" sz="5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</a:t>
              </a:r>
              <a:r>
                <a:rPr b="0" i="1" lang="es-ES" sz="5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1" lang="en-US" sz="5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El excedente del productor de un mercad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07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Group 22"/>
          <p:cNvGrpSpPr/>
          <p:nvPr/>
        </p:nvGrpSpPr>
        <p:grpSpPr>
          <a:xfrm>
            <a:off x="2236680" y="2236680"/>
            <a:ext cx="4753440" cy="3181680"/>
            <a:chOff x="2236680" y="2236680"/>
            <a:chExt cx="4753440" cy="3181680"/>
          </a:xfrm>
        </p:grpSpPr>
        <p:sp>
          <p:nvSpPr>
            <p:cNvPr id="1509" name="Line 11"/>
            <p:cNvSpPr/>
            <p:nvPr/>
          </p:nvSpPr>
          <p:spPr>
            <a:xfrm>
              <a:off x="2236680" y="2236680"/>
              <a:ext cx="4367160" cy="284328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2"/>
            <p:cNvSpPr/>
            <p:nvPr/>
          </p:nvSpPr>
          <p:spPr>
            <a:xfrm>
              <a:off x="6624360" y="5024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1" name="Group 23"/>
          <p:cNvGrpSpPr/>
          <p:nvPr/>
        </p:nvGrpSpPr>
        <p:grpSpPr>
          <a:xfrm>
            <a:off x="1811160" y="3354480"/>
            <a:ext cx="6863400" cy="2959200"/>
            <a:chOff x="1811160" y="3354480"/>
            <a:chExt cx="6863400" cy="2959200"/>
          </a:xfrm>
        </p:grpSpPr>
        <p:sp>
          <p:nvSpPr>
            <p:cNvPr id="1512" name="Freeform 4"/>
            <p:cNvSpPr/>
            <p:nvPr/>
          </p:nvSpPr>
          <p:spPr>
            <a:xfrm>
              <a:off x="2209680" y="3733920"/>
              <a:ext cx="2363760" cy="992160"/>
            </a:xfrm>
            <a:custGeom>
              <a:avLst/>
              <a:gdLst>
                <a:gd name="textAreaLeft" fmla="*/ 0 w 2363760"/>
                <a:gd name="textAreaRight" fmla="*/ 2364120 w 236376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489" h="625">
                  <a:moveTo>
                    <a:pt x="0" y="0"/>
                  </a:moveTo>
                  <a:lnTo>
                    <a:pt x="1488" y="0"/>
                  </a:lnTo>
                  <a:lnTo>
                    <a:pt x="1104" y="192"/>
                  </a:lnTo>
                  <a:lnTo>
                    <a:pt x="576" y="432"/>
                  </a:lnTo>
                  <a:lnTo>
                    <a:pt x="0" y="624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15"/>
            <p:cNvSpPr/>
            <p:nvPr/>
          </p:nvSpPr>
          <p:spPr>
            <a:xfrm flipH="1">
              <a:off x="2198160" y="3733920"/>
              <a:ext cx="2310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6"/>
            <p:cNvSpPr/>
            <p:nvPr/>
          </p:nvSpPr>
          <p:spPr>
            <a:xfrm>
              <a:off x="1811160" y="3541680"/>
              <a:ext cx="40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7"/>
            <p:cNvSpPr/>
            <p:nvPr/>
          </p:nvSpPr>
          <p:spPr>
            <a:xfrm>
              <a:off x="4416480" y="5919840"/>
              <a:ext cx="437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18"/>
            <p:cNvSpPr/>
            <p:nvPr/>
          </p:nvSpPr>
          <p:spPr>
            <a:xfrm>
              <a:off x="4572000" y="374796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9"/>
            <p:cNvSpPr/>
            <p:nvPr/>
          </p:nvSpPr>
          <p:spPr>
            <a:xfrm>
              <a:off x="2804040" y="4734000"/>
              <a:ext cx="1656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ceden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l producto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20"/>
            <p:cNvSpPr/>
            <p:nvPr/>
          </p:nvSpPr>
          <p:spPr>
            <a:xfrm flipH="1" flipV="1">
              <a:off x="3112560" y="4103280"/>
              <a:ext cx="405000" cy="709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21"/>
            <p:cNvSpPr/>
            <p:nvPr/>
          </p:nvSpPr>
          <p:spPr>
            <a:xfrm>
              <a:off x="5611320" y="3354480"/>
              <a:ext cx="306324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excedente del productor 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diferencia entre 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*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 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30000">
                  <a:solidFill>
                    <a:srgbClr val="000000"/>
                  </a:solidFill>
                  <a:latin typeface="Arial"/>
                </a:rPr>
                <a:t>*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6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7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8"/>
          <p:cNvSpPr/>
          <p:nvPr/>
        </p:nvSpPr>
        <p:spPr>
          <a:xfrm>
            <a:off x="2200320" y="5969160"/>
            <a:ext cx="514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9"/>
          <p:cNvSpPr/>
          <p:nvPr/>
        </p:nvSpPr>
        <p:spPr>
          <a:xfrm>
            <a:off x="359640" y="1670040"/>
            <a:ext cx="1834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ur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 u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producció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10"/>
          <p:cNvSpPr/>
          <p:nvPr/>
        </p:nvSpPr>
        <p:spPr>
          <a:xfrm>
            <a:off x="7041240" y="589932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Group 24"/>
          <p:cNvGrpSpPr/>
          <p:nvPr/>
        </p:nvGrpSpPr>
        <p:grpSpPr>
          <a:xfrm>
            <a:off x="2206800" y="1671480"/>
            <a:ext cx="4615920" cy="3056040"/>
            <a:chOff x="2206800" y="1671480"/>
            <a:chExt cx="4615920" cy="3056040"/>
          </a:xfrm>
        </p:grpSpPr>
        <p:sp>
          <p:nvSpPr>
            <p:cNvPr id="1528" name="Freeform 13"/>
            <p:cNvSpPr/>
            <p:nvPr/>
          </p:nvSpPr>
          <p:spPr>
            <a:xfrm>
              <a:off x="2206800" y="2057400"/>
              <a:ext cx="4120920" cy="2670120"/>
            </a:xfrm>
            <a:custGeom>
              <a:avLst/>
              <a:gdLst>
                <a:gd name="textAreaLeft" fmla="*/ 0 w 4120920"/>
                <a:gd name="textAreaRight" fmla="*/ 4121280 w 4120920"/>
                <a:gd name="textAreaTop" fmla="*/ 0 h 2670120"/>
                <a:gd name="textAreaBottom" fmla="*/ 2670480 h 2670120"/>
              </a:gdLst>
              <a:ahLst/>
              <a:rect l="textAreaLeft" t="textAreaTop" r="textAreaRight" b="textAreaBottom"/>
              <a:pathLst>
                <a:path w="2596" h="1682">
                  <a:moveTo>
                    <a:pt x="0" y="1681"/>
                  </a:moveTo>
                  <a:lnTo>
                    <a:pt x="395" y="1552"/>
                  </a:lnTo>
                  <a:lnTo>
                    <a:pt x="593" y="1481"/>
                  </a:lnTo>
                  <a:lnTo>
                    <a:pt x="784" y="1409"/>
                  </a:lnTo>
                  <a:lnTo>
                    <a:pt x="969" y="1333"/>
                  </a:lnTo>
                  <a:lnTo>
                    <a:pt x="1148" y="1248"/>
                  </a:lnTo>
                  <a:lnTo>
                    <a:pt x="1326" y="1157"/>
                  </a:lnTo>
                  <a:lnTo>
                    <a:pt x="1492" y="1057"/>
                  </a:lnTo>
                  <a:lnTo>
                    <a:pt x="1651" y="947"/>
                  </a:lnTo>
                  <a:lnTo>
                    <a:pt x="1798" y="828"/>
                  </a:lnTo>
                  <a:lnTo>
                    <a:pt x="1938" y="700"/>
                  </a:lnTo>
                  <a:lnTo>
                    <a:pt x="2079" y="571"/>
                  </a:lnTo>
                  <a:lnTo>
                    <a:pt x="2212" y="433"/>
                  </a:lnTo>
                  <a:lnTo>
                    <a:pt x="2340" y="290"/>
                  </a:lnTo>
                  <a:lnTo>
                    <a:pt x="2595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4"/>
            <p:cNvSpPr/>
            <p:nvPr/>
          </p:nvSpPr>
          <p:spPr>
            <a:xfrm>
              <a:off x="6472080" y="16714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A largo plazo, una empresa puede alterar todos sus factores, incluido el tamaño de la plant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Supongamos una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libre entrada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 y una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libre salid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2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36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Group 47"/>
          <p:cNvGrpSpPr/>
          <p:nvPr/>
        </p:nvGrpSpPr>
        <p:grpSpPr>
          <a:xfrm>
            <a:off x="1824120" y="2967120"/>
            <a:ext cx="7031520" cy="3299400"/>
            <a:chOff x="1824120" y="2967120"/>
            <a:chExt cx="7031520" cy="3299400"/>
          </a:xfrm>
        </p:grpSpPr>
        <p:sp>
          <p:nvSpPr>
            <p:cNvPr id="1538" name="Line 20"/>
            <p:cNvSpPr/>
            <p:nvPr/>
          </p:nvSpPr>
          <p:spPr>
            <a:xfrm flipH="1">
              <a:off x="2198160" y="3962520"/>
              <a:ext cx="23259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4"/>
            <p:cNvSpPr/>
            <p:nvPr/>
          </p:nvSpPr>
          <p:spPr>
            <a:xfrm>
              <a:off x="2209680" y="3505320"/>
              <a:ext cx="2301840" cy="4572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Line 15"/>
            <p:cNvSpPr/>
            <p:nvPr/>
          </p:nvSpPr>
          <p:spPr>
            <a:xfrm>
              <a:off x="4511520" y="3519360"/>
              <a:ext cx="0" cy="2411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Rectangle 16"/>
            <p:cNvSpPr/>
            <p:nvPr/>
          </p:nvSpPr>
          <p:spPr>
            <a:xfrm>
              <a:off x="4343760" y="5865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8"/>
            <p:cNvSpPr/>
            <p:nvPr/>
          </p:nvSpPr>
          <p:spPr>
            <a:xfrm>
              <a:off x="4202280" y="30430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Rectangle 19"/>
            <p:cNvSpPr/>
            <p:nvPr/>
          </p:nvSpPr>
          <p:spPr>
            <a:xfrm>
              <a:off x="4583160" y="38815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21"/>
            <p:cNvSpPr/>
            <p:nvPr/>
          </p:nvSpPr>
          <p:spPr>
            <a:xfrm>
              <a:off x="1824120" y="37288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22"/>
            <p:cNvSpPr/>
            <p:nvPr/>
          </p:nvSpPr>
          <p:spPr>
            <a:xfrm>
              <a:off x="2205000" y="29671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39"/>
            <p:cNvSpPr/>
            <p:nvPr/>
          </p:nvSpPr>
          <p:spPr>
            <a:xfrm>
              <a:off x="6449040" y="4764240"/>
              <a:ext cx="240660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corto plazo, la empres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 enfrenta a factor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jos.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 =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€ &gt;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TMe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s beneficios son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CD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6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7"/>
          <p:cNvSpPr/>
          <p:nvPr/>
        </p:nvSpPr>
        <p:spPr>
          <a:xfrm>
            <a:off x="2200320" y="5950080"/>
            <a:ext cx="514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8"/>
          <p:cNvSpPr/>
          <p:nvPr/>
        </p:nvSpPr>
        <p:spPr>
          <a:xfrm>
            <a:off x="791640" y="1422360"/>
            <a:ext cx="1350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9"/>
          <p:cNvSpPr/>
          <p:nvPr/>
        </p:nvSpPr>
        <p:spPr>
          <a:xfrm>
            <a:off x="7119000" y="589932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3" name="Group 43"/>
          <p:cNvGrpSpPr/>
          <p:nvPr/>
        </p:nvGrpSpPr>
        <p:grpSpPr>
          <a:xfrm>
            <a:off x="1598400" y="3271680"/>
            <a:ext cx="6773760" cy="404640"/>
            <a:chOff x="1598400" y="3271680"/>
            <a:chExt cx="6773760" cy="404640"/>
          </a:xfrm>
        </p:grpSpPr>
        <p:sp>
          <p:nvSpPr>
            <p:cNvPr id="1554" name="Line 10"/>
            <p:cNvSpPr/>
            <p:nvPr/>
          </p:nvSpPr>
          <p:spPr>
            <a:xfrm>
              <a:off x="2236680" y="3505320"/>
              <a:ext cx="512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Rectangle 11"/>
            <p:cNvSpPr/>
            <p:nvPr/>
          </p:nvSpPr>
          <p:spPr>
            <a:xfrm>
              <a:off x="7521840" y="3313080"/>
              <a:ext cx="85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 = I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7"/>
            <p:cNvSpPr/>
            <p:nvPr/>
          </p:nvSpPr>
          <p:spPr>
            <a:xfrm>
              <a:off x="1598400" y="32716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Group 41"/>
          <p:cNvGrpSpPr/>
          <p:nvPr/>
        </p:nvGrpSpPr>
        <p:grpSpPr>
          <a:xfrm>
            <a:off x="3178080" y="2509920"/>
            <a:ext cx="2750400" cy="2979720"/>
            <a:chOff x="3178080" y="2509920"/>
            <a:chExt cx="2750400" cy="2979720"/>
          </a:xfrm>
        </p:grpSpPr>
        <p:sp>
          <p:nvSpPr>
            <p:cNvPr id="1558" name="Freeform 12"/>
            <p:cNvSpPr/>
            <p:nvPr/>
          </p:nvSpPr>
          <p:spPr>
            <a:xfrm>
              <a:off x="3276720" y="2968560"/>
              <a:ext cx="1390680" cy="252108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2521080"/>
                <a:gd name="textAreaBottom" fmla="*/ 2521440 h 2521080"/>
              </a:gdLst>
              <a:ahLst/>
              <a:rect l="textAreaLeft" t="textAreaTop" r="textAreaRight" b="textAreaBottom"/>
              <a:pathLst>
                <a:path w="876" h="1588">
                  <a:moveTo>
                    <a:pt x="0" y="1587"/>
                  </a:moveTo>
                  <a:lnTo>
                    <a:pt x="38" y="1543"/>
                  </a:lnTo>
                  <a:lnTo>
                    <a:pt x="90" y="1482"/>
                  </a:lnTo>
                  <a:lnTo>
                    <a:pt x="151" y="1416"/>
                  </a:lnTo>
                  <a:lnTo>
                    <a:pt x="221" y="1338"/>
                  </a:lnTo>
                  <a:lnTo>
                    <a:pt x="287" y="1255"/>
                  </a:lnTo>
                  <a:lnTo>
                    <a:pt x="353" y="1178"/>
                  </a:lnTo>
                  <a:lnTo>
                    <a:pt x="414" y="1100"/>
                  </a:lnTo>
                  <a:lnTo>
                    <a:pt x="466" y="1028"/>
                  </a:lnTo>
                  <a:lnTo>
                    <a:pt x="504" y="968"/>
                  </a:lnTo>
                  <a:lnTo>
                    <a:pt x="541" y="907"/>
                  </a:lnTo>
                  <a:lnTo>
                    <a:pt x="598" y="791"/>
                  </a:lnTo>
                  <a:lnTo>
                    <a:pt x="649" y="669"/>
                  </a:lnTo>
                  <a:lnTo>
                    <a:pt x="701" y="547"/>
                  </a:lnTo>
                  <a:lnTo>
                    <a:pt x="729" y="481"/>
                  </a:lnTo>
                  <a:lnTo>
                    <a:pt x="753" y="409"/>
                  </a:lnTo>
                  <a:lnTo>
                    <a:pt x="809" y="265"/>
                  </a:lnTo>
                  <a:lnTo>
                    <a:pt x="833" y="193"/>
                  </a:lnTo>
                  <a:lnTo>
                    <a:pt x="851" y="121"/>
                  </a:lnTo>
                  <a:lnTo>
                    <a:pt x="866" y="55"/>
                  </a:lnTo>
                  <a:lnTo>
                    <a:pt x="875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Rectangle 13"/>
            <p:cNvSpPr/>
            <p:nvPr/>
          </p:nvSpPr>
          <p:spPr>
            <a:xfrm>
              <a:off x="5100840" y="2779560"/>
              <a:ext cx="82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4"/>
            <p:cNvSpPr/>
            <p:nvPr/>
          </p:nvSpPr>
          <p:spPr>
            <a:xfrm>
              <a:off x="4278240" y="250992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32"/>
            <p:cNvSpPr/>
            <p:nvPr/>
          </p:nvSpPr>
          <p:spPr>
            <a:xfrm>
              <a:off x="3178080" y="3278160"/>
              <a:ext cx="2251080" cy="69696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18" h="439">
                  <a:moveTo>
                    <a:pt x="0" y="28"/>
                  </a:moveTo>
                  <a:lnTo>
                    <a:pt x="6" y="40"/>
                  </a:lnTo>
                  <a:lnTo>
                    <a:pt x="11" y="56"/>
                  </a:lnTo>
                  <a:lnTo>
                    <a:pt x="22" y="96"/>
                  </a:lnTo>
                  <a:lnTo>
                    <a:pt x="38" y="145"/>
                  </a:lnTo>
                  <a:lnTo>
                    <a:pt x="60" y="189"/>
                  </a:lnTo>
                  <a:lnTo>
                    <a:pt x="93" y="233"/>
                  </a:lnTo>
                  <a:lnTo>
                    <a:pt x="137" y="277"/>
                  </a:lnTo>
                  <a:lnTo>
                    <a:pt x="181" y="317"/>
                  </a:lnTo>
                  <a:lnTo>
                    <a:pt x="224" y="354"/>
                  </a:lnTo>
                  <a:lnTo>
                    <a:pt x="268" y="378"/>
                  </a:lnTo>
                  <a:lnTo>
                    <a:pt x="312" y="394"/>
                  </a:lnTo>
                  <a:lnTo>
                    <a:pt x="361" y="410"/>
                  </a:lnTo>
                  <a:lnTo>
                    <a:pt x="421" y="418"/>
                  </a:lnTo>
                  <a:lnTo>
                    <a:pt x="487" y="426"/>
                  </a:lnTo>
                  <a:lnTo>
                    <a:pt x="569" y="434"/>
                  </a:lnTo>
                  <a:lnTo>
                    <a:pt x="657" y="438"/>
                  </a:lnTo>
                  <a:lnTo>
                    <a:pt x="744" y="430"/>
                  </a:lnTo>
                  <a:lnTo>
                    <a:pt x="843" y="418"/>
                  </a:lnTo>
                  <a:lnTo>
                    <a:pt x="941" y="394"/>
                  </a:lnTo>
                  <a:lnTo>
                    <a:pt x="1040" y="366"/>
                  </a:lnTo>
                  <a:lnTo>
                    <a:pt x="1127" y="334"/>
                  </a:lnTo>
                  <a:lnTo>
                    <a:pt x="1204" y="293"/>
                  </a:lnTo>
                  <a:lnTo>
                    <a:pt x="1269" y="241"/>
                  </a:lnTo>
                  <a:lnTo>
                    <a:pt x="1324" y="193"/>
                  </a:lnTo>
                  <a:lnTo>
                    <a:pt x="1368" y="145"/>
                  </a:lnTo>
                  <a:lnTo>
                    <a:pt x="1395" y="105"/>
                  </a:lnTo>
                  <a:lnTo>
                    <a:pt x="1412" y="68"/>
                  </a:lnTo>
                  <a:lnTo>
                    <a:pt x="1417" y="32"/>
                  </a:lnTo>
                  <a:lnTo>
                    <a:pt x="1417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2" name="Group 46"/>
          <p:cNvGrpSpPr/>
          <p:nvPr/>
        </p:nvGrpSpPr>
        <p:grpSpPr>
          <a:xfrm>
            <a:off x="1823760" y="1454040"/>
            <a:ext cx="4588560" cy="4812480"/>
            <a:chOff x="1823760" y="1454040"/>
            <a:chExt cx="4588560" cy="4812480"/>
          </a:xfrm>
        </p:grpSpPr>
        <p:sp>
          <p:nvSpPr>
            <p:cNvPr id="1563" name="Rectangle 23"/>
            <p:cNvSpPr/>
            <p:nvPr/>
          </p:nvSpPr>
          <p:spPr>
            <a:xfrm>
              <a:off x="2600280" y="1454040"/>
              <a:ext cx="3384720" cy="9705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argo plazo, aumentará el tamaño y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producción de la planta 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s beneficios a largo plazo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FG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&gt;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eneficios a corto plazo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ABCD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Line 26"/>
            <p:cNvSpPr/>
            <p:nvPr/>
          </p:nvSpPr>
          <p:spPr>
            <a:xfrm>
              <a:off x="6019920" y="3519360"/>
              <a:ext cx="0" cy="2411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7"/>
            <p:cNvSpPr/>
            <p:nvPr/>
          </p:nvSpPr>
          <p:spPr>
            <a:xfrm>
              <a:off x="5867640" y="5865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Line 28"/>
            <p:cNvSpPr/>
            <p:nvPr/>
          </p:nvSpPr>
          <p:spPr>
            <a:xfrm>
              <a:off x="5181480" y="4586400"/>
              <a:ext cx="0" cy="1344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9"/>
            <p:cNvSpPr/>
            <p:nvPr/>
          </p:nvSpPr>
          <p:spPr>
            <a:xfrm>
              <a:off x="4953240" y="586584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Line 35"/>
            <p:cNvSpPr/>
            <p:nvPr/>
          </p:nvSpPr>
          <p:spPr>
            <a:xfrm flipH="1">
              <a:off x="2198520" y="4267080"/>
              <a:ext cx="3834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36"/>
            <p:cNvSpPr/>
            <p:nvPr/>
          </p:nvSpPr>
          <p:spPr>
            <a:xfrm>
              <a:off x="1823760" y="4033800"/>
              <a:ext cx="359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37"/>
            <p:cNvSpPr/>
            <p:nvPr/>
          </p:nvSpPr>
          <p:spPr>
            <a:xfrm>
              <a:off x="6090840" y="41101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1" name="Group 45"/>
          <p:cNvGrpSpPr/>
          <p:nvPr/>
        </p:nvGrpSpPr>
        <p:grpSpPr>
          <a:xfrm>
            <a:off x="1598400" y="1747800"/>
            <a:ext cx="6210360" cy="3589200"/>
            <a:chOff x="1598400" y="1747800"/>
            <a:chExt cx="6210360" cy="3589200"/>
          </a:xfrm>
        </p:grpSpPr>
        <p:sp>
          <p:nvSpPr>
            <p:cNvPr id="1572" name="Rectangle 24"/>
            <p:cNvSpPr/>
            <p:nvPr/>
          </p:nvSpPr>
          <p:spPr>
            <a:xfrm>
              <a:off x="1598400" y="44146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Line 25"/>
            <p:cNvSpPr/>
            <p:nvPr/>
          </p:nvSpPr>
          <p:spPr>
            <a:xfrm>
              <a:off x="2236680" y="4572000"/>
              <a:ext cx="512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30"/>
            <p:cNvSpPr/>
            <p:nvPr/>
          </p:nvSpPr>
          <p:spPr>
            <a:xfrm>
              <a:off x="2602080" y="2593800"/>
              <a:ext cx="4792320" cy="1955880"/>
            </a:xfrm>
            <a:custGeom>
              <a:avLst/>
              <a:gdLst>
                <a:gd name="textAreaLeft" fmla="*/ 0 w 4792320"/>
                <a:gd name="textAreaRight" fmla="*/ 4792680 w 47923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3019" h="1232">
                  <a:moveTo>
                    <a:pt x="0" y="18"/>
                  </a:moveTo>
                  <a:lnTo>
                    <a:pt x="15" y="37"/>
                  </a:lnTo>
                  <a:lnTo>
                    <a:pt x="30" y="65"/>
                  </a:lnTo>
                  <a:lnTo>
                    <a:pt x="67" y="125"/>
                  </a:lnTo>
                  <a:lnTo>
                    <a:pt x="112" y="199"/>
                  </a:lnTo>
                  <a:lnTo>
                    <a:pt x="164" y="282"/>
                  </a:lnTo>
                  <a:lnTo>
                    <a:pt x="216" y="366"/>
                  </a:lnTo>
                  <a:lnTo>
                    <a:pt x="269" y="444"/>
                  </a:lnTo>
                  <a:lnTo>
                    <a:pt x="321" y="523"/>
                  </a:lnTo>
                  <a:lnTo>
                    <a:pt x="373" y="588"/>
                  </a:lnTo>
                  <a:lnTo>
                    <a:pt x="470" y="699"/>
                  </a:lnTo>
                  <a:lnTo>
                    <a:pt x="567" y="796"/>
                  </a:lnTo>
                  <a:lnTo>
                    <a:pt x="663" y="879"/>
                  </a:lnTo>
                  <a:lnTo>
                    <a:pt x="760" y="958"/>
                  </a:lnTo>
                  <a:lnTo>
                    <a:pt x="857" y="1032"/>
                  </a:lnTo>
                  <a:lnTo>
                    <a:pt x="947" y="1097"/>
                  </a:lnTo>
                  <a:lnTo>
                    <a:pt x="1043" y="1153"/>
                  </a:lnTo>
                  <a:lnTo>
                    <a:pt x="1103" y="1171"/>
                  </a:lnTo>
                  <a:lnTo>
                    <a:pt x="1170" y="1190"/>
                  </a:lnTo>
                  <a:lnTo>
                    <a:pt x="1245" y="1203"/>
                  </a:lnTo>
                  <a:lnTo>
                    <a:pt x="1334" y="1217"/>
                  </a:lnTo>
                  <a:lnTo>
                    <a:pt x="1431" y="1227"/>
                  </a:lnTo>
                  <a:lnTo>
                    <a:pt x="1528" y="1231"/>
                  </a:lnTo>
                  <a:lnTo>
                    <a:pt x="1632" y="1231"/>
                  </a:lnTo>
                  <a:lnTo>
                    <a:pt x="1729" y="1222"/>
                  </a:lnTo>
                  <a:lnTo>
                    <a:pt x="1826" y="1213"/>
                  </a:lnTo>
                  <a:lnTo>
                    <a:pt x="1915" y="1190"/>
                  </a:lnTo>
                  <a:lnTo>
                    <a:pt x="1997" y="1162"/>
                  </a:lnTo>
                  <a:lnTo>
                    <a:pt x="2072" y="1120"/>
                  </a:lnTo>
                  <a:lnTo>
                    <a:pt x="2146" y="1078"/>
                  </a:lnTo>
                  <a:lnTo>
                    <a:pt x="2221" y="1028"/>
                  </a:lnTo>
                  <a:lnTo>
                    <a:pt x="2288" y="967"/>
                  </a:lnTo>
                  <a:lnTo>
                    <a:pt x="2355" y="907"/>
                  </a:lnTo>
                  <a:lnTo>
                    <a:pt x="2429" y="838"/>
                  </a:lnTo>
                  <a:lnTo>
                    <a:pt x="2496" y="768"/>
                  </a:lnTo>
                  <a:lnTo>
                    <a:pt x="2534" y="727"/>
                  </a:lnTo>
                  <a:lnTo>
                    <a:pt x="2571" y="685"/>
                  </a:lnTo>
                  <a:lnTo>
                    <a:pt x="2638" y="588"/>
                  </a:lnTo>
                  <a:lnTo>
                    <a:pt x="2713" y="481"/>
                  </a:lnTo>
                  <a:lnTo>
                    <a:pt x="2787" y="370"/>
                  </a:lnTo>
                  <a:lnTo>
                    <a:pt x="2854" y="259"/>
                  </a:lnTo>
                  <a:lnTo>
                    <a:pt x="2914" y="157"/>
                  </a:lnTo>
                  <a:lnTo>
                    <a:pt x="2973" y="69"/>
                  </a:lnTo>
                  <a:lnTo>
                    <a:pt x="2996" y="32"/>
                  </a:lnTo>
                  <a:lnTo>
                    <a:pt x="3018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7005600" y="220500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33"/>
            <p:cNvSpPr/>
            <p:nvPr/>
          </p:nvSpPr>
          <p:spPr>
            <a:xfrm>
              <a:off x="3119400" y="2211480"/>
              <a:ext cx="3360600" cy="312552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117" h="1969">
                  <a:moveTo>
                    <a:pt x="0" y="1968"/>
                  </a:moveTo>
                  <a:lnTo>
                    <a:pt x="46" y="1952"/>
                  </a:lnTo>
                  <a:lnTo>
                    <a:pt x="105" y="1925"/>
                  </a:lnTo>
                  <a:lnTo>
                    <a:pt x="170" y="1903"/>
                  </a:lnTo>
                  <a:lnTo>
                    <a:pt x="249" y="1877"/>
                  </a:lnTo>
                  <a:lnTo>
                    <a:pt x="333" y="1844"/>
                  </a:lnTo>
                  <a:lnTo>
                    <a:pt x="425" y="1812"/>
                  </a:lnTo>
                  <a:lnTo>
                    <a:pt x="608" y="1742"/>
                  </a:lnTo>
                  <a:lnTo>
                    <a:pt x="804" y="1667"/>
                  </a:lnTo>
                  <a:lnTo>
                    <a:pt x="986" y="1586"/>
                  </a:lnTo>
                  <a:lnTo>
                    <a:pt x="1078" y="1549"/>
                  </a:lnTo>
                  <a:lnTo>
                    <a:pt x="1156" y="1511"/>
                  </a:lnTo>
                  <a:lnTo>
                    <a:pt x="1228" y="1468"/>
                  </a:lnTo>
                  <a:lnTo>
                    <a:pt x="1293" y="1430"/>
                  </a:lnTo>
                  <a:lnTo>
                    <a:pt x="1404" y="1350"/>
                  </a:lnTo>
                  <a:lnTo>
                    <a:pt x="1496" y="1269"/>
                  </a:lnTo>
                  <a:lnTo>
                    <a:pt x="1581" y="1188"/>
                  </a:lnTo>
                  <a:lnTo>
                    <a:pt x="1652" y="1102"/>
                  </a:lnTo>
                  <a:lnTo>
                    <a:pt x="1718" y="1016"/>
                  </a:lnTo>
                  <a:lnTo>
                    <a:pt x="1776" y="925"/>
                  </a:lnTo>
                  <a:lnTo>
                    <a:pt x="1881" y="747"/>
                  </a:lnTo>
                  <a:lnTo>
                    <a:pt x="1927" y="656"/>
                  </a:lnTo>
                  <a:lnTo>
                    <a:pt x="1966" y="554"/>
                  </a:lnTo>
                  <a:lnTo>
                    <a:pt x="2031" y="344"/>
                  </a:lnTo>
                  <a:lnTo>
                    <a:pt x="2057" y="242"/>
                  </a:lnTo>
                  <a:lnTo>
                    <a:pt x="2077" y="150"/>
                  </a:lnTo>
                  <a:lnTo>
                    <a:pt x="2096" y="70"/>
                  </a:lnTo>
                  <a:lnTo>
                    <a:pt x="2116" y="0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4"/>
            <p:cNvSpPr/>
            <p:nvPr/>
          </p:nvSpPr>
          <p:spPr>
            <a:xfrm>
              <a:off x="6167520" y="3119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8"/>
            <p:cNvSpPr/>
            <p:nvPr/>
          </p:nvSpPr>
          <p:spPr>
            <a:xfrm>
              <a:off x="6395760" y="174780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mercados perfectamente competitiv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Homogeneidad del produc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productos de todas las empresas son sustitutivos perfect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ductos agrícolas, petróleo, cobre, hierro, mader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80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3"/>
          <p:cNvSpPr/>
          <p:nvPr/>
        </p:nvSpPr>
        <p:spPr>
          <a:xfrm flipH="1">
            <a:off x="2198160" y="3962520"/>
            <a:ext cx="2325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4"/>
          <p:cNvSpPr/>
          <p:nvPr/>
        </p:nvSpPr>
        <p:spPr>
          <a:xfrm>
            <a:off x="2209680" y="3505320"/>
            <a:ext cx="230184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5"/>
          <p:cNvSpPr/>
          <p:nvPr/>
        </p:nvSpPr>
        <p:spPr>
          <a:xfrm>
            <a:off x="4511520" y="3519360"/>
            <a:ext cx="0" cy="2411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6"/>
          <p:cNvSpPr/>
          <p:nvPr/>
        </p:nvSpPr>
        <p:spPr>
          <a:xfrm>
            <a:off x="4343760" y="586584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7"/>
          <p:cNvSpPr/>
          <p:nvPr/>
        </p:nvSpPr>
        <p:spPr>
          <a:xfrm>
            <a:off x="4202280" y="30430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8"/>
          <p:cNvSpPr/>
          <p:nvPr/>
        </p:nvSpPr>
        <p:spPr>
          <a:xfrm>
            <a:off x="4583160" y="3881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9"/>
          <p:cNvSpPr/>
          <p:nvPr/>
        </p:nvSpPr>
        <p:spPr>
          <a:xfrm>
            <a:off x="1824120" y="372888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10"/>
          <p:cNvSpPr/>
          <p:nvPr/>
        </p:nvSpPr>
        <p:spPr>
          <a:xfrm>
            <a:off x="2205000" y="2967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1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1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5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6"/>
          <p:cNvSpPr/>
          <p:nvPr/>
        </p:nvSpPr>
        <p:spPr>
          <a:xfrm>
            <a:off x="2200320" y="5950080"/>
            <a:ext cx="514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20"/>
          <p:cNvSpPr/>
          <p:nvPr/>
        </p:nvSpPr>
        <p:spPr>
          <a:xfrm>
            <a:off x="2236680" y="3505320"/>
            <a:ext cx="51292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21"/>
          <p:cNvSpPr/>
          <p:nvPr/>
        </p:nvSpPr>
        <p:spPr>
          <a:xfrm>
            <a:off x="7523280" y="331308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22"/>
          <p:cNvSpPr/>
          <p:nvPr/>
        </p:nvSpPr>
        <p:spPr>
          <a:xfrm>
            <a:off x="1598400" y="32716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6" name="Group 23"/>
          <p:cNvGrpSpPr/>
          <p:nvPr/>
        </p:nvGrpSpPr>
        <p:grpSpPr>
          <a:xfrm>
            <a:off x="3178080" y="2509920"/>
            <a:ext cx="2750400" cy="2979720"/>
            <a:chOff x="3178080" y="2509920"/>
            <a:chExt cx="2750400" cy="2979720"/>
          </a:xfrm>
        </p:grpSpPr>
        <p:sp>
          <p:nvSpPr>
            <p:cNvPr id="1597" name="Freeform 24"/>
            <p:cNvSpPr/>
            <p:nvPr/>
          </p:nvSpPr>
          <p:spPr>
            <a:xfrm>
              <a:off x="3276720" y="2968560"/>
              <a:ext cx="1390680" cy="2521080"/>
            </a:xfrm>
            <a:custGeom>
              <a:avLst/>
              <a:gdLst>
                <a:gd name="textAreaLeft" fmla="*/ 0 w 1390680"/>
                <a:gd name="textAreaRight" fmla="*/ 1391040 w 1390680"/>
                <a:gd name="textAreaTop" fmla="*/ 0 h 2521080"/>
                <a:gd name="textAreaBottom" fmla="*/ 2521440 h 2521080"/>
              </a:gdLst>
              <a:ahLst/>
              <a:rect l="textAreaLeft" t="textAreaTop" r="textAreaRight" b="textAreaBottom"/>
              <a:pathLst>
                <a:path w="876" h="1588">
                  <a:moveTo>
                    <a:pt x="0" y="1587"/>
                  </a:moveTo>
                  <a:lnTo>
                    <a:pt x="38" y="1543"/>
                  </a:lnTo>
                  <a:lnTo>
                    <a:pt x="90" y="1482"/>
                  </a:lnTo>
                  <a:lnTo>
                    <a:pt x="151" y="1416"/>
                  </a:lnTo>
                  <a:lnTo>
                    <a:pt x="221" y="1338"/>
                  </a:lnTo>
                  <a:lnTo>
                    <a:pt x="287" y="1255"/>
                  </a:lnTo>
                  <a:lnTo>
                    <a:pt x="353" y="1178"/>
                  </a:lnTo>
                  <a:lnTo>
                    <a:pt x="414" y="1100"/>
                  </a:lnTo>
                  <a:lnTo>
                    <a:pt x="466" y="1028"/>
                  </a:lnTo>
                  <a:lnTo>
                    <a:pt x="504" y="968"/>
                  </a:lnTo>
                  <a:lnTo>
                    <a:pt x="541" y="907"/>
                  </a:lnTo>
                  <a:lnTo>
                    <a:pt x="598" y="791"/>
                  </a:lnTo>
                  <a:lnTo>
                    <a:pt x="649" y="669"/>
                  </a:lnTo>
                  <a:lnTo>
                    <a:pt x="701" y="547"/>
                  </a:lnTo>
                  <a:lnTo>
                    <a:pt x="729" y="481"/>
                  </a:lnTo>
                  <a:lnTo>
                    <a:pt x="753" y="409"/>
                  </a:lnTo>
                  <a:lnTo>
                    <a:pt x="809" y="265"/>
                  </a:lnTo>
                  <a:lnTo>
                    <a:pt x="833" y="193"/>
                  </a:lnTo>
                  <a:lnTo>
                    <a:pt x="851" y="121"/>
                  </a:lnTo>
                  <a:lnTo>
                    <a:pt x="866" y="55"/>
                  </a:lnTo>
                  <a:lnTo>
                    <a:pt x="875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25"/>
            <p:cNvSpPr/>
            <p:nvPr/>
          </p:nvSpPr>
          <p:spPr>
            <a:xfrm>
              <a:off x="5100840" y="2779560"/>
              <a:ext cx="82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26"/>
            <p:cNvSpPr/>
            <p:nvPr/>
          </p:nvSpPr>
          <p:spPr>
            <a:xfrm>
              <a:off x="4278240" y="250992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7"/>
            <p:cNvSpPr/>
            <p:nvPr/>
          </p:nvSpPr>
          <p:spPr>
            <a:xfrm>
              <a:off x="3178080" y="3278160"/>
              <a:ext cx="2251080" cy="69696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18" h="439">
                  <a:moveTo>
                    <a:pt x="0" y="28"/>
                  </a:moveTo>
                  <a:lnTo>
                    <a:pt x="6" y="40"/>
                  </a:lnTo>
                  <a:lnTo>
                    <a:pt x="11" y="56"/>
                  </a:lnTo>
                  <a:lnTo>
                    <a:pt x="22" y="96"/>
                  </a:lnTo>
                  <a:lnTo>
                    <a:pt x="38" y="145"/>
                  </a:lnTo>
                  <a:lnTo>
                    <a:pt x="60" y="189"/>
                  </a:lnTo>
                  <a:lnTo>
                    <a:pt x="93" y="233"/>
                  </a:lnTo>
                  <a:lnTo>
                    <a:pt x="137" y="277"/>
                  </a:lnTo>
                  <a:lnTo>
                    <a:pt x="181" y="317"/>
                  </a:lnTo>
                  <a:lnTo>
                    <a:pt x="224" y="354"/>
                  </a:lnTo>
                  <a:lnTo>
                    <a:pt x="268" y="378"/>
                  </a:lnTo>
                  <a:lnTo>
                    <a:pt x="312" y="394"/>
                  </a:lnTo>
                  <a:lnTo>
                    <a:pt x="361" y="410"/>
                  </a:lnTo>
                  <a:lnTo>
                    <a:pt x="421" y="418"/>
                  </a:lnTo>
                  <a:lnTo>
                    <a:pt x="487" y="426"/>
                  </a:lnTo>
                  <a:lnTo>
                    <a:pt x="569" y="434"/>
                  </a:lnTo>
                  <a:lnTo>
                    <a:pt x="657" y="438"/>
                  </a:lnTo>
                  <a:lnTo>
                    <a:pt x="744" y="430"/>
                  </a:lnTo>
                  <a:lnTo>
                    <a:pt x="843" y="418"/>
                  </a:lnTo>
                  <a:lnTo>
                    <a:pt x="941" y="394"/>
                  </a:lnTo>
                  <a:lnTo>
                    <a:pt x="1040" y="366"/>
                  </a:lnTo>
                  <a:lnTo>
                    <a:pt x="1127" y="334"/>
                  </a:lnTo>
                  <a:lnTo>
                    <a:pt x="1204" y="293"/>
                  </a:lnTo>
                  <a:lnTo>
                    <a:pt x="1269" y="241"/>
                  </a:lnTo>
                  <a:lnTo>
                    <a:pt x="1324" y="193"/>
                  </a:lnTo>
                  <a:lnTo>
                    <a:pt x="1368" y="145"/>
                  </a:lnTo>
                  <a:lnTo>
                    <a:pt x="1395" y="105"/>
                  </a:lnTo>
                  <a:lnTo>
                    <a:pt x="1412" y="68"/>
                  </a:lnTo>
                  <a:lnTo>
                    <a:pt x="1417" y="32"/>
                  </a:lnTo>
                  <a:lnTo>
                    <a:pt x="1417" y="0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Rectangle 29"/>
          <p:cNvSpPr/>
          <p:nvPr/>
        </p:nvSpPr>
        <p:spPr>
          <a:xfrm>
            <a:off x="2294640" y="1454040"/>
            <a:ext cx="402192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Pregunt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¿consigue el productor beneficio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ués de que el aumento d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ón reduzca el precio a 30€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30"/>
          <p:cNvSpPr/>
          <p:nvPr/>
        </p:nvSpPr>
        <p:spPr>
          <a:xfrm>
            <a:off x="6019920" y="3519360"/>
            <a:ext cx="0" cy="2411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31"/>
          <p:cNvSpPr/>
          <p:nvPr/>
        </p:nvSpPr>
        <p:spPr>
          <a:xfrm>
            <a:off x="5867640" y="586584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32"/>
          <p:cNvSpPr/>
          <p:nvPr/>
        </p:nvSpPr>
        <p:spPr>
          <a:xfrm>
            <a:off x="5181480" y="4586400"/>
            <a:ext cx="0" cy="1344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33"/>
          <p:cNvSpPr/>
          <p:nvPr/>
        </p:nvSpPr>
        <p:spPr>
          <a:xfrm>
            <a:off x="4953240" y="5865840"/>
            <a:ext cx="3945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34"/>
          <p:cNvSpPr/>
          <p:nvPr/>
        </p:nvSpPr>
        <p:spPr>
          <a:xfrm flipH="1">
            <a:off x="2198520" y="4267080"/>
            <a:ext cx="3834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35"/>
          <p:cNvSpPr/>
          <p:nvPr/>
        </p:nvSpPr>
        <p:spPr>
          <a:xfrm>
            <a:off x="1823760" y="4033800"/>
            <a:ext cx="35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36"/>
          <p:cNvSpPr/>
          <p:nvPr/>
        </p:nvSpPr>
        <p:spPr>
          <a:xfrm>
            <a:off x="6090840" y="4110120"/>
            <a:ext cx="3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Group 37"/>
          <p:cNvGrpSpPr/>
          <p:nvPr/>
        </p:nvGrpSpPr>
        <p:grpSpPr>
          <a:xfrm>
            <a:off x="1598400" y="1747800"/>
            <a:ext cx="6210360" cy="3589200"/>
            <a:chOff x="1598400" y="1747800"/>
            <a:chExt cx="6210360" cy="3589200"/>
          </a:xfrm>
        </p:grpSpPr>
        <p:sp>
          <p:nvSpPr>
            <p:cNvPr id="1610" name="Rectangle 38"/>
            <p:cNvSpPr/>
            <p:nvPr/>
          </p:nvSpPr>
          <p:spPr>
            <a:xfrm>
              <a:off x="1598400" y="44146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Line 39"/>
            <p:cNvSpPr/>
            <p:nvPr/>
          </p:nvSpPr>
          <p:spPr>
            <a:xfrm>
              <a:off x="2236680" y="4572000"/>
              <a:ext cx="5129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40"/>
            <p:cNvSpPr/>
            <p:nvPr/>
          </p:nvSpPr>
          <p:spPr>
            <a:xfrm>
              <a:off x="2602080" y="2593800"/>
              <a:ext cx="4792320" cy="1955880"/>
            </a:xfrm>
            <a:custGeom>
              <a:avLst/>
              <a:gdLst>
                <a:gd name="textAreaLeft" fmla="*/ 0 w 4792320"/>
                <a:gd name="textAreaRight" fmla="*/ 4792680 w 47923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3019" h="1232">
                  <a:moveTo>
                    <a:pt x="0" y="18"/>
                  </a:moveTo>
                  <a:lnTo>
                    <a:pt x="15" y="37"/>
                  </a:lnTo>
                  <a:lnTo>
                    <a:pt x="30" y="65"/>
                  </a:lnTo>
                  <a:lnTo>
                    <a:pt x="67" y="125"/>
                  </a:lnTo>
                  <a:lnTo>
                    <a:pt x="112" y="199"/>
                  </a:lnTo>
                  <a:lnTo>
                    <a:pt x="164" y="282"/>
                  </a:lnTo>
                  <a:lnTo>
                    <a:pt x="216" y="366"/>
                  </a:lnTo>
                  <a:lnTo>
                    <a:pt x="269" y="444"/>
                  </a:lnTo>
                  <a:lnTo>
                    <a:pt x="321" y="523"/>
                  </a:lnTo>
                  <a:lnTo>
                    <a:pt x="373" y="588"/>
                  </a:lnTo>
                  <a:lnTo>
                    <a:pt x="470" y="699"/>
                  </a:lnTo>
                  <a:lnTo>
                    <a:pt x="567" y="796"/>
                  </a:lnTo>
                  <a:lnTo>
                    <a:pt x="663" y="879"/>
                  </a:lnTo>
                  <a:lnTo>
                    <a:pt x="760" y="958"/>
                  </a:lnTo>
                  <a:lnTo>
                    <a:pt x="857" y="1032"/>
                  </a:lnTo>
                  <a:lnTo>
                    <a:pt x="947" y="1097"/>
                  </a:lnTo>
                  <a:lnTo>
                    <a:pt x="1043" y="1153"/>
                  </a:lnTo>
                  <a:lnTo>
                    <a:pt x="1103" y="1171"/>
                  </a:lnTo>
                  <a:lnTo>
                    <a:pt x="1170" y="1190"/>
                  </a:lnTo>
                  <a:lnTo>
                    <a:pt x="1245" y="1203"/>
                  </a:lnTo>
                  <a:lnTo>
                    <a:pt x="1334" y="1217"/>
                  </a:lnTo>
                  <a:lnTo>
                    <a:pt x="1431" y="1227"/>
                  </a:lnTo>
                  <a:lnTo>
                    <a:pt x="1528" y="1231"/>
                  </a:lnTo>
                  <a:lnTo>
                    <a:pt x="1632" y="1231"/>
                  </a:lnTo>
                  <a:lnTo>
                    <a:pt x="1729" y="1222"/>
                  </a:lnTo>
                  <a:lnTo>
                    <a:pt x="1826" y="1213"/>
                  </a:lnTo>
                  <a:lnTo>
                    <a:pt x="1915" y="1190"/>
                  </a:lnTo>
                  <a:lnTo>
                    <a:pt x="1997" y="1162"/>
                  </a:lnTo>
                  <a:lnTo>
                    <a:pt x="2072" y="1120"/>
                  </a:lnTo>
                  <a:lnTo>
                    <a:pt x="2146" y="1078"/>
                  </a:lnTo>
                  <a:lnTo>
                    <a:pt x="2221" y="1028"/>
                  </a:lnTo>
                  <a:lnTo>
                    <a:pt x="2288" y="967"/>
                  </a:lnTo>
                  <a:lnTo>
                    <a:pt x="2355" y="907"/>
                  </a:lnTo>
                  <a:lnTo>
                    <a:pt x="2429" y="838"/>
                  </a:lnTo>
                  <a:lnTo>
                    <a:pt x="2496" y="768"/>
                  </a:lnTo>
                  <a:lnTo>
                    <a:pt x="2534" y="727"/>
                  </a:lnTo>
                  <a:lnTo>
                    <a:pt x="2571" y="685"/>
                  </a:lnTo>
                  <a:lnTo>
                    <a:pt x="2638" y="588"/>
                  </a:lnTo>
                  <a:lnTo>
                    <a:pt x="2713" y="481"/>
                  </a:lnTo>
                  <a:lnTo>
                    <a:pt x="2787" y="370"/>
                  </a:lnTo>
                  <a:lnTo>
                    <a:pt x="2854" y="259"/>
                  </a:lnTo>
                  <a:lnTo>
                    <a:pt x="2914" y="157"/>
                  </a:lnTo>
                  <a:lnTo>
                    <a:pt x="2973" y="69"/>
                  </a:lnTo>
                  <a:lnTo>
                    <a:pt x="2996" y="32"/>
                  </a:lnTo>
                  <a:lnTo>
                    <a:pt x="3018" y="0"/>
                  </a:lnTo>
                </a:path>
              </a:pathLst>
            </a:custGeom>
            <a:noFill/>
            <a:ln cap="rnd" w="507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41"/>
            <p:cNvSpPr/>
            <p:nvPr/>
          </p:nvSpPr>
          <p:spPr>
            <a:xfrm>
              <a:off x="7005600" y="220500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42"/>
            <p:cNvSpPr/>
            <p:nvPr/>
          </p:nvSpPr>
          <p:spPr>
            <a:xfrm>
              <a:off x="3119400" y="2211480"/>
              <a:ext cx="3360600" cy="312552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3125520"/>
                <a:gd name="textAreaBottom" fmla="*/ 3125880 h 3125520"/>
              </a:gdLst>
              <a:ahLst/>
              <a:rect l="textAreaLeft" t="textAreaTop" r="textAreaRight" b="textAreaBottom"/>
              <a:pathLst>
                <a:path w="2117" h="1969">
                  <a:moveTo>
                    <a:pt x="0" y="1968"/>
                  </a:moveTo>
                  <a:lnTo>
                    <a:pt x="46" y="1952"/>
                  </a:lnTo>
                  <a:lnTo>
                    <a:pt x="105" y="1925"/>
                  </a:lnTo>
                  <a:lnTo>
                    <a:pt x="170" y="1903"/>
                  </a:lnTo>
                  <a:lnTo>
                    <a:pt x="249" y="1877"/>
                  </a:lnTo>
                  <a:lnTo>
                    <a:pt x="333" y="1844"/>
                  </a:lnTo>
                  <a:lnTo>
                    <a:pt x="425" y="1812"/>
                  </a:lnTo>
                  <a:lnTo>
                    <a:pt x="608" y="1742"/>
                  </a:lnTo>
                  <a:lnTo>
                    <a:pt x="804" y="1667"/>
                  </a:lnTo>
                  <a:lnTo>
                    <a:pt x="986" y="1586"/>
                  </a:lnTo>
                  <a:lnTo>
                    <a:pt x="1078" y="1549"/>
                  </a:lnTo>
                  <a:lnTo>
                    <a:pt x="1156" y="1511"/>
                  </a:lnTo>
                  <a:lnTo>
                    <a:pt x="1228" y="1468"/>
                  </a:lnTo>
                  <a:lnTo>
                    <a:pt x="1293" y="1430"/>
                  </a:lnTo>
                  <a:lnTo>
                    <a:pt x="1404" y="1350"/>
                  </a:lnTo>
                  <a:lnTo>
                    <a:pt x="1496" y="1269"/>
                  </a:lnTo>
                  <a:lnTo>
                    <a:pt x="1581" y="1188"/>
                  </a:lnTo>
                  <a:lnTo>
                    <a:pt x="1652" y="1102"/>
                  </a:lnTo>
                  <a:lnTo>
                    <a:pt x="1718" y="1016"/>
                  </a:lnTo>
                  <a:lnTo>
                    <a:pt x="1776" y="925"/>
                  </a:lnTo>
                  <a:lnTo>
                    <a:pt x="1881" y="747"/>
                  </a:lnTo>
                  <a:lnTo>
                    <a:pt x="1927" y="656"/>
                  </a:lnTo>
                  <a:lnTo>
                    <a:pt x="1966" y="554"/>
                  </a:lnTo>
                  <a:lnTo>
                    <a:pt x="2031" y="344"/>
                  </a:lnTo>
                  <a:lnTo>
                    <a:pt x="2057" y="242"/>
                  </a:lnTo>
                  <a:lnTo>
                    <a:pt x="2077" y="150"/>
                  </a:lnTo>
                  <a:lnTo>
                    <a:pt x="2096" y="70"/>
                  </a:lnTo>
                  <a:lnTo>
                    <a:pt x="2116" y="0"/>
                  </a:lnTo>
                </a:path>
              </a:pathLst>
            </a:custGeom>
            <a:noFill/>
            <a:ln cap="rnd" w="507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43"/>
            <p:cNvSpPr/>
            <p:nvPr/>
          </p:nvSpPr>
          <p:spPr>
            <a:xfrm>
              <a:off x="6167520" y="3119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4"/>
            <p:cNvSpPr/>
            <p:nvPr/>
          </p:nvSpPr>
          <p:spPr>
            <a:xfrm>
              <a:off x="6395760" y="174780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7" name="Rectangle 45"/>
          <p:cNvSpPr/>
          <p:nvPr/>
        </p:nvSpPr>
        <p:spPr>
          <a:xfrm>
            <a:off x="791640" y="1422360"/>
            <a:ext cx="1350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uro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46"/>
          <p:cNvSpPr/>
          <p:nvPr/>
        </p:nvSpPr>
        <p:spPr>
          <a:xfrm>
            <a:off x="7119000" y="589932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Beneficio contable y beneficio económic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eneficio contable      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 - wL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eneficio económico       =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I = wL - rK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wL 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s labor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rk</a:t>
            </a:r>
            <a:r>
              <a:rPr b="0" i="1" lang="en-US" sz="2800" spc="-1" strike="noStrike" baseline="-25000">
                <a:solidFill>
                  <a:srgbClr val="26262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de oportunidad del capit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1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4" name="Object 6"/>
              <p:cNvSpPr txBox="1"/>
              <p:nvPr/>
            </p:nvSpPr>
            <p:spPr>
              <a:xfrm>
                <a:off x="4660920" y="2394000"/>
                <a:ext cx="5792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Object 7"/>
              <p:cNvSpPr txBox="1"/>
              <p:nvPr/>
            </p:nvSpPr>
            <p:spPr>
              <a:xfrm>
                <a:off x="5008680" y="2965320"/>
                <a:ext cx="5792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52080" y="1943280"/>
            <a:ext cx="8248680" cy="42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Beneficio nu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I &gt; wL + rk, </a:t>
            </a:r>
            <a:r>
              <a:rPr b="0" lang="es-ES" sz="2600" spc="-1" strike="noStrike">
                <a:solidFill>
                  <a:srgbClr val="262626"/>
                </a:solidFill>
                <a:latin typeface="Arial"/>
              </a:rPr>
              <a:t>los beneficios económicos son positivos.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3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I = wL + rk,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los beneficios económicos son nulos, pero las empresas obtienen una tasa de rendimiento normal que muestra una industria competitiva. </a:t>
            </a:r>
            <a:endParaRPr b="0" lang="en-US" sz="26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Si </a:t>
            </a:r>
            <a:r>
              <a:rPr b="0" i="1" lang="en-US" sz="2600" spc="-1" strike="noStrike">
                <a:solidFill>
                  <a:srgbClr val="262626"/>
                </a:solidFill>
                <a:latin typeface="Arial"/>
              </a:rPr>
              <a:t>I &lt; wl + rk, </a:t>
            </a:r>
            <a:r>
              <a:rPr b="0" lang="en-US" sz="2600" spc="-1" strike="noStrike">
                <a:solidFill>
                  <a:srgbClr val="262626"/>
                </a:solidFill>
                <a:latin typeface="Arial"/>
              </a:rPr>
              <a:t>se considera la posibilidad de cerrar.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6"/>
          <p:cNvSpPr/>
          <p:nvPr/>
        </p:nvSpPr>
        <p:spPr>
          <a:xfrm>
            <a:off x="208800" y="1427040"/>
            <a:ext cx="65800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quilibrio competitivo a largo plaz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52080" y="2057040"/>
            <a:ext cx="8248680" cy="41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trada y salid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a respuesta a largo plazo de los beneficios a corto plazo es el aumento de la producción y de los benefici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Los beneficios atraen a otros producto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Un mayor número de productores aumentan la oferta de la industria lo que disminuye el precio del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 Box 9"/>
          <p:cNvSpPr/>
          <p:nvPr/>
        </p:nvSpPr>
        <p:spPr>
          <a:xfrm>
            <a:off x="208800" y="1427040"/>
            <a:ext cx="6580080" cy="520560"/>
          </a:xfrm>
          <a:prstGeom prst="rect">
            <a:avLst/>
          </a:prstGeom>
          <a:solidFill>
            <a:srgbClr val="d8c0cb"/>
          </a:solidFill>
          <a:ln w="12600">
            <a:solidFill>
              <a:srgbClr val="376546"/>
            </a:solidFill>
            <a:miter/>
          </a:ln>
          <a:effectLst>
            <a:outerShdw dist="107932" dir="2700000" blurRad="0" rotWithShape="0">
              <a:srgbClr val="b2b2b2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equilibrio competitivo a largo plaz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Group 47"/>
          <p:cNvGrpSpPr/>
          <p:nvPr/>
        </p:nvGrpSpPr>
        <p:grpSpPr>
          <a:xfrm>
            <a:off x="5284800" y="2128680"/>
            <a:ext cx="3276000" cy="2316240"/>
            <a:chOff x="5284800" y="2128680"/>
            <a:chExt cx="3276000" cy="2316240"/>
          </a:xfrm>
        </p:grpSpPr>
        <p:sp>
          <p:nvSpPr>
            <p:cNvPr id="1639" name="Line 5"/>
            <p:cNvSpPr/>
            <p:nvPr/>
          </p:nvSpPr>
          <p:spPr>
            <a:xfrm flipV="1">
              <a:off x="5284800" y="2567160"/>
              <a:ext cx="3071880" cy="187776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27"/>
            <p:cNvSpPr/>
            <p:nvPr/>
          </p:nvSpPr>
          <p:spPr>
            <a:xfrm>
              <a:off x="8154000" y="21286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equilibrio competitivo a largo plaz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44" name="Line 8"/>
          <p:cNvSpPr/>
          <p:nvPr/>
        </p:nvSpPr>
        <p:spPr>
          <a:xfrm>
            <a:off x="7621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9"/>
          <p:cNvSpPr/>
          <p:nvPr/>
        </p:nvSpPr>
        <p:spPr>
          <a:xfrm>
            <a:off x="502920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10"/>
          <p:cNvSpPr/>
          <p:nvPr/>
        </p:nvSpPr>
        <p:spPr>
          <a:xfrm>
            <a:off x="776160" y="601992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11"/>
          <p:cNvSpPr/>
          <p:nvPr/>
        </p:nvSpPr>
        <p:spPr>
          <a:xfrm>
            <a:off x="5043600" y="601992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12"/>
          <p:cNvSpPr/>
          <p:nvPr/>
        </p:nvSpPr>
        <p:spPr>
          <a:xfrm>
            <a:off x="3561480" y="5977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13"/>
          <p:cNvSpPr/>
          <p:nvPr/>
        </p:nvSpPr>
        <p:spPr>
          <a:xfrm>
            <a:off x="7847640" y="5977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15"/>
          <p:cNvSpPr/>
          <p:nvPr/>
        </p:nvSpPr>
        <p:spPr>
          <a:xfrm>
            <a:off x="30240" y="182412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16"/>
          <p:cNvSpPr/>
          <p:nvPr/>
        </p:nvSpPr>
        <p:spPr>
          <a:xfrm>
            <a:off x="150480" y="34243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Group 49"/>
          <p:cNvGrpSpPr/>
          <p:nvPr/>
        </p:nvGrpSpPr>
        <p:grpSpPr>
          <a:xfrm>
            <a:off x="1293840" y="3092400"/>
            <a:ext cx="3168360" cy="2397240"/>
            <a:chOff x="1293840" y="3092400"/>
            <a:chExt cx="3168360" cy="2397240"/>
          </a:xfrm>
        </p:grpSpPr>
        <p:sp>
          <p:nvSpPr>
            <p:cNvPr id="1653" name="Freeform 19"/>
            <p:cNvSpPr/>
            <p:nvPr/>
          </p:nvSpPr>
          <p:spPr>
            <a:xfrm>
              <a:off x="1293840" y="3960720"/>
              <a:ext cx="2671560" cy="712800"/>
            </a:xfrm>
            <a:custGeom>
              <a:avLst/>
              <a:gdLst>
                <a:gd name="textAreaLeft" fmla="*/ 0 w 2671560"/>
                <a:gd name="textAreaRight" fmla="*/ 2671920 w 2671560"/>
                <a:gd name="textAreaTop" fmla="*/ 0 h 712800"/>
                <a:gd name="textAreaBottom" fmla="*/ 713160 h 712800"/>
              </a:gdLst>
              <a:ahLst/>
              <a:rect l="textAreaLeft" t="textAreaTop" r="textAreaRight" b="textAreaBottom"/>
              <a:pathLst>
                <a:path w="1683" h="449">
                  <a:moveTo>
                    <a:pt x="0" y="48"/>
                  </a:moveTo>
                  <a:lnTo>
                    <a:pt x="88" y="110"/>
                  </a:lnTo>
                  <a:lnTo>
                    <a:pt x="180" y="171"/>
                  </a:lnTo>
                  <a:lnTo>
                    <a:pt x="272" y="233"/>
                  </a:lnTo>
                  <a:lnTo>
                    <a:pt x="368" y="286"/>
                  </a:lnTo>
                  <a:lnTo>
                    <a:pt x="459" y="338"/>
                  </a:lnTo>
                  <a:lnTo>
                    <a:pt x="551" y="376"/>
                  </a:lnTo>
                  <a:lnTo>
                    <a:pt x="635" y="410"/>
                  </a:lnTo>
                  <a:lnTo>
                    <a:pt x="719" y="433"/>
                  </a:lnTo>
                  <a:lnTo>
                    <a:pt x="799" y="448"/>
                  </a:lnTo>
                  <a:lnTo>
                    <a:pt x="879" y="448"/>
                  </a:lnTo>
                  <a:lnTo>
                    <a:pt x="951" y="438"/>
                  </a:lnTo>
                  <a:lnTo>
                    <a:pt x="1027" y="424"/>
                  </a:lnTo>
                  <a:lnTo>
                    <a:pt x="1095" y="405"/>
                  </a:lnTo>
                  <a:lnTo>
                    <a:pt x="1163" y="381"/>
                  </a:lnTo>
                  <a:lnTo>
                    <a:pt x="1290" y="329"/>
                  </a:lnTo>
                  <a:lnTo>
                    <a:pt x="1350" y="295"/>
                  </a:lnTo>
                  <a:lnTo>
                    <a:pt x="1406" y="257"/>
                  </a:lnTo>
                  <a:lnTo>
                    <a:pt x="1462" y="210"/>
                  </a:lnTo>
                  <a:lnTo>
                    <a:pt x="1514" y="162"/>
                  </a:lnTo>
                  <a:lnTo>
                    <a:pt x="1562" y="114"/>
                  </a:lnTo>
                  <a:lnTo>
                    <a:pt x="1606" y="72"/>
                  </a:lnTo>
                  <a:lnTo>
                    <a:pt x="1646" y="29"/>
                  </a:lnTo>
                  <a:lnTo>
                    <a:pt x="1682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20"/>
            <p:cNvSpPr/>
            <p:nvPr/>
          </p:nvSpPr>
          <p:spPr>
            <a:xfrm>
              <a:off x="3729240" y="3652920"/>
              <a:ext cx="73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21"/>
            <p:cNvSpPr/>
            <p:nvPr/>
          </p:nvSpPr>
          <p:spPr>
            <a:xfrm>
              <a:off x="1677960" y="3433680"/>
              <a:ext cx="1601640" cy="2055960"/>
            </a:xfrm>
            <a:custGeom>
              <a:avLst/>
              <a:gdLst>
                <a:gd name="textAreaLeft" fmla="*/ 0 w 1601640"/>
                <a:gd name="textAreaRight" fmla="*/ 1602000 w 1601640"/>
                <a:gd name="textAreaTop" fmla="*/ 0 h 2055960"/>
                <a:gd name="textAreaBottom" fmla="*/ 2056320 h 2055960"/>
              </a:gdLst>
              <a:ahLst/>
              <a:rect l="textAreaLeft" t="textAreaTop" r="textAreaRight" b="textAreaBottom"/>
              <a:pathLst>
                <a:path w="1009" h="1295">
                  <a:moveTo>
                    <a:pt x="0" y="1294"/>
                  </a:moveTo>
                  <a:lnTo>
                    <a:pt x="129" y="1200"/>
                  </a:lnTo>
                  <a:lnTo>
                    <a:pt x="255" y="1111"/>
                  </a:lnTo>
                  <a:lnTo>
                    <a:pt x="370" y="1012"/>
                  </a:lnTo>
                  <a:lnTo>
                    <a:pt x="426" y="962"/>
                  </a:lnTo>
                  <a:lnTo>
                    <a:pt x="479" y="907"/>
                  </a:lnTo>
                  <a:lnTo>
                    <a:pt x="575" y="791"/>
                  </a:lnTo>
                  <a:lnTo>
                    <a:pt x="664" y="669"/>
                  </a:lnTo>
                  <a:lnTo>
                    <a:pt x="744" y="547"/>
                  </a:lnTo>
                  <a:lnTo>
                    <a:pt x="816" y="431"/>
                  </a:lnTo>
                  <a:lnTo>
                    <a:pt x="876" y="321"/>
                  </a:lnTo>
                  <a:lnTo>
                    <a:pt x="925" y="210"/>
                  </a:lnTo>
                  <a:lnTo>
                    <a:pt x="968" y="105"/>
                  </a:lnTo>
                  <a:lnTo>
                    <a:pt x="1008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22"/>
            <p:cNvSpPr/>
            <p:nvPr/>
          </p:nvSpPr>
          <p:spPr>
            <a:xfrm>
              <a:off x="2890800" y="3092400"/>
              <a:ext cx="62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Group 46"/>
          <p:cNvGrpSpPr/>
          <p:nvPr/>
        </p:nvGrpSpPr>
        <p:grpSpPr>
          <a:xfrm>
            <a:off x="5665680" y="2617920"/>
            <a:ext cx="2600280" cy="3074400"/>
            <a:chOff x="5665680" y="2617920"/>
            <a:chExt cx="2600280" cy="3074400"/>
          </a:xfrm>
        </p:grpSpPr>
        <p:sp>
          <p:nvSpPr>
            <p:cNvPr id="1658" name="Line 6"/>
            <p:cNvSpPr/>
            <p:nvPr/>
          </p:nvSpPr>
          <p:spPr>
            <a:xfrm>
              <a:off x="5665680" y="2617920"/>
              <a:ext cx="2309760" cy="27669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26"/>
            <p:cNvSpPr/>
            <p:nvPr/>
          </p:nvSpPr>
          <p:spPr>
            <a:xfrm>
              <a:off x="7920000" y="53290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51"/>
          <p:cNvGrpSpPr/>
          <p:nvPr/>
        </p:nvGrpSpPr>
        <p:grpSpPr>
          <a:xfrm>
            <a:off x="5818320" y="3652920"/>
            <a:ext cx="2894760" cy="1782360"/>
            <a:chOff x="5818320" y="3652920"/>
            <a:chExt cx="2894760" cy="1782360"/>
          </a:xfrm>
        </p:grpSpPr>
        <p:sp>
          <p:nvSpPr>
            <p:cNvPr id="1661" name="Line 28"/>
            <p:cNvSpPr/>
            <p:nvPr/>
          </p:nvSpPr>
          <p:spPr>
            <a:xfrm flipV="1">
              <a:off x="5818320" y="4090680"/>
              <a:ext cx="2766960" cy="1344600"/>
            </a:xfrm>
            <a:prstGeom prst="line">
              <a:avLst/>
            </a:prstGeom>
            <a:ln w="507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29"/>
            <p:cNvSpPr/>
            <p:nvPr/>
          </p:nvSpPr>
          <p:spPr>
            <a:xfrm>
              <a:off x="8306280" y="36529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Group 48"/>
          <p:cNvGrpSpPr/>
          <p:nvPr/>
        </p:nvGrpSpPr>
        <p:grpSpPr>
          <a:xfrm>
            <a:off x="776160" y="3424320"/>
            <a:ext cx="6057720" cy="2915280"/>
            <a:chOff x="776160" y="3424320"/>
            <a:chExt cx="6057720" cy="2915280"/>
          </a:xfrm>
        </p:grpSpPr>
        <p:sp>
          <p:nvSpPr>
            <p:cNvPr id="1664" name="Rectangle 17"/>
            <p:cNvSpPr/>
            <p:nvPr/>
          </p:nvSpPr>
          <p:spPr>
            <a:xfrm>
              <a:off x="4572720" y="34243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Line 18"/>
            <p:cNvSpPr/>
            <p:nvPr/>
          </p:nvSpPr>
          <p:spPr>
            <a:xfrm>
              <a:off x="776160" y="3657600"/>
              <a:ext cx="340200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Line 23"/>
            <p:cNvSpPr/>
            <p:nvPr/>
          </p:nvSpPr>
          <p:spPr>
            <a:xfrm>
              <a:off x="5043600" y="3657600"/>
              <a:ext cx="1420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Line 24"/>
            <p:cNvSpPr/>
            <p:nvPr/>
          </p:nvSpPr>
          <p:spPr>
            <a:xfrm flipV="1">
              <a:off x="6553080" y="3646440"/>
              <a:ext cx="0" cy="2386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Oval 25"/>
            <p:cNvSpPr/>
            <p:nvPr/>
          </p:nvSpPr>
          <p:spPr>
            <a:xfrm>
              <a:off x="64771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36"/>
            <p:cNvSpPr/>
            <p:nvPr/>
          </p:nvSpPr>
          <p:spPr>
            <a:xfrm>
              <a:off x="6401160" y="593892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Rectangle 39"/>
          <p:cNvSpPr/>
          <p:nvPr/>
        </p:nvSpPr>
        <p:spPr>
          <a:xfrm>
            <a:off x="2435760" y="5938920"/>
            <a:ext cx="37944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0"/>
          <p:cNvSpPr/>
          <p:nvPr/>
        </p:nvSpPr>
        <p:spPr>
          <a:xfrm>
            <a:off x="2037600" y="186516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mpre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41"/>
          <p:cNvSpPr/>
          <p:nvPr/>
        </p:nvSpPr>
        <p:spPr>
          <a:xfrm>
            <a:off x="6395400" y="1865160"/>
            <a:ext cx="1147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Indust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Line 44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45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Group 53"/>
          <p:cNvGrpSpPr/>
          <p:nvPr/>
        </p:nvGrpSpPr>
        <p:grpSpPr>
          <a:xfrm>
            <a:off x="150480" y="1359000"/>
            <a:ext cx="7503480" cy="4961880"/>
            <a:chOff x="150480" y="1359000"/>
            <a:chExt cx="7503480" cy="4961880"/>
          </a:xfrm>
        </p:grpSpPr>
        <p:sp>
          <p:nvSpPr>
            <p:cNvPr id="1676" name="Line 4"/>
            <p:cNvSpPr/>
            <p:nvPr/>
          </p:nvSpPr>
          <p:spPr>
            <a:xfrm>
              <a:off x="776160" y="4648320"/>
              <a:ext cx="3402000" cy="0"/>
            </a:xfrm>
            <a:prstGeom prst="line">
              <a:avLst/>
            </a:prstGeom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30"/>
            <p:cNvSpPr/>
            <p:nvPr/>
          </p:nvSpPr>
          <p:spPr>
            <a:xfrm flipV="1">
              <a:off x="7391520" y="4560840"/>
              <a:ext cx="0" cy="1471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31"/>
            <p:cNvSpPr/>
            <p:nvPr/>
          </p:nvSpPr>
          <p:spPr>
            <a:xfrm>
              <a:off x="150480" y="441468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Line 32"/>
            <p:cNvSpPr/>
            <p:nvPr/>
          </p:nvSpPr>
          <p:spPr>
            <a:xfrm>
              <a:off x="5043600" y="4648320"/>
              <a:ext cx="2259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Oval 33"/>
            <p:cNvSpPr/>
            <p:nvPr/>
          </p:nvSpPr>
          <p:spPr>
            <a:xfrm>
              <a:off x="7315200" y="4572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34"/>
            <p:cNvSpPr/>
            <p:nvPr/>
          </p:nvSpPr>
          <p:spPr>
            <a:xfrm>
              <a:off x="7236360" y="5938920"/>
              <a:ext cx="41760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35"/>
            <p:cNvSpPr/>
            <p:nvPr/>
          </p:nvSpPr>
          <p:spPr>
            <a:xfrm>
              <a:off x="4572720" y="44146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37"/>
            <p:cNvSpPr/>
            <p:nvPr/>
          </p:nvSpPr>
          <p:spPr>
            <a:xfrm flipV="1">
              <a:off x="2590920" y="4560840"/>
              <a:ext cx="0" cy="1471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Oval 38"/>
            <p:cNvSpPr/>
            <p:nvPr/>
          </p:nvSpPr>
          <p:spPr>
            <a:xfrm>
              <a:off x="2514600" y="4572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52"/>
            <p:cNvSpPr/>
            <p:nvPr/>
          </p:nvSpPr>
          <p:spPr>
            <a:xfrm>
              <a:off x="2775240" y="1359000"/>
              <a:ext cx="4567320" cy="5151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Los beneficios atraen a las empres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oferta aumenta hasta que los beneficios son = 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Rectangle 54"/>
          <p:cNvSpPr/>
          <p:nvPr/>
        </p:nvSpPr>
        <p:spPr>
          <a:xfrm>
            <a:off x="4221000" y="19954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quilibrio competitivo a larg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C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M = IM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 = CM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tienen incentivos para entrar o sali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eneficios = 0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Equilibrio del precio d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xplique el ajuste del mercado cuando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P &lt;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CMeL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y las empresas tienen idénticos cost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xplique el ajuste de mercado cuando las empresas tienen costes diferente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 ¿Qué es el coste de oportunidad del suelo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9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rentas económic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nta económic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es la diferencia que existe entre lo que las empresas están dispuestas a pagar por un factor de producción y la cantidad mínima necesaria para complarl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3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os empresas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y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dos son propietarias del suelo en el que están situad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se encuentra en un río, lo que reduce su coste de transporte a 10.000 euros en comparación con la empresa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por la empresa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l estar al lado del río aumentará el valor del suelo a 10.000 eur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elección del nivel de producción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 ejempl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renta económica = 10.000 eur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10.000 euros: el coste del suelo es nul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renta económica aument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beneficios económicos de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0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mercados perfectamente competitiv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ibertad de entrada y salid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compradores pueden cambiar fácilmente de proveedo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proveedores pueden entrar o salir fácilmente del merca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42720" y="9360"/>
            <a:ext cx="83912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mpresas obtienen unos beneficios nulos en condiciones de equilibrio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13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5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"/>
          <p:cNvSpPr/>
          <p:nvPr/>
        </p:nvSpPr>
        <p:spPr>
          <a:xfrm>
            <a:off x="2219400" y="596916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7"/>
          <p:cNvSpPr/>
          <p:nvPr/>
        </p:nvSpPr>
        <p:spPr>
          <a:xfrm>
            <a:off x="1050120" y="1670040"/>
            <a:ext cx="115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entra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8"/>
          <p:cNvSpPr/>
          <p:nvPr/>
        </p:nvSpPr>
        <p:spPr>
          <a:xfrm>
            <a:off x="7088040" y="5727600"/>
            <a:ext cx="2055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 de entrad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abonos (millon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Group 19"/>
          <p:cNvGrpSpPr/>
          <p:nvPr/>
        </p:nvGrpSpPr>
        <p:grpSpPr>
          <a:xfrm>
            <a:off x="3279600" y="2550960"/>
            <a:ext cx="3522600" cy="1490760"/>
            <a:chOff x="3279600" y="2550960"/>
            <a:chExt cx="3522600" cy="1490760"/>
          </a:xfrm>
        </p:grpSpPr>
        <p:sp>
          <p:nvSpPr>
            <p:cNvPr id="1721" name="Freeform 13"/>
            <p:cNvSpPr/>
            <p:nvPr/>
          </p:nvSpPr>
          <p:spPr>
            <a:xfrm>
              <a:off x="3279600" y="2970360"/>
              <a:ext cx="2971800" cy="107136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872" h="675">
                  <a:moveTo>
                    <a:pt x="0" y="0"/>
                  </a:moveTo>
                  <a:lnTo>
                    <a:pt x="51" y="118"/>
                  </a:lnTo>
                  <a:lnTo>
                    <a:pt x="107" y="237"/>
                  </a:lnTo>
                  <a:lnTo>
                    <a:pt x="183" y="343"/>
                  </a:lnTo>
                  <a:lnTo>
                    <a:pt x="233" y="388"/>
                  </a:lnTo>
                  <a:lnTo>
                    <a:pt x="284" y="433"/>
                  </a:lnTo>
                  <a:lnTo>
                    <a:pt x="347" y="474"/>
                  </a:lnTo>
                  <a:lnTo>
                    <a:pt x="416" y="515"/>
                  </a:lnTo>
                  <a:lnTo>
                    <a:pt x="491" y="555"/>
                  </a:lnTo>
                  <a:lnTo>
                    <a:pt x="573" y="592"/>
                  </a:lnTo>
                  <a:lnTo>
                    <a:pt x="655" y="625"/>
                  </a:lnTo>
                  <a:lnTo>
                    <a:pt x="743" y="649"/>
                  </a:lnTo>
                  <a:lnTo>
                    <a:pt x="825" y="666"/>
                  </a:lnTo>
                  <a:lnTo>
                    <a:pt x="907" y="674"/>
                  </a:lnTo>
                  <a:lnTo>
                    <a:pt x="995" y="674"/>
                  </a:lnTo>
                  <a:lnTo>
                    <a:pt x="1084" y="662"/>
                  </a:lnTo>
                  <a:lnTo>
                    <a:pt x="1178" y="645"/>
                  </a:lnTo>
                  <a:lnTo>
                    <a:pt x="1266" y="621"/>
                  </a:lnTo>
                  <a:lnTo>
                    <a:pt x="1354" y="592"/>
                  </a:lnTo>
                  <a:lnTo>
                    <a:pt x="1443" y="559"/>
                  </a:lnTo>
                  <a:lnTo>
                    <a:pt x="1518" y="523"/>
                  </a:lnTo>
                  <a:lnTo>
                    <a:pt x="1581" y="482"/>
                  </a:lnTo>
                  <a:lnTo>
                    <a:pt x="1638" y="437"/>
                  </a:lnTo>
                  <a:lnTo>
                    <a:pt x="1688" y="384"/>
                  </a:lnTo>
                  <a:lnTo>
                    <a:pt x="1726" y="327"/>
                  </a:lnTo>
                  <a:lnTo>
                    <a:pt x="1764" y="265"/>
                  </a:lnTo>
                  <a:lnTo>
                    <a:pt x="1821" y="139"/>
                  </a:lnTo>
                  <a:lnTo>
                    <a:pt x="1871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14"/>
            <p:cNvSpPr/>
            <p:nvPr/>
          </p:nvSpPr>
          <p:spPr>
            <a:xfrm>
              <a:off x="5999040" y="255096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Line 9"/>
          <p:cNvSpPr/>
          <p:nvPr/>
        </p:nvSpPr>
        <p:spPr>
          <a:xfrm>
            <a:off x="2224080" y="4038480"/>
            <a:ext cx="4545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10"/>
          <p:cNvSpPr/>
          <p:nvPr/>
        </p:nvSpPr>
        <p:spPr>
          <a:xfrm>
            <a:off x="4800600" y="4052880"/>
            <a:ext cx="0" cy="1954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11"/>
          <p:cNvSpPr/>
          <p:nvPr/>
        </p:nvSpPr>
        <p:spPr>
          <a:xfrm>
            <a:off x="1658160" y="384660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€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2"/>
          <p:cNvSpPr/>
          <p:nvPr/>
        </p:nvSpPr>
        <p:spPr>
          <a:xfrm>
            <a:off x="4491000" y="595800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17"/>
          <p:cNvSpPr/>
          <p:nvPr/>
        </p:nvSpPr>
        <p:spPr>
          <a:xfrm>
            <a:off x="6710040" y="1525680"/>
            <a:ext cx="2399400" cy="1506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7200" bIns="7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equipo de béisbol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ciudad de moderada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es ven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ficientes entradas par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 su precio sea igual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 coste marginal y medi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eficios = 0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Group 20"/>
          <p:cNvGrpSpPr/>
          <p:nvPr/>
        </p:nvGrpSpPr>
        <p:grpSpPr>
          <a:xfrm>
            <a:off x="3581280" y="2550960"/>
            <a:ext cx="2138760" cy="2249640"/>
            <a:chOff x="3581280" y="2550960"/>
            <a:chExt cx="2138760" cy="2249640"/>
          </a:xfrm>
        </p:grpSpPr>
        <p:sp>
          <p:nvSpPr>
            <p:cNvPr id="1729" name="Rectangle 16"/>
            <p:cNvSpPr/>
            <p:nvPr/>
          </p:nvSpPr>
          <p:spPr>
            <a:xfrm>
              <a:off x="5043240" y="255096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8"/>
            <p:cNvSpPr/>
            <p:nvPr/>
          </p:nvSpPr>
          <p:spPr>
            <a:xfrm>
              <a:off x="3581280" y="2914560"/>
              <a:ext cx="1981440" cy="1886040"/>
            </a:xfrm>
            <a:custGeom>
              <a:avLst/>
              <a:gdLst>
                <a:gd name="textAreaLeft" fmla="*/ 0 w 1981440"/>
                <a:gd name="textAreaRight" fmla="*/ 1981800 w 198144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248" h="1188">
                  <a:moveTo>
                    <a:pt x="0" y="1188"/>
                  </a:moveTo>
                  <a:cubicBezTo>
                    <a:pt x="107" y="1176"/>
                    <a:pt x="214" y="1164"/>
                    <a:pt x="348" y="1080"/>
                  </a:cubicBezTo>
                  <a:cubicBezTo>
                    <a:pt x="482" y="996"/>
                    <a:pt x="654" y="864"/>
                    <a:pt x="804" y="684"/>
                  </a:cubicBezTo>
                  <a:cubicBezTo>
                    <a:pt x="954" y="504"/>
                    <a:pt x="1101" y="252"/>
                    <a:pt x="1248" y="0"/>
                  </a:cubicBezTo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mpresas obtienen unos beneficios nulos en condiciones de equilibrio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32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Group 1055"/>
          <p:cNvGrpSpPr/>
          <p:nvPr/>
        </p:nvGrpSpPr>
        <p:grpSpPr>
          <a:xfrm>
            <a:off x="1598400" y="2676600"/>
            <a:ext cx="5170680" cy="3644640"/>
            <a:chOff x="1598400" y="2676600"/>
            <a:chExt cx="5170680" cy="3644640"/>
          </a:xfrm>
        </p:grpSpPr>
        <p:sp>
          <p:nvSpPr>
            <p:cNvPr id="1734" name="Rectangle 1028"/>
            <p:cNvSpPr/>
            <p:nvPr/>
          </p:nvSpPr>
          <p:spPr>
            <a:xfrm>
              <a:off x="2209680" y="3505320"/>
              <a:ext cx="3276720" cy="5331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1035"/>
            <p:cNvSpPr/>
            <p:nvPr/>
          </p:nvSpPr>
          <p:spPr>
            <a:xfrm>
              <a:off x="5486400" y="3519360"/>
              <a:ext cx="0" cy="2487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1037"/>
            <p:cNvSpPr/>
            <p:nvPr/>
          </p:nvSpPr>
          <p:spPr>
            <a:xfrm>
              <a:off x="5176800" y="59580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1043"/>
            <p:cNvSpPr/>
            <p:nvPr/>
          </p:nvSpPr>
          <p:spPr>
            <a:xfrm>
              <a:off x="2224080" y="3505320"/>
              <a:ext cx="4545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1044"/>
            <p:cNvSpPr/>
            <p:nvPr/>
          </p:nvSpPr>
          <p:spPr>
            <a:xfrm>
              <a:off x="1598400" y="334800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1045"/>
            <p:cNvSpPr/>
            <p:nvPr/>
          </p:nvSpPr>
          <p:spPr>
            <a:xfrm>
              <a:off x="2495880" y="2676600"/>
              <a:ext cx="1857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nta económic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1046"/>
            <p:cNvSpPr/>
            <p:nvPr/>
          </p:nvSpPr>
          <p:spPr>
            <a:xfrm>
              <a:off x="2770200" y="3075120"/>
              <a:ext cx="23760" cy="633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1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030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031"/>
          <p:cNvSpPr/>
          <p:nvPr/>
        </p:nvSpPr>
        <p:spPr>
          <a:xfrm>
            <a:off x="2219400" y="598788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Group 1057"/>
          <p:cNvGrpSpPr/>
          <p:nvPr/>
        </p:nvGrpSpPr>
        <p:grpSpPr>
          <a:xfrm>
            <a:off x="1750320" y="2550960"/>
            <a:ext cx="5051880" cy="1658880"/>
            <a:chOff x="1750320" y="2550960"/>
            <a:chExt cx="5051880" cy="1658880"/>
          </a:xfrm>
        </p:grpSpPr>
        <p:sp>
          <p:nvSpPr>
            <p:cNvPr id="1746" name="Rectangle 1036"/>
            <p:cNvSpPr/>
            <p:nvPr/>
          </p:nvSpPr>
          <p:spPr>
            <a:xfrm>
              <a:off x="1750320" y="3846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€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1034"/>
            <p:cNvSpPr/>
            <p:nvPr/>
          </p:nvSpPr>
          <p:spPr>
            <a:xfrm>
              <a:off x="2300400" y="4038480"/>
              <a:ext cx="3097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1038"/>
            <p:cNvSpPr/>
            <p:nvPr/>
          </p:nvSpPr>
          <p:spPr>
            <a:xfrm>
              <a:off x="3279600" y="3122640"/>
              <a:ext cx="2971800" cy="107136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872" h="675">
                  <a:moveTo>
                    <a:pt x="0" y="0"/>
                  </a:moveTo>
                  <a:lnTo>
                    <a:pt x="51" y="118"/>
                  </a:lnTo>
                  <a:lnTo>
                    <a:pt x="107" y="237"/>
                  </a:lnTo>
                  <a:lnTo>
                    <a:pt x="183" y="339"/>
                  </a:lnTo>
                  <a:lnTo>
                    <a:pt x="233" y="390"/>
                  </a:lnTo>
                  <a:lnTo>
                    <a:pt x="284" y="432"/>
                  </a:lnTo>
                  <a:lnTo>
                    <a:pt x="347" y="474"/>
                  </a:lnTo>
                  <a:lnTo>
                    <a:pt x="416" y="517"/>
                  </a:lnTo>
                  <a:lnTo>
                    <a:pt x="491" y="555"/>
                  </a:lnTo>
                  <a:lnTo>
                    <a:pt x="573" y="593"/>
                  </a:lnTo>
                  <a:lnTo>
                    <a:pt x="655" y="623"/>
                  </a:lnTo>
                  <a:lnTo>
                    <a:pt x="743" y="648"/>
                  </a:lnTo>
                  <a:lnTo>
                    <a:pt x="825" y="665"/>
                  </a:lnTo>
                  <a:lnTo>
                    <a:pt x="907" y="674"/>
                  </a:lnTo>
                  <a:lnTo>
                    <a:pt x="995" y="674"/>
                  </a:lnTo>
                  <a:lnTo>
                    <a:pt x="1084" y="665"/>
                  </a:lnTo>
                  <a:lnTo>
                    <a:pt x="1178" y="648"/>
                  </a:lnTo>
                  <a:lnTo>
                    <a:pt x="1266" y="623"/>
                  </a:lnTo>
                  <a:lnTo>
                    <a:pt x="1354" y="593"/>
                  </a:lnTo>
                  <a:lnTo>
                    <a:pt x="1443" y="559"/>
                  </a:lnTo>
                  <a:lnTo>
                    <a:pt x="1518" y="525"/>
                  </a:lnTo>
                  <a:lnTo>
                    <a:pt x="1581" y="483"/>
                  </a:lnTo>
                  <a:lnTo>
                    <a:pt x="1638" y="436"/>
                  </a:lnTo>
                  <a:lnTo>
                    <a:pt x="1688" y="385"/>
                  </a:lnTo>
                  <a:lnTo>
                    <a:pt x="1726" y="330"/>
                  </a:lnTo>
                  <a:lnTo>
                    <a:pt x="1764" y="267"/>
                  </a:lnTo>
                  <a:lnTo>
                    <a:pt x="1821" y="139"/>
                  </a:lnTo>
                  <a:lnTo>
                    <a:pt x="1871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1039"/>
            <p:cNvSpPr/>
            <p:nvPr/>
          </p:nvSpPr>
          <p:spPr>
            <a:xfrm>
              <a:off x="5999040" y="2550960"/>
              <a:ext cx="80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e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Rectangle 1042"/>
          <p:cNvSpPr/>
          <p:nvPr/>
        </p:nvSpPr>
        <p:spPr>
          <a:xfrm>
            <a:off x="5936400" y="3906720"/>
            <a:ext cx="3005280" cy="106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 equipo con cos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énticos en una ciudad má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nde vende entradas po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eur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Group 1051"/>
          <p:cNvGrpSpPr/>
          <p:nvPr/>
        </p:nvGrpSpPr>
        <p:grpSpPr>
          <a:xfrm>
            <a:off x="3581280" y="2550960"/>
            <a:ext cx="2138760" cy="2249640"/>
            <a:chOff x="3581280" y="2550960"/>
            <a:chExt cx="2138760" cy="2249640"/>
          </a:xfrm>
        </p:grpSpPr>
        <p:sp>
          <p:nvSpPr>
            <p:cNvPr id="1752" name="Rectangle 1052"/>
            <p:cNvSpPr/>
            <p:nvPr/>
          </p:nvSpPr>
          <p:spPr>
            <a:xfrm>
              <a:off x="5043240" y="2550960"/>
              <a:ext cx="67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053"/>
            <p:cNvSpPr/>
            <p:nvPr/>
          </p:nvSpPr>
          <p:spPr>
            <a:xfrm>
              <a:off x="3581280" y="2914560"/>
              <a:ext cx="1981440" cy="1886040"/>
            </a:xfrm>
            <a:custGeom>
              <a:avLst/>
              <a:gdLst>
                <a:gd name="textAreaLeft" fmla="*/ 0 w 1981440"/>
                <a:gd name="textAreaRight" fmla="*/ 1981800 w 198144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1248" h="1188">
                  <a:moveTo>
                    <a:pt x="0" y="1188"/>
                  </a:moveTo>
                  <a:cubicBezTo>
                    <a:pt x="107" y="1176"/>
                    <a:pt x="214" y="1164"/>
                    <a:pt x="348" y="1080"/>
                  </a:cubicBezTo>
                  <a:cubicBezTo>
                    <a:pt x="482" y="996"/>
                    <a:pt x="654" y="864"/>
                    <a:pt x="804" y="684"/>
                  </a:cubicBezTo>
                  <a:cubicBezTo>
                    <a:pt x="954" y="504"/>
                    <a:pt x="1101" y="252"/>
                    <a:pt x="1248" y="0"/>
                  </a:cubicBezTo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4" name="Rectangle 1061"/>
          <p:cNvSpPr/>
          <p:nvPr/>
        </p:nvSpPr>
        <p:spPr>
          <a:xfrm>
            <a:off x="1050120" y="1670040"/>
            <a:ext cx="1150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 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entra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1062"/>
          <p:cNvSpPr/>
          <p:nvPr/>
        </p:nvSpPr>
        <p:spPr>
          <a:xfrm>
            <a:off x="7088040" y="5727600"/>
            <a:ext cx="2055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ta de entrad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abonos (millon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mpresas obtienen unos beneficios nulos en condiciones de equilibrio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 un factor fijo, como por ejemplo una única ubicación, la diferencia entre el coste de producción (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CMeL = 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7) y el precio (10 euros) es el valor o coste de oportunidad del factor (ubicación) y representa la renta económica a partir del factor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8439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mpresas obtienen unos beneficios nulos en condiciones de equilibrio a largo plazo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 no se tiene en cuenta el coste de oportunidad del factor (renta), puede que los beneficios económicos existan a largo plaz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forma de la curva de oferta a largo plazo depende del grado en que las variaciones de la producción de la industria afectan a los precios que deben pagar las empresas por los factore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ara averiguar la oferta a largo plazo, suponemos qu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odas las empresas tienen acceso a la tecnología de producción existen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roducción se incrementa utilizando más factores, no inventand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ara averiguar la oferta a largo plazo, suponemos qu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mercado de factores no varía cuando la industria se expande o contra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35"/>
          <p:cNvSpPr/>
          <p:nvPr/>
        </p:nvSpPr>
        <p:spPr>
          <a:xfrm>
            <a:off x="6303600" y="354168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14"/>
          <p:cNvSpPr/>
          <p:nvPr/>
        </p:nvSpPr>
        <p:spPr>
          <a:xfrm>
            <a:off x="441360" y="384660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15"/>
          <p:cNvSpPr/>
          <p:nvPr/>
        </p:nvSpPr>
        <p:spPr>
          <a:xfrm>
            <a:off x="1143000" y="3193920"/>
            <a:ext cx="2825640" cy="770040"/>
          </a:xfrm>
          <a:custGeom>
            <a:avLst/>
            <a:gdLst>
              <a:gd name="textAreaLeft" fmla="*/ 0 w 2825640"/>
              <a:gd name="textAreaRight" fmla="*/ 2826000 w 282564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780" h="485">
                <a:moveTo>
                  <a:pt x="0" y="4"/>
                </a:moveTo>
                <a:lnTo>
                  <a:pt x="24" y="28"/>
                </a:lnTo>
                <a:lnTo>
                  <a:pt x="56" y="64"/>
                </a:lnTo>
                <a:lnTo>
                  <a:pt x="92" y="104"/>
                </a:lnTo>
                <a:lnTo>
                  <a:pt x="136" y="144"/>
                </a:lnTo>
                <a:lnTo>
                  <a:pt x="180" y="192"/>
                </a:lnTo>
                <a:lnTo>
                  <a:pt x="232" y="236"/>
                </a:lnTo>
                <a:lnTo>
                  <a:pt x="284" y="276"/>
                </a:lnTo>
                <a:lnTo>
                  <a:pt x="336" y="308"/>
                </a:lnTo>
                <a:lnTo>
                  <a:pt x="392" y="340"/>
                </a:lnTo>
                <a:lnTo>
                  <a:pt x="456" y="368"/>
                </a:lnTo>
                <a:lnTo>
                  <a:pt x="587" y="424"/>
                </a:lnTo>
                <a:lnTo>
                  <a:pt x="655" y="448"/>
                </a:lnTo>
                <a:lnTo>
                  <a:pt x="727" y="468"/>
                </a:lnTo>
                <a:lnTo>
                  <a:pt x="795" y="480"/>
                </a:lnTo>
                <a:lnTo>
                  <a:pt x="863" y="484"/>
                </a:lnTo>
                <a:lnTo>
                  <a:pt x="931" y="480"/>
                </a:lnTo>
                <a:lnTo>
                  <a:pt x="999" y="472"/>
                </a:lnTo>
                <a:lnTo>
                  <a:pt x="1067" y="456"/>
                </a:lnTo>
                <a:lnTo>
                  <a:pt x="1135" y="436"/>
                </a:lnTo>
                <a:lnTo>
                  <a:pt x="1267" y="384"/>
                </a:lnTo>
                <a:lnTo>
                  <a:pt x="1327" y="356"/>
                </a:lnTo>
                <a:lnTo>
                  <a:pt x="1387" y="324"/>
                </a:lnTo>
                <a:lnTo>
                  <a:pt x="1443" y="292"/>
                </a:lnTo>
                <a:lnTo>
                  <a:pt x="1499" y="248"/>
                </a:lnTo>
                <a:lnTo>
                  <a:pt x="1555" y="204"/>
                </a:lnTo>
                <a:lnTo>
                  <a:pt x="1607" y="156"/>
                </a:lnTo>
                <a:lnTo>
                  <a:pt x="1659" y="112"/>
                </a:lnTo>
                <a:lnTo>
                  <a:pt x="1703" y="68"/>
                </a:lnTo>
                <a:lnTo>
                  <a:pt x="1743" y="32"/>
                </a:lnTo>
                <a:lnTo>
                  <a:pt x="1779" y="0"/>
                </a:lnTo>
              </a:path>
            </a:pathLst>
          </a:custGeom>
          <a:noFill/>
          <a:ln cap="rnd" w="507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16"/>
          <p:cNvSpPr/>
          <p:nvPr/>
        </p:nvSpPr>
        <p:spPr>
          <a:xfrm>
            <a:off x="3728160" y="258588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17"/>
          <p:cNvSpPr/>
          <p:nvPr/>
        </p:nvSpPr>
        <p:spPr>
          <a:xfrm>
            <a:off x="1674720" y="2970360"/>
            <a:ext cx="1452600" cy="1792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" h="1129">
                <a:moveTo>
                  <a:pt x="0" y="1128"/>
                </a:moveTo>
                <a:lnTo>
                  <a:pt x="70" y="1085"/>
                </a:lnTo>
                <a:lnTo>
                  <a:pt x="133" y="1042"/>
                </a:lnTo>
                <a:lnTo>
                  <a:pt x="196" y="998"/>
                </a:lnTo>
                <a:lnTo>
                  <a:pt x="265" y="941"/>
                </a:lnTo>
                <a:lnTo>
                  <a:pt x="341" y="878"/>
                </a:lnTo>
                <a:lnTo>
                  <a:pt x="416" y="807"/>
                </a:lnTo>
                <a:lnTo>
                  <a:pt x="492" y="730"/>
                </a:lnTo>
                <a:lnTo>
                  <a:pt x="561" y="653"/>
                </a:lnTo>
                <a:lnTo>
                  <a:pt x="621" y="576"/>
                </a:lnTo>
                <a:lnTo>
                  <a:pt x="675" y="495"/>
                </a:lnTo>
                <a:lnTo>
                  <a:pt x="725" y="408"/>
                </a:lnTo>
                <a:lnTo>
                  <a:pt x="769" y="327"/>
                </a:lnTo>
                <a:lnTo>
                  <a:pt x="813" y="240"/>
                </a:lnTo>
                <a:lnTo>
                  <a:pt x="851" y="149"/>
                </a:lnTo>
                <a:lnTo>
                  <a:pt x="870" y="106"/>
                </a:lnTo>
                <a:lnTo>
                  <a:pt x="886" y="63"/>
                </a:lnTo>
                <a:lnTo>
                  <a:pt x="901" y="29"/>
                </a:lnTo>
                <a:lnTo>
                  <a:pt x="914" y="0"/>
                </a:lnTo>
              </a:path>
            </a:pathLst>
          </a:custGeom>
          <a:noFill/>
          <a:ln cap="rnd" w="507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19"/>
          <p:cNvSpPr/>
          <p:nvPr/>
        </p:nvSpPr>
        <p:spPr>
          <a:xfrm>
            <a:off x="4572000" y="384660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20"/>
          <p:cNvSpPr/>
          <p:nvPr/>
        </p:nvSpPr>
        <p:spPr>
          <a:xfrm>
            <a:off x="2590920" y="3976560"/>
            <a:ext cx="0" cy="20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Oval 21"/>
          <p:cNvSpPr/>
          <p:nvPr/>
        </p:nvSpPr>
        <p:spPr>
          <a:xfrm>
            <a:off x="2514600" y="3886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Rectangle 22"/>
          <p:cNvSpPr/>
          <p:nvPr/>
        </p:nvSpPr>
        <p:spPr>
          <a:xfrm>
            <a:off x="2737800" y="258588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23"/>
          <p:cNvSpPr/>
          <p:nvPr/>
        </p:nvSpPr>
        <p:spPr>
          <a:xfrm>
            <a:off x="2361960" y="5900760"/>
            <a:ext cx="4194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25"/>
          <p:cNvSpPr/>
          <p:nvPr/>
        </p:nvSpPr>
        <p:spPr>
          <a:xfrm>
            <a:off x="5361120" y="3227400"/>
            <a:ext cx="1928520" cy="192888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26"/>
          <p:cNvSpPr/>
          <p:nvPr/>
        </p:nvSpPr>
        <p:spPr>
          <a:xfrm>
            <a:off x="7314840" y="5176800"/>
            <a:ext cx="448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27"/>
          <p:cNvSpPr/>
          <p:nvPr/>
        </p:nvSpPr>
        <p:spPr>
          <a:xfrm flipV="1">
            <a:off x="5361120" y="2947680"/>
            <a:ext cx="1277640" cy="233532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28"/>
          <p:cNvSpPr/>
          <p:nvPr/>
        </p:nvSpPr>
        <p:spPr>
          <a:xfrm>
            <a:off x="6477120" y="2509920"/>
            <a:ext cx="4330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29"/>
          <p:cNvSpPr/>
          <p:nvPr/>
        </p:nvSpPr>
        <p:spPr>
          <a:xfrm>
            <a:off x="6095880" y="3976560"/>
            <a:ext cx="0" cy="2030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30"/>
          <p:cNvSpPr/>
          <p:nvPr/>
        </p:nvSpPr>
        <p:spPr>
          <a:xfrm>
            <a:off x="5942880" y="5938920"/>
            <a:ext cx="461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3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41"/>
          <p:cNvSpPr/>
          <p:nvPr/>
        </p:nvSpPr>
        <p:spPr>
          <a:xfrm>
            <a:off x="852480" y="3962520"/>
            <a:ext cx="332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Group 61"/>
          <p:cNvGrpSpPr/>
          <p:nvPr/>
        </p:nvGrpSpPr>
        <p:grpSpPr>
          <a:xfrm>
            <a:off x="365040" y="3043080"/>
            <a:ext cx="8159760" cy="3293280"/>
            <a:chOff x="365040" y="3043080"/>
            <a:chExt cx="8159760" cy="3293280"/>
          </a:xfrm>
        </p:grpSpPr>
        <p:sp>
          <p:nvSpPr>
            <p:cNvPr id="1800" name="Rectangle 37"/>
            <p:cNvSpPr/>
            <p:nvPr/>
          </p:nvSpPr>
          <p:spPr>
            <a:xfrm>
              <a:off x="6548040" y="3043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Line 32"/>
            <p:cNvSpPr/>
            <p:nvPr/>
          </p:nvSpPr>
          <p:spPr>
            <a:xfrm>
              <a:off x="6351480" y="3227400"/>
              <a:ext cx="1928880" cy="192888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42"/>
            <p:cNvSpPr/>
            <p:nvPr/>
          </p:nvSpPr>
          <p:spPr>
            <a:xfrm>
              <a:off x="8076600" y="5176800"/>
              <a:ext cx="448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49"/>
            <p:cNvSpPr/>
            <p:nvPr/>
          </p:nvSpPr>
          <p:spPr>
            <a:xfrm>
              <a:off x="4518000" y="31194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Oval 52"/>
            <p:cNvSpPr/>
            <p:nvPr/>
          </p:nvSpPr>
          <p:spPr>
            <a:xfrm>
              <a:off x="6343560" y="32194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53"/>
            <p:cNvSpPr/>
            <p:nvPr/>
          </p:nvSpPr>
          <p:spPr>
            <a:xfrm flipH="1">
              <a:off x="5151600" y="3295800"/>
              <a:ext cx="1109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54"/>
            <p:cNvSpPr/>
            <p:nvPr/>
          </p:nvSpPr>
          <p:spPr>
            <a:xfrm>
              <a:off x="365040" y="3119400"/>
              <a:ext cx="4330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55"/>
            <p:cNvSpPr/>
            <p:nvPr/>
          </p:nvSpPr>
          <p:spPr>
            <a:xfrm flipH="1">
              <a:off x="808200" y="3295800"/>
              <a:ext cx="2100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56"/>
            <p:cNvSpPr/>
            <p:nvPr/>
          </p:nvSpPr>
          <p:spPr>
            <a:xfrm>
              <a:off x="2857320" y="5900760"/>
              <a:ext cx="4194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57"/>
            <p:cNvSpPr/>
            <p:nvPr/>
          </p:nvSpPr>
          <p:spPr>
            <a:xfrm>
              <a:off x="2990880" y="3290760"/>
              <a:ext cx="0" cy="2716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63"/>
          <p:cNvGrpSpPr/>
          <p:nvPr/>
        </p:nvGrpSpPr>
        <p:grpSpPr>
          <a:xfrm>
            <a:off x="1040040" y="1263600"/>
            <a:ext cx="6860520" cy="5110920"/>
            <a:chOff x="1040040" y="1263600"/>
            <a:chExt cx="6860520" cy="5110920"/>
          </a:xfrm>
        </p:grpSpPr>
        <p:sp>
          <p:nvSpPr>
            <p:cNvPr id="1811" name="Oval 34"/>
            <p:cNvSpPr/>
            <p:nvPr/>
          </p:nvSpPr>
          <p:spPr>
            <a:xfrm>
              <a:off x="7010280" y="3886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2" name="Group 59"/>
            <p:cNvGrpSpPr/>
            <p:nvPr/>
          </p:nvGrpSpPr>
          <p:grpSpPr>
            <a:xfrm>
              <a:off x="1040040" y="1263600"/>
              <a:ext cx="6860520" cy="5110920"/>
              <a:chOff x="1040040" y="1263600"/>
              <a:chExt cx="6860520" cy="5110920"/>
            </a:xfrm>
          </p:grpSpPr>
          <p:sp>
            <p:nvSpPr>
              <p:cNvPr id="1813" name="Line 4"/>
              <p:cNvSpPr/>
              <p:nvPr/>
            </p:nvSpPr>
            <p:spPr>
              <a:xfrm flipV="1">
                <a:off x="6351480" y="2947680"/>
                <a:ext cx="1278000" cy="2335320"/>
              </a:xfrm>
              <a:prstGeom prst="line">
                <a:avLst/>
              </a:prstGeom>
              <a:ln w="50760">
                <a:solidFill>
                  <a:srgbClr val="99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Rectangle 36"/>
              <p:cNvSpPr/>
              <p:nvPr/>
            </p:nvSpPr>
            <p:spPr>
              <a:xfrm>
                <a:off x="7157880" y="3541680"/>
                <a:ext cx="36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Rectangle 38"/>
              <p:cNvSpPr/>
              <p:nvPr/>
            </p:nvSpPr>
            <p:spPr>
              <a:xfrm>
                <a:off x="7467480" y="2509920"/>
                <a:ext cx="4330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39"/>
              <p:cNvSpPr/>
              <p:nvPr/>
            </p:nvSpPr>
            <p:spPr>
              <a:xfrm>
                <a:off x="7086600" y="3976560"/>
                <a:ext cx="0" cy="2030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Rectangle 40"/>
              <p:cNvSpPr/>
              <p:nvPr/>
            </p:nvSpPr>
            <p:spPr>
              <a:xfrm>
                <a:off x="6857280" y="5938920"/>
                <a:ext cx="4618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Rectangle 43"/>
              <p:cNvSpPr/>
              <p:nvPr/>
            </p:nvSpPr>
            <p:spPr>
              <a:xfrm>
                <a:off x="1040040" y="1263600"/>
                <a:ext cx="3101400" cy="9705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os beneficios económicos atraen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 nuevas empresas.  La oferta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umenta a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y el mercado vuelv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l equilibrio a largo plazo.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oferta a largo plazo de una industria de coste constant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2" name="Line 6"/>
          <p:cNvSpPr/>
          <p:nvPr/>
        </p:nvSpPr>
        <p:spPr>
          <a:xfrm>
            <a:off x="83808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7"/>
          <p:cNvSpPr/>
          <p:nvPr/>
        </p:nvSpPr>
        <p:spPr>
          <a:xfrm>
            <a:off x="51055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8"/>
          <p:cNvSpPr/>
          <p:nvPr/>
        </p:nvSpPr>
        <p:spPr>
          <a:xfrm>
            <a:off x="83340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9"/>
          <p:cNvSpPr/>
          <p:nvPr/>
        </p:nvSpPr>
        <p:spPr>
          <a:xfrm>
            <a:off x="510048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0"/>
          <p:cNvSpPr/>
          <p:nvPr/>
        </p:nvSpPr>
        <p:spPr>
          <a:xfrm>
            <a:off x="3653640" y="5977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1"/>
          <p:cNvSpPr/>
          <p:nvPr/>
        </p:nvSpPr>
        <p:spPr>
          <a:xfrm>
            <a:off x="7847640" y="595800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3"/>
          <p:cNvSpPr/>
          <p:nvPr/>
        </p:nvSpPr>
        <p:spPr>
          <a:xfrm>
            <a:off x="28440" y="182412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Group 65"/>
          <p:cNvGrpSpPr/>
          <p:nvPr/>
        </p:nvGrpSpPr>
        <p:grpSpPr>
          <a:xfrm>
            <a:off x="5119560" y="1397160"/>
            <a:ext cx="3932640" cy="2767320"/>
            <a:chOff x="5119560" y="1397160"/>
            <a:chExt cx="3932640" cy="2767320"/>
          </a:xfrm>
        </p:grpSpPr>
        <p:sp>
          <p:nvSpPr>
            <p:cNvPr id="1830" name="Line 18"/>
            <p:cNvSpPr/>
            <p:nvPr/>
          </p:nvSpPr>
          <p:spPr>
            <a:xfrm>
              <a:off x="5119560" y="3962520"/>
              <a:ext cx="3478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Rectangle 24"/>
            <p:cNvSpPr/>
            <p:nvPr/>
          </p:nvSpPr>
          <p:spPr>
            <a:xfrm>
              <a:off x="8611560" y="3728880"/>
              <a:ext cx="4406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Rectangle 31"/>
            <p:cNvSpPr/>
            <p:nvPr/>
          </p:nvSpPr>
          <p:spPr>
            <a:xfrm>
              <a:off x="5793480" y="1397160"/>
              <a:ext cx="3014640" cy="9997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umenta 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erta a largo plazo =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CMeL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variación de la producción n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fecta al coste de los factores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3" name="Rectangle 66"/>
          <p:cNvSpPr/>
          <p:nvPr/>
        </p:nvSpPr>
        <p:spPr>
          <a:xfrm>
            <a:off x="4238640" y="2109960"/>
            <a:ext cx="87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ooter Placeholder 3"/>
          <p:cNvSpPr/>
          <p:nvPr/>
        </p:nvSpPr>
        <p:spPr>
          <a:xfrm>
            <a:off x="525600" y="6515280"/>
            <a:ext cx="685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oferta a largo plazo de una industria de coste constante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una industria de coste constante, la curva de oferta a largo plazo es una línea recta horizontal a un precio que es igual al coste medio mínimo de producción a largo plaz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7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oferta a largo plazo de una industria de coste creciente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3" name="Line 9"/>
          <p:cNvSpPr/>
          <p:nvPr/>
        </p:nvSpPr>
        <p:spPr>
          <a:xfrm>
            <a:off x="83808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10"/>
          <p:cNvSpPr/>
          <p:nvPr/>
        </p:nvSpPr>
        <p:spPr>
          <a:xfrm>
            <a:off x="51055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11"/>
          <p:cNvSpPr/>
          <p:nvPr/>
        </p:nvSpPr>
        <p:spPr>
          <a:xfrm>
            <a:off x="83340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12"/>
          <p:cNvSpPr/>
          <p:nvPr/>
        </p:nvSpPr>
        <p:spPr>
          <a:xfrm>
            <a:off x="510048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Rectangle 13"/>
          <p:cNvSpPr/>
          <p:nvPr/>
        </p:nvSpPr>
        <p:spPr>
          <a:xfrm>
            <a:off x="3653640" y="595800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Rectangle 14"/>
          <p:cNvSpPr/>
          <p:nvPr/>
        </p:nvSpPr>
        <p:spPr>
          <a:xfrm>
            <a:off x="7847640" y="5977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Rectangle 16"/>
          <p:cNvSpPr/>
          <p:nvPr/>
        </p:nvSpPr>
        <p:spPr>
          <a:xfrm>
            <a:off x="106200" y="182412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441720" y="2205000"/>
            <a:ext cx="6759720" cy="4148640"/>
            <a:chOff x="441720" y="2205000"/>
            <a:chExt cx="6759720" cy="4148640"/>
          </a:xfrm>
        </p:grpSpPr>
        <p:sp>
          <p:nvSpPr>
            <p:cNvPr id="1851" name="Rectangle 26"/>
            <p:cNvSpPr/>
            <p:nvPr/>
          </p:nvSpPr>
          <p:spPr>
            <a:xfrm>
              <a:off x="6706080" y="22050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Line 6"/>
            <p:cNvSpPr/>
            <p:nvPr/>
          </p:nvSpPr>
          <p:spPr>
            <a:xfrm>
              <a:off x="5361120" y="2693880"/>
              <a:ext cx="142704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7"/>
            <p:cNvSpPr/>
            <p:nvPr/>
          </p:nvSpPr>
          <p:spPr>
            <a:xfrm>
              <a:off x="6782400" y="51768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7"/>
            <p:cNvSpPr/>
            <p:nvPr/>
          </p:nvSpPr>
          <p:spPr>
            <a:xfrm>
              <a:off x="441720" y="3846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8"/>
            <p:cNvSpPr/>
            <p:nvPr/>
          </p:nvSpPr>
          <p:spPr>
            <a:xfrm>
              <a:off x="1143000" y="3193920"/>
              <a:ext cx="2825640" cy="770040"/>
            </a:xfrm>
            <a:custGeom>
              <a:avLst/>
              <a:gdLst>
                <a:gd name="textAreaLeft" fmla="*/ 0 w 2825640"/>
                <a:gd name="textAreaRight" fmla="*/ 2826000 w 282564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780" h="485">
                  <a:moveTo>
                    <a:pt x="0" y="4"/>
                  </a:moveTo>
                  <a:lnTo>
                    <a:pt x="24" y="28"/>
                  </a:lnTo>
                  <a:lnTo>
                    <a:pt x="56" y="64"/>
                  </a:lnTo>
                  <a:lnTo>
                    <a:pt x="92" y="104"/>
                  </a:lnTo>
                  <a:lnTo>
                    <a:pt x="136" y="144"/>
                  </a:lnTo>
                  <a:lnTo>
                    <a:pt x="180" y="192"/>
                  </a:lnTo>
                  <a:lnTo>
                    <a:pt x="232" y="236"/>
                  </a:lnTo>
                  <a:lnTo>
                    <a:pt x="284" y="276"/>
                  </a:lnTo>
                  <a:lnTo>
                    <a:pt x="336" y="308"/>
                  </a:lnTo>
                  <a:lnTo>
                    <a:pt x="392" y="340"/>
                  </a:lnTo>
                  <a:lnTo>
                    <a:pt x="456" y="368"/>
                  </a:lnTo>
                  <a:lnTo>
                    <a:pt x="587" y="424"/>
                  </a:lnTo>
                  <a:lnTo>
                    <a:pt x="655" y="448"/>
                  </a:lnTo>
                  <a:lnTo>
                    <a:pt x="727" y="468"/>
                  </a:lnTo>
                  <a:lnTo>
                    <a:pt x="795" y="480"/>
                  </a:lnTo>
                  <a:lnTo>
                    <a:pt x="863" y="484"/>
                  </a:lnTo>
                  <a:lnTo>
                    <a:pt x="931" y="480"/>
                  </a:lnTo>
                  <a:lnTo>
                    <a:pt x="999" y="472"/>
                  </a:lnTo>
                  <a:lnTo>
                    <a:pt x="1067" y="456"/>
                  </a:lnTo>
                  <a:lnTo>
                    <a:pt x="1135" y="436"/>
                  </a:lnTo>
                  <a:lnTo>
                    <a:pt x="1267" y="384"/>
                  </a:lnTo>
                  <a:lnTo>
                    <a:pt x="1327" y="356"/>
                  </a:lnTo>
                  <a:lnTo>
                    <a:pt x="1387" y="324"/>
                  </a:lnTo>
                  <a:lnTo>
                    <a:pt x="1443" y="292"/>
                  </a:lnTo>
                  <a:lnTo>
                    <a:pt x="1499" y="248"/>
                  </a:lnTo>
                  <a:lnTo>
                    <a:pt x="1555" y="204"/>
                  </a:lnTo>
                  <a:lnTo>
                    <a:pt x="1607" y="156"/>
                  </a:lnTo>
                  <a:lnTo>
                    <a:pt x="1659" y="112"/>
                  </a:lnTo>
                  <a:lnTo>
                    <a:pt x="1703" y="68"/>
                  </a:lnTo>
                  <a:lnTo>
                    <a:pt x="1743" y="32"/>
                  </a:lnTo>
                  <a:lnTo>
                    <a:pt x="1779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19"/>
            <p:cNvSpPr/>
            <p:nvPr/>
          </p:nvSpPr>
          <p:spPr>
            <a:xfrm>
              <a:off x="3735000" y="2814480"/>
              <a:ext cx="675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0"/>
            <p:cNvSpPr/>
            <p:nvPr/>
          </p:nvSpPr>
          <p:spPr>
            <a:xfrm>
              <a:off x="1674720" y="2970360"/>
              <a:ext cx="1452600" cy="1792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915" h="1129">
                  <a:moveTo>
                    <a:pt x="0" y="1128"/>
                  </a:moveTo>
                  <a:lnTo>
                    <a:pt x="70" y="1085"/>
                  </a:lnTo>
                  <a:lnTo>
                    <a:pt x="133" y="1042"/>
                  </a:lnTo>
                  <a:lnTo>
                    <a:pt x="196" y="998"/>
                  </a:lnTo>
                  <a:lnTo>
                    <a:pt x="265" y="941"/>
                  </a:lnTo>
                  <a:lnTo>
                    <a:pt x="341" y="878"/>
                  </a:lnTo>
                  <a:lnTo>
                    <a:pt x="416" y="807"/>
                  </a:lnTo>
                  <a:lnTo>
                    <a:pt x="492" y="730"/>
                  </a:lnTo>
                  <a:lnTo>
                    <a:pt x="561" y="653"/>
                  </a:lnTo>
                  <a:lnTo>
                    <a:pt x="621" y="576"/>
                  </a:lnTo>
                  <a:lnTo>
                    <a:pt x="675" y="495"/>
                  </a:lnTo>
                  <a:lnTo>
                    <a:pt x="725" y="408"/>
                  </a:lnTo>
                  <a:lnTo>
                    <a:pt x="769" y="327"/>
                  </a:lnTo>
                  <a:lnTo>
                    <a:pt x="813" y="240"/>
                  </a:lnTo>
                  <a:lnTo>
                    <a:pt x="851" y="149"/>
                  </a:lnTo>
                  <a:lnTo>
                    <a:pt x="870" y="106"/>
                  </a:lnTo>
                  <a:lnTo>
                    <a:pt x="886" y="63"/>
                  </a:lnTo>
                  <a:lnTo>
                    <a:pt x="901" y="29"/>
                  </a:lnTo>
                  <a:lnTo>
                    <a:pt x="91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21"/>
            <p:cNvSpPr/>
            <p:nvPr/>
          </p:nvSpPr>
          <p:spPr>
            <a:xfrm>
              <a:off x="4572720" y="3846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Line 25"/>
            <p:cNvSpPr/>
            <p:nvPr/>
          </p:nvSpPr>
          <p:spPr>
            <a:xfrm flipV="1">
              <a:off x="5361120" y="2566800"/>
              <a:ext cx="1500120" cy="27162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8"/>
            <p:cNvSpPr/>
            <p:nvPr/>
          </p:nvSpPr>
          <p:spPr>
            <a:xfrm>
              <a:off x="2973240" y="2509920"/>
              <a:ext cx="56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Line 55"/>
            <p:cNvSpPr/>
            <p:nvPr/>
          </p:nvSpPr>
          <p:spPr>
            <a:xfrm>
              <a:off x="852480" y="3962520"/>
              <a:ext cx="332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Line 22"/>
            <p:cNvSpPr/>
            <p:nvPr/>
          </p:nvSpPr>
          <p:spPr>
            <a:xfrm>
              <a:off x="259092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24"/>
            <p:cNvSpPr/>
            <p:nvPr/>
          </p:nvSpPr>
          <p:spPr>
            <a:xfrm>
              <a:off x="2362320" y="59389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Line 27"/>
            <p:cNvSpPr/>
            <p:nvPr/>
          </p:nvSpPr>
          <p:spPr>
            <a:xfrm>
              <a:off x="609588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28"/>
            <p:cNvSpPr/>
            <p:nvPr/>
          </p:nvSpPr>
          <p:spPr>
            <a:xfrm>
              <a:off x="5945760" y="598788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Oval 35"/>
            <p:cNvSpPr/>
            <p:nvPr/>
          </p:nvSpPr>
          <p:spPr>
            <a:xfrm>
              <a:off x="60199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37"/>
            <p:cNvSpPr/>
            <p:nvPr/>
          </p:nvSpPr>
          <p:spPr>
            <a:xfrm>
              <a:off x="6167520" y="38052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Line 39"/>
            <p:cNvSpPr/>
            <p:nvPr/>
          </p:nvSpPr>
          <p:spPr>
            <a:xfrm>
              <a:off x="5119560" y="3962520"/>
              <a:ext cx="963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Oval 23"/>
            <p:cNvSpPr/>
            <p:nvPr/>
          </p:nvSpPr>
          <p:spPr>
            <a:xfrm>
              <a:off x="25146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Line 45"/>
          <p:cNvSpPr/>
          <p:nvPr/>
        </p:nvSpPr>
        <p:spPr>
          <a:xfrm flipV="1">
            <a:off x="5437080" y="2719440"/>
            <a:ext cx="2766960" cy="1649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46"/>
          <p:cNvSpPr/>
          <p:nvPr/>
        </p:nvSpPr>
        <p:spPr>
          <a:xfrm>
            <a:off x="8291520" y="2398680"/>
            <a:ext cx="41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Freeform 47"/>
          <p:cNvSpPr/>
          <p:nvPr/>
        </p:nvSpPr>
        <p:spPr>
          <a:xfrm>
            <a:off x="1522440" y="2741760"/>
            <a:ext cx="1452600" cy="1792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" h="1129">
                <a:moveTo>
                  <a:pt x="0" y="1128"/>
                </a:moveTo>
                <a:lnTo>
                  <a:pt x="69" y="1087"/>
                </a:lnTo>
                <a:lnTo>
                  <a:pt x="135" y="1046"/>
                </a:lnTo>
                <a:lnTo>
                  <a:pt x="198" y="1000"/>
                </a:lnTo>
                <a:lnTo>
                  <a:pt x="267" y="945"/>
                </a:lnTo>
                <a:lnTo>
                  <a:pt x="339" y="881"/>
                </a:lnTo>
                <a:lnTo>
                  <a:pt x="417" y="808"/>
                </a:lnTo>
                <a:lnTo>
                  <a:pt x="491" y="731"/>
                </a:lnTo>
                <a:lnTo>
                  <a:pt x="527" y="694"/>
                </a:lnTo>
                <a:lnTo>
                  <a:pt x="560" y="653"/>
                </a:lnTo>
                <a:lnTo>
                  <a:pt x="620" y="575"/>
                </a:lnTo>
                <a:lnTo>
                  <a:pt x="674" y="493"/>
                </a:lnTo>
                <a:lnTo>
                  <a:pt x="725" y="406"/>
                </a:lnTo>
                <a:lnTo>
                  <a:pt x="770" y="324"/>
                </a:lnTo>
                <a:lnTo>
                  <a:pt x="812" y="237"/>
                </a:lnTo>
                <a:lnTo>
                  <a:pt x="851" y="150"/>
                </a:lnTo>
                <a:lnTo>
                  <a:pt x="869" y="105"/>
                </a:lnTo>
                <a:lnTo>
                  <a:pt x="887" y="64"/>
                </a:lnTo>
                <a:lnTo>
                  <a:pt x="902" y="27"/>
                </a:lnTo>
                <a:lnTo>
                  <a:pt x="914" y="0"/>
                </a:lnTo>
              </a:path>
            </a:pathLst>
          </a:custGeom>
          <a:noFill/>
          <a:ln cap="rnd" w="50760">
            <a:solidFill>
              <a:srgbClr val="9966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51"/>
          <p:cNvSpPr/>
          <p:nvPr/>
        </p:nvSpPr>
        <p:spPr>
          <a:xfrm>
            <a:off x="852480" y="3505320"/>
            <a:ext cx="332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Rectangle 52"/>
          <p:cNvSpPr/>
          <p:nvPr/>
        </p:nvSpPr>
        <p:spPr>
          <a:xfrm>
            <a:off x="457920" y="32716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Freeform 53"/>
          <p:cNvSpPr/>
          <p:nvPr/>
        </p:nvSpPr>
        <p:spPr>
          <a:xfrm>
            <a:off x="1143000" y="2741760"/>
            <a:ext cx="2825640" cy="772920"/>
          </a:xfrm>
          <a:custGeom>
            <a:avLst/>
            <a:gdLst>
              <a:gd name="textAreaLeft" fmla="*/ 0 w 2825640"/>
              <a:gd name="textAreaRight" fmla="*/ 2826000 w 2825640"/>
              <a:gd name="textAreaTop" fmla="*/ 0 h 772920"/>
              <a:gd name="textAreaBottom" fmla="*/ 773280 h 772920"/>
            </a:gdLst>
            <a:ahLst/>
            <a:rect l="textAreaLeft" t="textAreaTop" r="textAreaRight" b="textAreaBottom"/>
            <a:pathLst>
              <a:path w="1780" h="487">
                <a:moveTo>
                  <a:pt x="0" y="8"/>
                </a:moveTo>
                <a:lnTo>
                  <a:pt x="24" y="32"/>
                </a:lnTo>
                <a:lnTo>
                  <a:pt x="56" y="64"/>
                </a:lnTo>
                <a:lnTo>
                  <a:pt x="92" y="103"/>
                </a:lnTo>
                <a:lnTo>
                  <a:pt x="136" y="146"/>
                </a:lnTo>
                <a:lnTo>
                  <a:pt x="180" y="192"/>
                </a:lnTo>
                <a:lnTo>
                  <a:pt x="232" y="235"/>
                </a:lnTo>
                <a:lnTo>
                  <a:pt x="284" y="274"/>
                </a:lnTo>
                <a:lnTo>
                  <a:pt x="336" y="309"/>
                </a:lnTo>
                <a:lnTo>
                  <a:pt x="392" y="341"/>
                </a:lnTo>
                <a:lnTo>
                  <a:pt x="456" y="369"/>
                </a:lnTo>
                <a:lnTo>
                  <a:pt x="520" y="401"/>
                </a:lnTo>
                <a:lnTo>
                  <a:pt x="587" y="426"/>
                </a:lnTo>
                <a:lnTo>
                  <a:pt x="655" y="451"/>
                </a:lnTo>
                <a:lnTo>
                  <a:pt x="727" y="469"/>
                </a:lnTo>
                <a:lnTo>
                  <a:pt x="795" y="483"/>
                </a:lnTo>
                <a:lnTo>
                  <a:pt x="863" y="486"/>
                </a:lnTo>
                <a:lnTo>
                  <a:pt x="931" y="483"/>
                </a:lnTo>
                <a:lnTo>
                  <a:pt x="999" y="476"/>
                </a:lnTo>
                <a:lnTo>
                  <a:pt x="1067" y="458"/>
                </a:lnTo>
                <a:lnTo>
                  <a:pt x="1135" y="440"/>
                </a:lnTo>
                <a:lnTo>
                  <a:pt x="1199" y="416"/>
                </a:lnTo>
                <a:lnTo>
                  <a:pt x="1267" y="387"/>
                </a:lnTo>
                <a:lnTo>
                  <a:pt x="1327" y="359"/>
                </a:lnTo>
                <a:lnTo>
                  <a:pt x="1387" y="327"/>
                </a:lnTo>
                <a:lnTo>
                  <a:pt x="1443" y="291"/>
                </a:lnTo>
                <a:lnTo>
                  <a:pt x="1499" y="252"/>
                </a:lnTo>
                <a:lnTo>
                  <a:pt x="1555" y="206"/>
                </a:lnTo>
                <a:lnTo>
                  <a:pt x="1607" y="160"/>
                </a:lnTo>
                <a:lnTo>
                  <a:pt x="1659" y="110"/>
                </a:lnTo>
                <a:lnTo>
                  <a:pt x="1703" y="68"/>
                </a:lnTo>
                <a:lnTo>
                  <a:pt x="1743" y="29"/>
                </a:lnTo>
                <a:lnTo>
                  <a:pt x="1779" y="0"/>
                </a:lnTo>
              </a:path>
            </a:pathLst>
          </a:custGeom>
          <a:noFill/>
          <a:ln cap="rnd" w="50760">
            <a:solidFill>
              <a:srgbClr val="99cc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Rectangle 54"/>
          <p:cNvSpPr/>
          <p:nvPr/>
        </p:nvSpPr>
        <p:spPr>
          <a:xfrm>
            <a:off x="2363400" y="2357280"/>
            <a:ext cx="56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Rectangle 57"/>
          <p:cNvSpPr/>
          <p:nvPr/>
        </p:nvSpPr>
        <p:spPr>
          <a:xfrm>
            <a:off x="5839920" y="1182600"/>
            <a:ext cx="2871360" cy="941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causa de la subida de lo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ios de los factores, 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ilibrio a largo plazo alcanz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ecio más alt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Rectangle 63"/>
          <p:cNvSpPr/>
          <p:nvPr/>
        </p:nvSpPr>
        <p:spPr>
          <a:xfrm>
            <a:off x="3582720" y="2281320"/>
            <a:ext cx="675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79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Oval 56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Group 75"/>
          <p:cNvGrpSpPr/>
          <p:nvPr/>
        </p:nvGrpSpPr>
        <p:grpSpPr>
          <a:xfrm>
            <a:off x="4556520" y="2205000"/>
            <a:ext cx="3013560" cy="4148640"/>
            <a:chOff x="4556520" y="2205000"/>
            <a:chExt cx="3013560" cy="4148640"/>
          </a:xfrm>
        </p:grpSpPr>
        <p:sp>
          <p:nvSpPr>
            <p:cNvPr id="1881" name="Rectangle 38"/>
            <p:cNvSpPr/>
            <p:nvPr/>
          </p:nvSpPr>
          <p:spPr>
            <a:xfrm>
              <a:off x="7081920" y="33480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Line 5"/>
            <p:cNvSpPr/>
            <p:nvPr/>
          </p:nvSpPr>
          <p:spPr>
            <a:xfrm flipV="1">
              <a:off x="5894280" y="2566800"/>
              <a:ext cx="1500120" cy="2716200"/>
            </a:xfrm>
            <a:prstGeom prst="line">
              <a:avLst/>
            </a:prstGeom>
            <a:ln w="50760">
              <a:solidFill>
                <a:srgbClr val="99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Oval 36"/>
            <p:cNvSpPr/>
            <p:nvPr/>
          </p:nvSpPr>
          <p:spPr>
            <a:xfrm>
              <a:off x="685800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42"/>
            <p:cNvSpPr/>
            <p:nvPr/>
          </p:nvSpPr>
          <p:spPr>
            <a:xfrm>
              <a:off x="7163280" y="22050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Line 43"/>
            <p:cNvSpPr/>
            <p:nvPr/>
          </p:nvSpPr>
          <p:spPr>
            <a:xfrm flipH="1">
              <a:off x="5094360" y="3505320"/>
              <a:ext cx="18525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44"/>
            <p:cNvSpPr/>
            <p:nvPr/>
          </p:nvSpPr>
          <p:spPr>
            <a:xfrm>
              <a:off x="4556520" y="32716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Line 60"/>
            <p:cNvSpPr/>
            <p:nvPr/>
          </p:nvSpPr>
          <p:spPr>
            <a:xfrm>
              <a:off x="6934320" y="3519360"/>
              <a:ext cx="0" cy="2487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61"/>
            <p:cNvSpPr/>
            <p:nvPr/>
          </p:nvSpPr>
          <p:spPr>
            <a:xfrm>
              <a:off x="6783840" y="598788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9" name="Group 69"/>
          <p:cNvGrpSpPr/>
          <p:nvPr/>
        </p:nvGrpSpPr>
        <p:grpSpPr>
          <a:xfrm>
            <a:off x="441720" y="2693880"/>
            <a:ext cx="7826400" cy="3659760"/>
            <a:chOff x="441720" y="2693880"/>
            <a:chExt cx="7826400" cy="3659760"/>
          </a:xfrm>
        </p:grpSpPr>
        <p:sp>
          <p:nvSpPr>
            <p:cNvPr id="1890" name="Line 4"/>
            <p:cNvSpPr/>
            <p:nvPr/>
          </p:nvSpPr>
          <p:spPr>
            <a:xfrm>
              <a:off x="6427800" y="2693880"/>
              <a:ext cx="1427040" cy="246240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Line 29"/>
            <p:cNvSpPr/>
            <p:nvPr/>
          </p:nvSpPr>
          <p:spPr>
            <a:xfrm>
              <a:off x="312408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30"/>
            <p:cNvSpPr/>
            <p:nvPr/>
          </p:nvSpPr>
          <p:spPr>
            <a:xfrm>
              <a:off x="2819520" y="59389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31"/>
            <p:cNvSpPr/>
            <p:nvPr/>
          </p:nvSpPr>
          <p:spPr>
            <a:xfrm>
              <a:off x="441720" y="28144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Line 32"/>
            <p:cNvSpPr/>
            <p:nvPr/>
          </p:nvSpPr>
          <p:spPr>
            <a:xfrm flipH="1">
              <a:off x="826560" y="3048120"/>
              <a:ext cx="2310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33"/>
            <p:cNvSpPr/>
            <p:nvPr/>
          </p:nvSpPr>
          <p:spPr>
            <a:xfrm>
              <a:off x="4556520" y="28144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Line 34"/>
            <p:cNvSpPr/>
            <p:nvPr/>
          </p:nvSpPr>
          <p:spPr>
            <a:xfrm flipH="1">
              <a:off x="5094000" y="3048120"/>
              <a:ext cx="16239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41"/>
            <p:cNvSpPr/>
            <p:nvPr/>
          </p:nvSpPr>
          <p:spPr>
            <a:xfrm>
              <a:off x="7849080" y="51768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Line 58"/>
            <p:cNvSpPr/>
            <p:nvPr/>
          </p:nvSpPr>
          <p:spPr>
            <a:xfrm>
              <a:off x="6629400" y="3062160"/>
              <a:ext cx="0" cy="2944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59"/>
            <p:cNvSpPr/>
            <p:nvPr/>
          </p:nvSpPr>
          <p:spPr>
            <a:xfrm>
              <a:off x="6402960" y="598788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Oval 62"/>
            <p:cNvSpPr/>
            <p:nvPr/>
          </p:nvSpPr>
          <p:spPr>
            <a:xfrm>
              <a:off x="65530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Rectangle 80"/>
          <p:cNvSpPr/>
          <p:nvPr/>
        </p:nvSpPr>
        <p:spPr>
          <a:xfrm>
            <a:off x="4259160" y="199548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Footer Placeholder 3"/>
          <p:cNvSpPr/>
          <p:nvPr/>
        </p:nvSpPr>
        <p:spPr>
          <a:xfrm>
            <a:off x="525600" y="6515280"/>
            <a:ext cx="685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os mercados perfectamente competitiv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Qué es lo que limita la entrada y salida del mercad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Todos los mercados son competitiv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ndo es un mercado muy competitiv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oferta a largo plazo de una industria de coste creciente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una industria de coste creciente, la curva de oferta de la industria a largo plazo tiene pendiente positiv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  Explique cuándo es posible el coste decreciente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Muestre una empresa de coste 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decreciente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3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¿Cuál es la pendiente de </a:t>
            </a:r>
            <a:r>
              <a:rPr b="0" i="1" lang="es-ES" sz="3200" spc="-1" strike="noStrike">
                <a:solidFill>
                  <a:srgbClr val="262626"/>
                </a:solidFill>
                <a:latin typeface="Arial"/>
              </a:rPr>
              <a:t>S</a:t>
            </a:r>
            <a:r>
              <a:rPr b="0" i="1" lang="es-ES" sz="3200" spc="-1" strike="noStrike" baseline="-25000">
                <a:solidFill>
                  <a:srgbClr val="262626"/>
                </a:solidFill>
                <a:latin typeface="Arial"/>
              </a:rPr>
              <a:t>L</a:t>
            </a:r>
            <a:r>
              <a:rPr b="0" lang="es-ES" sz="3200" spc="-1" strike="noStrike">
                <a:solidFill>
                  <a:srgbClr val="262626"/>
                </a:solidFill>
                <a:latin typeface="Arial"/>
              </a:rPr>
              <a:t> en una industria de coste decreciente?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0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Line 48"/>
          <p:cNvSpPr/>
          <p:nvPr/>
        </p:nvSpPr>
        <p:spPr>
          <a:xfrm>
            <a:off x="5348160" y="3672000"/>
            <a:ext cx="3021120" cy="11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44"/>
          <p:cNvSpPr/>
          <p:nvPr/>
        </p:nvSpPr>
        <p:spPr>
          <a:xfrm flipV="1">
            <a:off x="6351480" y="2566800"/>
            <a:ext cx="1500120" cy="2716200"/>
          </a:xfrm>
          <a:prstGeom prst="line">
            <a:avLst/>
          </a:prstGeom>
          <a:ln w="5076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Rectangle 45"/>
          <p:cNvSpPr/>
          <p:nvPr/>
        </p:nvSpPr>
        <p:spPr>
          <a:xfrm>
            <a:off x="7620480" y="220500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Oval 46"/>
          <p:cNvSpPr/>
          <p:nvPr/>
        </p:nvSpPr>
        <p:spPr>
          <a:xfrm>
            <a:off x="6858000" y="41911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47"/>
          <p:cNvSpPr/>
          <p:nvPr/>
        </p:nvSpPr>
        <p:spPr>
          <a:xfrm>
            <a:off x="7005600" y="38815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Rectangle 49"/>
          <p:cNvSpPr/>
          <p:nvPr/>
        </p:nvSpPr>
        <p:spPr>
          <a:xfrm>
            <a:off x="8215200" y="4379760"/>
            <a:ext cx="41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50"/>
          <p:cNvSpPr/>
          <p:nvPr/>
        </p:nvSpPr>
        <p:spPr>
          <a:xfrm flipH="1">
            <a:off x="5094000" y="4267080"/>
            <a:ext cx="17571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Rectangle 51"/>
          <p:cNvSpPr/>
          <p:nvPr/>
        </p:nvSpPr>
        <p:spPr>
          <a:xfrm>
            <a:off x="4556520" y="418608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52"/>
          <p:cNvSpPr/>
          <p:nvPr/>
        </p:nvSpPr>
        <p:spPr>
          <a:xfrm>
            <a:off x="6934320" y="4281480"/>
            <a:ext cx="0" cy="1725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Rectangle 53"/>
          <p:cNvSpPr/>
          <p:nvPr/>
        </p:nvSpPr>
        <p:spPr>
          <a:xfrm>
            <a:off x="6707520" y="5969160"/>
            <a:ext cx="4039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Freeform 54"/>
          <p:cNvSpPr/>
          <p:nvPr/>
        </p:nvSpPr>
        <p:spPr>
          <a:xfrm>
            <a:off x="1905120" y="3121200"/>
            <a:ext cx="1450800" cy="1793880"/>
          </a:xfrm>
          <a:custGeom>
            <a:avLst/>
            <a:gdLst>
              <a:gd name="textAreaLeft" fmla="*/ 0 w 1450800"/>
              <a:gd name="textAreaRight" fmla="*/ 1450800 w 145080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914" h="1130">
                <a:moveTo>
                  <a:pt x="0" y="1129"/>
                </a:moveTo>
                <a:lnTo>
                  <a:pt x="68" y="1084"/>
                </a:lnTo>
                <a:lnTo>
                  <a:pt x="132" y="1045"/>
                </a:lnTo>
                <a:lnTo>
                  <a:pt x="196" y="1000"/>
                </a:lnTo>
                <a:lnTo>
                  <a:pt x="264" y="946"/>
                </a:lnTo>
                <a:lnTo>
                  <a:pt x="338" y="881"/>
                </a:lnTo>
                <a:lnTo>
                  <a:pt x="416" y="807"/>
                </a:lnTo>
                <a:lnTo>
                  <a:pt x="494" y="733"/>
                </a:lnTo>
                <a:lnTo>
                  <a:pt x="561" y="654"/>
                </a:lnTo>
                <a:lnTo>
                  <a:pt x="619" y="574"/>
                </a:lnTo>
                <a:lnTo>
                  <a:pt x="673" y="495"/>
                </a:lnTo>
                <a:lnTo>
                  <a:pt x="724" y="411"/>
                </a:lnTo>
                <a:lnTo>
                  <a:pt x="768" y="327"/>
                </a:lnTo>
                <a:lnTo>
                  <a:pt x="812" y="238"/>
                </a:lnTo>
                <a:lnTo>
                  <a:pt x="852" y="149"/>
                </a:lnTo>
                <a:lnTo>
                  <a:pt x="886" y="64"/>
                </a:lnTo>
                <a:lnTo>
                  <a:pt x="899" y="30"/>
                </a:lnTo>
                <a:lnTo>
                  <a:pt x="913" y="0"/>
                </a:lnTo>
              </a:path>
            </a:pathLst>
          </a:custGeom>
          <a:noFill/>
          <a:ln cap="rnd" w="50760">
            <a:solidFill>
              <a:srgbClr val="9966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Freeform 55"/>
          <p:cNvSpPr/>
          <p:nvPr/>
        </p:nvSpPr>
        <p:spPr>
          <a:xfrm>
            <a:off x="1143000" y="3506760"/>
            <a:ext cx="2825640" cy="770040"/>
          </a:xfrm>
          <a:custGeom>
            <a:avLst/>
            <a:gdLst>
              <a:gd name="textAreaLeft" fmla="*/ 0 w 2825640"/>
              <a:gd name="textAreaRight" fmla="*/ 2826000 w 282564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780" h="485">
                <a:moveTo>
                  <a:pt x="0" y="5"/>
                </a:moveTo>
                <a:lnTo>
                  <a:pt x="24" y="26"/>
                </a:lnTo>
                <a:lnTo>
                  <a:pt x="56" y="61"/>
                </a:lnTo>
                <a:lnTo>
                  <a:pt x="92" y="100"/>
                </a:lnTo>
                <a:lnTo>
                  <a:pt x="136" y="143"/>
                </a:lnTo>
                <a:lnTo>
                  <a:pt x="180" y="190"/>
                </a:lnTo>
                <a:lnTo>
                  <a:pt x="232" y="233"/>
                </a:lnTo>
                <a:lnTo>
                  <a:pt x="284" y="272"/>
                </a:lnTo>
                <a:lnTo>
                  <a:pt x="336" y="307"/>
                </a:lnTo>
                <a:lnTo>
                  <a:pt x="392" y="337"/>
                </a:lnTo>
                <a:lnTo>
                  <a:pt x="456" y="367"/>
                </a:lnTo>
                <a:lnTo>
                  <a:pt x="587" y="423"/>
                </a:lnTo>
                <a:lnTo>
                  <a:pt x="655" y="449"/>
                </a:lnTo>
                <a:lnTo>
                  <a:pt x="727" y="466"/>
                </a:lnTo>
                <a:lnTo>
                  <a:pt x="795" y="479"/>
                </a:lnTo>
                <a:lnTo>
                  <a:pt x="863" y="484"/>
                </a:lnTo>
                <a:lnTo>
                  <a:pt x="931" y="484"/>
                </a:lnTo>
                <a:lnTo>
                  <a:pt x="999" y="471"/>
                </a:lnTo>
                <a:lnTo>
                  <a:pt x="1067" y="458"/>
                </a:lnTo>
                <a:lnTo>
                  <a:pt x="1135" y="436"/>
                </a:lnTo>
                <a:lnTo>
                  <a:pt x="1267" y="384"/>
                </a:lnTo>
                <a:lnTo>
                  <a:pt x="1327" y="354"/>
                </a:lnTo>
                <a:lnTo>
                  <a:pt x="1387" y="324"/>
                </a:lnTo>
                <a:lnTo>
                  <a:pt x="1443" y="290"/>
                </a:lnTo>
                <a:lnTo>
                  <a:pt x="1499" y="246"/>
                </a:lnTo>
                <a:lnTo>
                  <a:pt x="1607" y="156"/>
                </a:lnTo>
                <a:lnTo>
                  <a:pt x="1659" y="108"/>
                </a:lnTo>
                <a:lnTo>
                  <a:pt x="1703" y="65"/>
                </a:lnTo>
                <a:lnTo>
                  <a:pt x="1743" y="31"/>
                </a:lnTo>
                <a:lnTo>
                  <a:pt x="1779" y="0"/>
                </a:lnTo>
              </a:path>
            </a:pathLst>
          </a:custGeom>
          <a:noFill/>
          <a:ln cap="rnd" w="50760">
            <a:solidFill>
              <a:srgbClr val="99cc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56"/>
          <p:cNvSpPr/>
          <p:nvPr/>
        </p:nvSpPr>
        <p:spPr>
          <a:xfrm>
            <a:off x="3087360" y="2833560"/>
            <a:ext cx="562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Rectangle 58"/>
          <p:cNvSpPr/>
          <p:nvPr/>
        </p:nvSpPr>
        <p:spPr>
          <a:xfrm>
            <a:off x="441720" y="4110120"/>
            <a:ext cx="406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59"/>
          <p:cNvSpPr/>
          <p:nvPr/>
        </p:nvSpPr>
        <p:spPr>
          <a:xfrm>
            <a:off x="852480" y="4267080"/>
            <a:ext cx="332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Rectangle 60"/>
          <p:cNvSpPr/>
          <p:nvPr/>
        </p:nvSpPr>
        <p:spPr>
          <a:xfrm>
            <a:off x="3728880" y="3500280"/>
            <a:ext cx="687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M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61"/>
          <p:cNvSpPr/>
          <p:nvPr/>
        </p:nvSpPr>
        <p:spPr>
          <a:xfrm>
            <a:off x="6202080" y="1239840"/>
            <a:ext cx="2801160" cy="941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causa de que los precios 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factores bajan, el equilibr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largo plazo alcanza 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cio más alt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8"/>
          <p:cNvSpPr/>
          <p:nvPr/>
        </p:nvSpPr>
        <p:spPr>
          <a:xfrm>
            <a:off x="83808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9"/>
          <p:cNvSpPr/>
          <p:nvPr/>
        </p:nvSpPr>
        <p:spPr>
          <a:xfrm>
            <a:off x="5105520" y="207180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0"/>
          <p:cNvSpPr/>
          <p:nvPr/>
        </p:nvSpPr>
        <p:spPr>
          <a:xfrm>
            <a:off x="83340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1"/>
          <p:cNvSpPr/>
          <p:nvPr/>
        </p:nvSpPr>
        <p:spPr>
          <a:xfrm>
            <a:off x="5100480" y="600084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12"/>
          <p:cNvSpPr/>
          <p:nvPr/>
        </p:nvSpPr>
        <p:spPr>
          <a:xfrm>
            <a:off x="3653640" y="597708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13"/>
          <p:cNvSpPr/>
          <p:nvPr/>
        </p:nvSpPr>
        <p:spPr>
          <a:xfrm>
            <a:off x="7847640" y="595800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Rectangle 15"/>
          <p:cNvSpPr/>
          <p:nvPr/>
        </p:nvSpPr>
        <p:spPr>
          <a:xfrm>
            <a:off x="106200" y="182412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9" name="Group 73"/>
          <p:cNvGrpSpPr/>
          <p:nvPr/>
        </p:nvGrpSpPr>
        <p:grpSpPr>
          <a:xfrm>
            <a:off x="441720" y="2205000"/>
            <a:ext cx="6671160" cy="4134600"/>
            <a:chOff x="441720" y="2205000"/>
            <a:chExt cx="6671160" cy="4134600"/>
          </a:xfrm>
        </p:grpSpPr>
        <p:sp>
          <p:nvSpPr>
            <p:cNvPr id="1940" name="Rectangle 16"/>
            <p:cNvSpPr/>
            <p:nvPr/>
          </p:nvSpPr>
          <p:spPr>
            <a:xfrm>
              <a:off x="441720" y="36529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1143000" y="3193920"/>
              <a:ext cx="2825640" cy="770040"/>
            </a:xfrm>
            <a:custGeom>
              <a:avLst/>
              <a:gdLst>
                <a:gd name="textAreaLeft" fmla="*/ 0 w 2825640"/>
                <a:gd name="textAreaRight" fmla="*/ 2826000 w 282564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1780" h="485">
                  <a:moveTo>
                    <a:pt x="0" y="4"/>
                  </a:moveTo>
                  <a:lnTo>
                    <a:pt x="24" y="28"/>
                  </a:lnTo>
                  <a:lnTo>
                    <a:pt x="56" y="64"/>
                  </a:lnTo>
                  <a:lnTo>
                    <a:pt x="92" y="104"/>
                  </a:lnTo>
                  <a:lnTo>
                    <a:pt x="136" y="144"/>
                  </a:lnTo>
                  <a:lnTo>
                    <a:pt x="180" y="192"/>
                  </a:lnTo>
                  <a:lnTo>
                    <a:pt x="232" y="236"/>
                  </a:lnTo>
                  <a:lnTo>
                    <a:pt x="284" y="276"/>
                  </a:lnTo>
                  <a:lnTo>
                    <a:pt x="336" y="308"/>
                  </a:lnTo>
                  <a:lnTo>
                    <a:pt x="392" y="340"/>
                  </a:lnTo>
                  <a:lnTo>
                    <a:pt x="456" y="368"/>
                  </a:lnTo>
                  <a:lnTo>
                    <a:pt x="587" y="424"/>
                  </a:lnTo>
                  <a:lnTo>
                    <a:pt x="655" y="448"/>
                  </a:lnTo>
                  <a:lnTo>
                    <a:pt x="727" y="468"/>
                  </a:lnTo>
                  <a:lnTo>
                    <a:pt x="795" y="480"/>
                  </a:lnTo>
                  <a:lnTo>
                    <a:pt x="863" y="484"/>
                  </a:lnTo>
                  <a:lnTo>
                    <a:pt x="931" y="480"/>
                  </a:lnTo>
                  <a:lnTo>
                    <a:pt x="999" y="472"/>
                  </a:lnTo>
                  <a:lnTo>
                    <a:pt x="1067" y="456"/>
                  </a:lnTo>
                  <a:lnTo>
                    <a:pt x="1135" y="436"/>
                  </a:lnTo>
                  <a:lnTo>
                    <a:pt x="1267" y="384"/>
                  </a:lnTo>
                  <a:lnTo>
                    <a:pt x="1327" y="356"/>
                  </a:lnTo>
                  <a:lnTo>
                    <a:pt x="1387" y="324"/>
                  </a:lnTo>
                  <a:lnTo>
                    <a:pt x="1443" y="292"/>
                  </a:lnTo>
                  <a:lnTo>
                    <a:pt x="1499" y="248"/>
                  </a:lnTo>
                  <a:lnTo>
                    <a:pt x="1555" y="204"/>
                  </a:lnTo>
                  <a:lnTo>
                    <a:pt x="1607" y="156"/>
                  </a:lnTo>
                  <a:lnTo>
                    <a:pt x="1659" y="112"/>
                  </a:lnTo>
                  <a:lnTo>
                    <a:pt x="1703" y="68"/>
                  </a:lnTo>
                  <a:lnTo>
                    <a:pt x="1743" y="32"/>
                  </a:lnTo>
                  <a:lnTo>
                    <a:pt x="1779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1674720" y="2970360"/>
              <a:ext cx="1452600" cy="1792080"/>
            </a:xfrm>
            <a:custGeom>
              <a:avLst/>
              <a:gdLst>
                <a:gd name="textAreaLeft" fmla="*/ 0 w 1452600"/>
                <a:gd name="textAreaRight" fmla="*/ 1452960 w 1452600"/>
                <a:gd name="textAreaTop" fmla="*/ 0 h 1792080"/>
                <a:gd name="textAreaBottom" fmla="*/ 1792440 h 1792080"/>
              </a:gdLst>
              <a:ahLst/>
              <a:rect l="textAreaLeft" t="textAreaTop" r="textAreaRight" b="textAreaBottom"/>
              <a:pathLst>
                <a:path w="915" h="1129">
                  <a:moveTo>
                    <a:pt x="0" y="1128"/>
                  </a:moveTo>
                  <a:lnTo>
                    <a:pt x="70" y="1085"/>
                  </a:lnTo>
                  <a:lnTo>
                    <a:pt x="133" y="1042"/>
                  </a:lnTo>
                  <a:lnTo>
                    <a:pt x="196" y="998"/>
                  </a:lnTo>
                  <a:lnTo>
                    <a:pt x="265" y="941"/>
                  </a:lnTo>
                  <a:lnTo>
                    <a:pt x="341" y="878"/>
                  </a:lnTo>
                  <a:lnTo>
                    <a:pt x="416" y="807"/>
                  </a:lnTo>
                  <a:lnTo>
                    <a:pt x="492" y="730"/>
                  </a:lnTo>
                  <a:lnTo>
                    <a:pt x="561" y="653"/>
                  </a:lnTo>
                  <a:lnTo>
                    <a:pt x="621" y="576"/>
                  </a:lnTo>
                  <a:lnTo>
                    <a:pt x="675" y="495"/>
                  </a:lnTo>
                  <a:lnTo>
                    <a:pt x="725" y="408"/>
                  </a:lnTo>
                  <a:lnTo>
                    <a:pt x="769" y="327"/>
                  </a:lnTo>
                  <a:lnTo>
                    <a:pt x="813" y="240"/>
                  </a:lnTo>
                  <a:lnTo>
                    <a:pt x="851" y="149"/>
                  </a:lnTo>
                  <a:lnTo>
                    <a:pt x="870" y="106"/>
                  </a:lnTo>
                  <a:lnTo>
                    <a:pt x="886" y="63"/>
                  </a:lnTo>
                  <a:lnTo>
                    <a:pt x="901" y="29"/>
                  </a:lnTo>
                  <a:lnTo>
                    <a:pt x="91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9"/>
            <p:cNvSpPr/>
            <p:nvPr/>
          </p:nvSpPr>
          <p:spPr>
            <a:xfrm>
              <a:off x="4572720" y="38466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Oval 21"/>
            <p:cNvSpPr/>
            <p:nvPr/>
          </p:nvSpPr>
          <p:spPr>
            <a:xfrm>
              <a:off x="251460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Line 37"/>
            <p:cNvSpPr/>
            <p:nvPr/>
          </p:nvSpPr>
          <p:spPr>
            <a:xfrm>
              <a:off x="852480" y="3962520"/>
              <a:ext cx="332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39"/>
            <p:cNvSpPr/>
            <p:nvPr/>
          </p:nvSpPr>
          <p:spPr>
            <a:xfrm>
              <a:off x="2592000" y="2509920"/>
              <a:ext cx="5623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Line 33"/>
            <p:cNvSpPr/>
            <p:nvPr/>
          </p:nvSpPr>
          <p:spPr>
            <a:xfrm>
              <a:off x="5119560" y="3962520"/>
              <a:ext cx="982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36"/>
            <p:cNvSpPr/>
            <p:nvPr/>
          </p:nvSpPr>
          <p:spPr>
            <a:xfrm>
              <a:off x="6091200" y="36529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Line 5"/>
            <p:cNvSpPr/>
            <p:nvPr/>
          </p:nvSpPr>
          <p:spPr>
            <a:xfrm>
              <a:off x="5361120" y="2693880"/>
              <a:ext cx="142704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Rectangle 6"/>
            <p:cNvSpPr/>
            <p:nvPr/>
          </p:nvSpPr>
          <p:spPr>
            <a:xfrm>
              <a:off x="6553800" y="515772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Line 23"/>
            <p:cNvSpPr/>
            <p:nvPr/>
          </p:nvSpPr>
          <p:spPr>
            <a:xfrm flipV="1">
              <a:off x="5361120" y="2566800"/>
              <a:ext cx="1500120" cy="27162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Rectangle 24"/>
            <p:cNvSpPr/>
            <p:nvPr/>
          </p:nvSpPr>
          <p:spPr>
            <a:xfrm>
              <a:off x="6706080" y="22050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Line 25"/>
            <p:cNvSpPr/>
            <p:nvPr/>
          </p:nvSpPr>
          <p:spPr>
            <a:xfrm>
              <a:off x="609588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Oval 32"/>
            <p:cNvSpPr/>
            <p:nvPr/>
          </p:nvSpPr>
          <p:spPr>
            <a:xfrm>
              <a:off x="6019920" y="3886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Rectangle 41"/>
            <p:cNvSpPr/>
            <p:nvPr/>
          </p:nvSpPr>
          <p:spPr>
            <a:xfrm>
              <a:off x="5945760" y="596916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Line 20"/>
            <p:cNvSpPr/>
            <p:nvPr/>
          </p:nvSpPr>
          <p:spPr>
            <a:xfrm>
              <a:off x="2590920" y="3976560"/>
              <a:ext cx="0" cy="20304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22"/>
            <p:cNvSpPr/>
            <p:nvPr/>
          </p:nvSpPr>
          <p:spPr>
            <a:xfrm>
              <a:off x="2362320" y="59389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38"/>
            <p:cNvSpPr/>
            <p:nvPr/>
          </p:nvSpPr>
          <p:spPr>
            <a:xfrm>
              <a:off x="3735000" y="2814480"/>
              <a:ext cx="675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e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9" name="Group 71"/>
          <p:cNvGrpSpPr/>
          <p:nvPr/>
        </p:nvGrpSpPr>
        <p:grpSpPr>
          <a:xfrm>
            <a:off x="441720" y="2693880"/>
            <a:ext cx="7216920" cy="3645720"/>
            <a:chOff x="441720" y="2693880"/>
            <a:chExt cx="7216920" cy="3645720"/>
          </a:xfrm>
        </p:grpSpPr>
        <p:sp>
          <p:nvSpPr>
            <p:cNvPr id="1960" name="Line 40"/>
            <p:cNvSpPr/>
            <p:nvPr/>
          </p:nvSpPr>
          <p:spPr>
            <a:xfrm>
              <a:off x="64008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42"/>
            <p:cNvSpPr/>
            <p:nvPr/>
          </p:nvSpPr>
          <p:spPr>
            <a:xfrm>
              <a:off x="6250320" y="5969160"/>
              <a:ext cx="403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Line 4"/>
            <p:cNvSpPr/>
            <p:nvPr/>
          </p:nvSpPr>
          <p:spPr>
            <a:xfrm>
              <a:off x="5970600" y="2693880"/>
              <a:ext cx="1427040" cy="246240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Line 26"/>
            <p:cNvSpPr/>
            <p:nvPr/>
          </p:nvSpPr>
          <p:spPr>
            <a:xfrm>
              <a:off x="29718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Rectangle 27"/>
            <p:cNvSpPr/>
            <p:nvPr/>
          </p:nvSpPr>
          <p:spPr>
            <a:xfrm>
              <a:off x="2819520" y="593892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Rectangle 28"/>
            <p:cNvSpPr/>
            <p:nvPr/>
          </p:nvSpPr>
          <p:spPr>
            <a:xfrm>
              <a:off x="441720" y="31957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Line 29"/>
            <p:cNvSpPr/>
            <p:nvPr/>
          </p:nvSpPr>
          <p:spPr>
            <a:xfrm flipH="1">
              <a:off x="826560" y="3429000"/>
              <a:ext cx="2157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30"/>
            <p:cNvSpPr/>
            <p:nvPr/>
          </p:nvSpPr>
          <p:spPr>
            <a:xfrm>
              <a:off x="4556520" y="319572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Line 31"/>
            <p:cNvSpPr/>
            <p:nvPr/>
          </p:nvSpPr>
          <p:spPr>
            <a:xfrm flipH="1">
              <a:off x="5094360" y="3429000"/>
              <a:ext cx="13953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Rectangle 35"/>
            <p:cNvSpPr/>
            <p:nvPr/>
          </p:nvSpPr>
          <p:spPr>
            <a:xfrm>
              <a:off x="7239600" y="5176800"/>
              <a:ext cx="4190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Oval 43"/>
            <p:cNvSpPr/>
            <p:nvPr/>
          </p:nvSpPr>
          <p:spPr>
            <a:xfrm>
              <a:off x="6324480" y="3352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1" name="Line 62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Line 63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Rectangle 74"/>
          <p:cNvSpPr/>
          <p:nvPr/>
        </p:nvSpPr>
        <p:spPr>
          <a:xfrm>
            <a:off x="550800" y="22860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oferta a largo plazo de una industria de coste decrecient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Rectangle 76"/>
          <p:cNvSpPr/>
          <p:nvPr/>
        </p:nvSpPr>
        <p:spPr>
          <a:xfrm>
            <a:off x="4335480" y="188136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1976" name="" descr=""/>
          <p:cNvPicPr/>
          <p:nvPr/>
        </p:nvPicPr>
        <p:blipFill>
          <a:blip r:embed="rId1"/>
          <a:stretch/>
        </p:blipFill>
        <p:spPr>
          <a:xfrm>
            <a:off x="352080" y="1247760"/>
            <a:ext cx="82486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4" dur="5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78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n una industria de coste decreciente, la curva de oferta a largo plazo de la industria tiene pendiente negativ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9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Rectangle 7"/>
          <p:cNvSpPr/>
          <p:nvPr/>
        </p:nvSpPr>
        <p:spPr>
          <a:xfrm>
            <a:off x="550800" y="228600"/>
            <a:ext cx="7983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La oferta a largo plazo de una industria de coste decrecient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efectos de un impuest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En un capítulo anterior vimos cómo respondían las empresas a los impuestos sobre un factor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Ahora, consideraremos cómo responde una empresa a un impuesto sobre su producción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nfluencia de un impuesto sobre la producción en el nivel de producción de una empresa competitiva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89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Line 5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Line 6"/>
          <p:cNvSpPr/>
          <p:nvPr/>
        </p:nvSpPr>
        <p:spPr>
          <a:xfrm>
            <a:off x="2200320" y="5987880"/>
            <a:ext cx="514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7"/>
          <p:cNvSpPr/>
          <p:nvPr/>
        </p:nvSpPr>
        <p:spPr>
          <a:xfrm>
            <a:off x="1400040" y="14414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8"/>
          <p:cNvSpPr/>
          <p:nvPr/>
        </p:nvSpPr>
        <p:spPr>
          <a:xfrm>
            <a:off x="6852240" y="601344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15"/>
          <p:cNvSpPr/>
          <p:nvPr/>
        </p:nvSpPr>
        <p:spPr>
          <a:xfrm>
            <a:off x="2211480" y="2743200"/>
            <a:ext cx="38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Group 28"/>
          <p:cNvGrpSpPr/>
          <p:nvPr/>
        </p:nvGrpSpPr>
        <p:grpSpPr>
          <a:xfrm>
            <a:off x="2471760" y="1568520"/>
            <a:ext cx="5808960" cy="3997080"/>
            <a:chOff x="2471760" y="1568520"/>
            <a:chExt cx="5808960" cy="3997080"/>
          </a:xfrm>
        </p:grpSpPr>
        <p:sp>
          <p:nvSpPr>
            <p:cNvPr id="1998" name="Freeform 9"/>
            <p:cNvSpPr/>
            <p:nvPr/>
          </p:nvSpPr>
          <p:spPr>
            <a:xfrm>
              <a:off x="2471760" y="4586400"/>
              <a:ext cx="4922640" cy="768240"/>
            </a:xfrm>
            <a:custGeom>
              <a:avLst/>
              <a:gdLst>
                <a:gd name="textAreaLeft" fmla="*/ 0 w 4922640"/>
                <a:gd name="textAreaRight" fmla="*/ 4922640 w 492264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101" h="484">
                  <a:moveTo>
                    <a:pt x="0" y="0"/>
                  </a:moveTo>
                  <a:lnTo>
                    <a:pt x="38" y="22"/>
                  </a:lnTo>
                  <a:lnTo>
                    <a:pt x="90" y="49"/>
                  </a:lnTo>
                  <a:lnTo>
                    <a:pt x="157" y="87"/>
                  </a:lnTo>
                  <a:lnTo>
                    <a:pt x="224" y="125"/>
                  </a:lnTo>
                  <a:lnTo>
                    <a:pt x="380" y="201"/>
                  </a:lnTo>
                  <a:lnTo>
                    <a:pt x="455" y="239"/>
                  </a:lnTo>
                  <a:lnTo>
                    <a:pt x="537" y="271"/>
                  </a:lnTo>
                  <a:lnTo>
                    <a:pt x="701" y="331"/>
                  </a:lnTo>
                  <a:lnTo>
                    <a:pt x="880" y="391"/>
                  </a:lnTo>
                  <a:lnTo>
                    <a:pt x="1058" y="439"/>
                  </a:lnTo>
                  <a:lnTo>
                    <a:pt x="1148" y="461"/>
                  </a:lnTo>
                  <a:lnTo>
                    <a:pt x="1230" y="472"/>
                  </a:lnTo>
                  <a:lnTo>
                    <a:pt x="1304" y="477"/>
                  </a:lnTo>
                  <a:lnTo>
                    <a:pt x="1379" y="483"/>
                  </a:lnTo>
                  <a:lnTo>
                    <a:pt x="1528" y="477"/>
                  </a:lnTo>
                  <a:lnTo>
                    <a:pt x="1669" y="456"/>
                  </a:lnTo>
                  <a:lnTo>
                    <a:pt x="1818" y="434"/>
                  </a:lnTo>
                  <a:lnTo>
                    <a:pt x="1960" y="412"/>
                  </a:lnTo>
                  <a:lnTo>
                    <a:pt x="2109" y="380"/>
                  </a:lnTo>
                  <a:lnTo>
                    <a:pt x="2258" y="336"/>
                  </a:lnTo>
                  <a:lnTo>
                    <a:pt x="2414" y="288"/>
                  </a:lnTo>
                  <a:lnTo>
                    <a:pt x="2504" y="260"/>
                  </a:lnTo>
                  <a:lnTo>
                    <a:pt x="2593" y="228"/>
                  </a:lnTo>
                  <a:lnTo>
                    <a:pt x="2787" y="157"/>
                  </a:lnTo>
                  <a:lnTo>
                    <a:pt x="2876" y="125"/>
                  </a:lnTo>
                  <a:lnTo>
                    <a:pt x="2966" y="92"/>
                  </a:lnTo>
                  <a:lnTo>
                    <a:pt x="3040" y="60"/>
                  </a:lnTo>
                  <a:lnTo>
                    <a:pt x="3100" y="38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10"/>
            <p:cNvSpPr/>
            <p:nvPr/>
          </p:nvSpPr>
          <p:spPr>
            <a:xfrm>
              <a:off x="7392240" y="4414680"/>
              <a:ext cx="888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VMe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19"/>
            <p:cNvSpPr/>
            <p:nvPr/>
          </p:nvSpPr>
          <p:spPr>
            <a:xfrm>
              <a:off x="3503520" y="1986120"/>
              <a:ext cx="2976480" cy="3579480"/>
            </a:xfrm>
            <a:custGeom>
              <a:avLst/>
              <a:gdLst>
                <a:gd name="textAreaLeft" fmla="*/ 0 w 2976480"/>
                <a:gd name="textAreaRight" fmla="*/ 2976840 w 2976480"/>
                <a:gd name="textAreaTop" fmla="*/ 0 h 3579480"/>
                <a:gd name="textAreaBottom" fmla="*/ 3579840 h 3579480"/>
              </a:gdLst>
              <a:ahLst/>
              <a:rect l="textAreaLeft" t="textAreaTop" r="textAreaRight" b="textAreaBottom"/>
              <a:pathLst>
                <a:path w="1875" h="2255">
                  <a:moveTo>
                    <a:pt x="0" y="2254"/>
                  </a:moveTo>
                  <a:lnTo>
                    <a:pt x="261" y="2075"/>
                  </a:lnTo>
                  <a:lnTo>
                    <a:pt x="509" y="1884"/>
                  </a:lnTo>
                  <a:lnTo>
                    <a:pt x="738" y="1688"/>
                  </a:lnTo>
                  <a:lnTo>
                    <a:pt x="849" y="1587"/>
                  </a:lnTo>
                  <a:lnTo>
                    <a:pt x="947" y="1491"/>
                  </a:lnTo>
                  <a:lnTo>
                    <a:pt x="1038" y="1396"/>
                  </a:lnTo>
                  <a:lnTo>
                    <a:pt x="1123" y="1301"/>
                  </a:lnTo>
                  <a:lnTo>
                    <a:pt x="1280" y="1104"/>
                  </a:lnTo>
                  <a:lnTo>
                    <a:pt x="1410" y="908"/>
                  </a:lnTo>
                  <a:lnTo>
                    <a:pt x="1528" y="717"/>
                  </a:lnTo>
                  <a:lnTo>
                    <a:pt x="1587" y="622"/>
                  </a:lnTo>
                  <a:lnTo>
                    <a:pt x="1639" y="521"/>
                  </a:lnTo>
                  <a:lnTo>
                    <a:pt x="1730" y="319"/>
                  </a:lnTo>
                  <a:lnTo>
                    <a:pt x="1776" y="224"/>
                  </a:lnTo>
                  <a:lnTo>
                    <a:pt x="1809" y="140"/>
                  </a:lnTo>
                  <a:lnTo>
                    <a:pt x="1848" y="61"/>
                  </a:lnTo>
                  <a:lnTo>
                    <a:pt x="187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20"/>
            <p:cNvSpPr/>
            <p:nvPr/>
          </p:nvSpPr>
          <p:spPr>
            <a:xfrm>
              <a:off x="6172920" y="1568520"/>
              <a:ext cx="609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2" name="Group 31"/>
          <p:cNvGrpSpPr/>
          <p:nvPr/>
        </p:nvGrpSpPr>
        <p:grpSpPr>
          <a:xfrm>
            <a:off x="1737360" y="3119400"/>
            <a:ext cx="4143960" cy="3182040"/>
            <a:chOff x="1737360" y="3119400"/>
            <a:chExt cx="4143960" cy="3182040"/>
          </a:xfrm>
        </p:grpSpPr>
        <p:sp>
          <p:nvSpPr>
            <p:cNvPr id="2003" name="Line 16"/>
            <p:cNvSpPr/>
            <p:nvPr/>
          </p:nvSpPr>
          <p:spPr>
            <a:xfrm>
              <a:off x="2224080" y="3429000"/>
              <a:ext cx="3325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17"/>
            <p:cNvSpPr/>
            <p:nvPr/>
          </p:nvSpPr>
          <p:spPr>
            <a:xfrm>
              <a:off x="1737360" y="31194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Line 18"/>
            <p:cNvSpPr/>
            <p:nvPr/>
          </p:nvSpPr>
          <p:spPr>
            <a:xfrm>
              <a:off x="5715000" y="3462480"/>
              <a:ext cx="0" cy="2544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22"/>
            <p:cNvSpPr/>
            <p:nvPr/>
          </p:nvSpPr>
          <p:spPr>
            <a:xfrm>
              <a:off x="5486760" y="590076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Group 34"/>
          <p:cNvGrpSpPr/>
          <p:nvPr/>
        </p:nvGrpSpPr>
        <p:grpSpPr>
          <a:xfrm>
            <a:off x="4876920" y="1449360"/>
            <a:ext cx="4228560" cy="4852080"/>
            <a:chOff x="4876920" y="1449360"/>
            <a:chExt cx="4228560" cy="4852080"/>
          </a:xfrm>
        </p:grpSpPr>
        <p:sp>
          <p:nvSpPr>
            <p:cNvPr id="2008" name="Rectangle 11"/>
            <p:cNvSpPr/>
            <p:nvPr/>
          </p:nvSpPr>
          <p:spPr>
            <a:xfrm>
              <a:off x="6991560" y="1449360"/>
              <a:ext cx="2113920" cy="1367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empresa reduce su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ivel de produ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asta el punto en e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e el coste margi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ás el impuesto 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gual al precio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Line 25"/>
            <p:cNvSpPr/>
            <p:nvPr/>
          </p:nvSpPr>
          <p:spPr>
            <a:xfrm>
              <a:off x="5029200" y="3443400"/>
              <a:ext cx="0" cy="256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26"/>
            <p:cNvSpPr/>
            <p:nvPr/>
          </p:nvSpPr>
          <p:spPr>
            <a:xfrm>
              <a:off x="4876920" y="590076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Group 33"/>
          <p:cNvGrpSpPr/>
          <p:nvPr/>
        </p:nvGrpSpPr>
        <p:grpSpPr>
          <a:xfrm>
            <a:off x="2093040" y="1442880"/>
            <a:ext cx="6187680" cy="3894120"/>
            <a:chOff x="2093040" y="1442880"/>
            <a:chExt cx="6187680" cy="3894120"/>
          </a:xfrm>
        </p:grpSpPr>
        <p:sp>
          <p:nvSpPr>
            <p:cNvPr id="2012" name="Rectangle 23"/>
            <p:cNvSpPr/>
            <p:nvPr/>
          </p:nvSpPr>
          <p:spPr>
            <a:xfrm>
              <a:off x="5329080" y="2814480"/>
              <a:ext cx="257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24"/>
            <p:cNvSpPr/>
            <p:nvPr/>
          </p:nvSpPr>
          <p:spPr>
            <a:xfrm>
              <a:off x="5559480" y="2436840"/>
              <a:ext cx="82440" cy="995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995400"/>
                <a:gd name="textAreaBottom" fmla="*/ 995760 h 995400"/>
              </a:gdLst>
              <a:ahLst/>
              <a:rect l="textAreaLeft" t="textAreaTop" r="textAreaRight" b="textAreaBottom"/>
              <a:pathLst>
                <a:path w="52" h="627">
                  <a:moveTo>
                    <a:pt x="51" y="0"/>
                  </a:moveTo>
                  <a:lnTo>
                    <a:pt x="45" y="4"/>
                  </a:lnTo>
                  <a:lnTo>
                    <a:pt x="34" y="17"/>
                  </a:lnTo>
                  <a:lnTo>
                    <a:pt x="28" y="31"/>
                  </a:lnTo>
                  <a:lnTo>
                    <a:pt x="28" y="52"/>
                  </a:lnTo>
                  <a:lnTo>
                    <a:pt x="28" y="259"/>
                  </a:lnTo>
                  <a:lnTo>
                    <a:pt x="28" y="280"/>
                  </a:lnTo>
                  <a:lnTo>
                    <a:pt x="23" y="298"/>
                  </a:lnTo>
                  <a:lnTo>
                    <a:pt x="11" y="308"/>
                  </a:lnTo>
                  <a:lnTo>
                    <a:pt x="0" y="311"/>
                  </a:lnTo>
                  <a:lnTo>
                    <a:pt x="11" y="315"/>
                  </a:lnTo>
                  <a:lnTo>
                    <a:pt x="23" y="329"/>
                  </a:lnTo>
                  <a:lnTo>
                    <a:pt x="28" y="346"/>
                  </a:lnTo>
                  <a:lnTo>
                    <a:pt x="28" y="367"/>
                  </a:lnTo>
                  <a:lnTo>
                    <a:pt x="28" y="574"/>
                  </a:lnTo>
                  <a:lnTo>
                    <a:pt x="28" y="595"/>
                  </a:lnTo>
                  <a:lnTo>
                    <a:pt x="34" y="612"/>
                  </a:lnTo>
                  <a:lnTo>
                    <a:pt x="45" y="623"/>
                  </a:lnTo>
                  <a:lnTo>
                    <a:pt x="51" y="6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2"/>
            <p:cNvSpPr/>
            <p:nvPr/>
          </p:nvSpPr>
          <p:spPr>
            <a:xfrm>
              <a:off x="2471760" y="3578400"/>
              <a:ext cx="4922640" cy="771480"/>
            </a:xfrm>
            <a:custGeom>
              <a:avLst/>
              <a:gdLst>
                <a:gd name="textAreaLeft" fmla="*/ 0 w 4922640"/>
                <a:gd name="textAreaRight" fmla="*/ 4922640 w 4922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3101" h="486">
                  <a:moveTo>
                    <a:pt x="0" y="0"/>
                  </a:moveTo>
                  <a:lnTo>
                    <a:pt x="38" y="22"/>
                  </a:lnTo>
                  <a:lnTo>
                    <a:pt x="90" y="53"/>
                  </a:lnTo>
                  <a:lnTo>
                    <a:pt x="157" y="88"/>
                  </a:lnTo>
                  <a:lnTo>
                    <a:pt x="224" y="128"/>
                  </a:lnTo>
                  <a:lnTo>
                    <a:pt x="380" y="207"/>
                  </a:lnTo>
                  <a:lnTo>
                    <a:pt x="455" y="247"/>
                  </a:lnTo>
                  <a:lnTo>
                    <a:pt x="537" y="278"/>
                  </a:lnTo>
                  <a:lnTo>
                    <a:pt x="701" y="340"/>
                  </a:lnTo>
                  <a:lnTo>
                    <a:pt x="880" y="397"/>
                  </a:lnTo>
                  <a:lnTo>
                    <a:pt x="1058" y="446"/>
                  </a:lnTo>
                  <a:lnTo>
                    <a:pt x="1148" y="463"/>
                  </a:lnTo>
                  <a:lnTo>
                    <a:pt x="1230" y="477"/>
                  </a:lnTo>
                  <a:lnTo>
                    <a:pt x="1304" y="485"/>
                  </a:lnTo>
                  <a:lnTo>
                    <a:pt x="1379" y="485"/>
                  </a:lnTo>
                  <a:lnTo>
                    <a:pt x="1528" y="481"/>
                  </a:lnTo>
                  <a:lnTo>
                    <a:pt x="1669" y="463"/>
                  </a:lnTo>
                  <a:lnTo>
                    <a:pt x="1818" y="441"/>
                  </a:lnTo>
                  <a:lnTo>
                    <a:pt x="1960" y="415"/>
                  </a:lnTo>
                  <a:lnTo>
                    <a:pt x="2109" y="384"/>
                  </a:lnTo>
                  <a:lnTo>
                    <a:pt x="2258" y="344"/>
                  </a:lnTo>
                  <a:lnTo>
                    <a:pt x="2414" y="296"/>
                  </a:lnTo>
                  <a:lnTo>
                    <a:pt x="2504" y="269"/>
                  </a:lnTo>
                  <a:lnTo>
                    <a:pt x="2593" y="234"/>
                  </a:lnTo>
                  <a:lnTo>
                    <a:pt x="2787" y="163"/>
                  </a:lnTo>
                  <a:lnTo>
                    <a:pt x="2876" y="128"/>
                  </a:lnTo>
                  <a:lnTo>
                    <a:pt x="2966" y="97"/>
                  </a:lnTo>
                  <a:lnTo>
                    <a:pt x="3040" y="66"/>
                  </a:lnTo>
                  <a:lnTo>
                    <a:pt x="3100" y="44"/>
                  </a:lnTo>
                </a:path>
              </a:pathLst>
            </a:custGeom>
            <a:noFill/>
            <a:ln cap="rnd" w="50760">
              <a:solidFill>
                <a:srgbClr val="99ccff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13"/>
            <p:cNvSpPr/>
            <p:nvPr/>
          </p:nvSpPr>
          <p:spPr>
            <a:xfrm>
              <a:off x="4336920" y="1442880"/>
              <a:ext cx="1449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= CM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+ 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14"/>
            <p:cNvSpPr/>
            <p:nvPr/>
          </p:nvSpPr>
          <p:spPr>
            <a:xfrm>
              <a:off x="7392240" y="3348000"/>
              <a:ext cx="8884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VMe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1"/>
            <p:cNvSpPr/>
            <p:nvPr/>
          </p:nvSpPr>
          <p:spPr>
            <a:xfrm>
              <a:off x="2741760" y="1827360"/>
              <a:ext cx="3228840" cy="3509640"/>
            </a:xfrm>
            <a:custGeom>
              <a:avLst/>
              <a:gdLst>
                <a:gd name="textAreaLeft" fmla="*/ 0 w 3228840"/>
                <a:gd name="textAreaRight" fmla="*/ 3229200 w 3228840"/>
                <a:gd name="textAreaTop" fmla="*/ 0 h 3509640"/>
                <a:gd name="textAreaBottom" fmla="*/ 3510000 h 3509640"/>
              </a:gdLst>
              <a:ahLst/>
              <a:rect l="textAreaLeft" t="textAreaTop" r="textAreaRight" b="textAreaBottom"/>
              <a:pathLst>
                <a:path w="2034" h="2211">
                  <a:moveTo>
                    <a:pt x="0" y="2210"/>
                  </a:moveTo>
                  <a:lnTo>
                    <a:pt x="276" y="2033"/>
                  </a:lnTo>
                  <a:lnTo>
                    <a:pt x="553" y="1850"/>
                  </a:lnTo>
                  <a:lnTo>
                    <a:pt x="679" y="1753"/>
                  </a:lnTo>
                  <a:lnTo>
                    <a:pt x="806" y="1656"/>
                  </a:lnTo>
                  <a:lnTo>
                    <a:pt x="920" y="1559"/>
                  </a:lnTo>
                  <a:lnTo>
                    <a:pt x="1028" y="1468"/>
                  </a:lnTo>
                  <a:lnTo>
                    <a:pt x="1125" y="1371"/>
                  </a:lnTo>
                  <a:lnTo>
                    <a:pt x="1215" y="1274"/>
                  </a:lnTo>
                  <a:lnTo>
                    <a:pt x="1305" y="1178"/>
                  </a:lnTo>
                  <a:lnTo>
                    <a:pt x="1383" y="1081"/>
                  </a:lnTo>
                  <a:lnTo>
                    <a:pt x="1528" y="892"/>
                  </a:lnTo>
                  <a:lnTo>
                    <a:pt x="1660" y="704"/>
                  </a:lnTo>
                  <a:lnTo>
                    <a:pt x="1720" y="613"/>
                  </a:lnTo>
                  <a:lnTo>
                    <a:pt x="1780" y="516"/>
                  </a:lnTo>
                  <a:lnTo>
                    <a:pt x="1883" y="317"/>
                  </a:lnTo>
                  <a:lnTo>
                    <a:pt x="1925" y="226"/>
                  </a:lnTo>
                  <a:lnTo>
                    <a:pt x="1967" y="140"/>
                  </a:lnTo>
                  <a:lnTo>
                    <a:pt x="2003" y="64"/>
                  </a:lnTo>
                  <a:lnTo>
                    <a:pt x="2033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27"/>
            <p:cNvSpPr/>
            <p:nvPr/>
          </p:nvSpPr>
          <p:spPr>
            <a:xfrm>
              <a:off x="2093040" y="1868400"/>
              <a:ext cx="273096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 impuesto sobre l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ción eleva la curva 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 marginal de la empres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 la cuantía del impuesto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Line 29"/>
            <p:cNvSpPr/>
            <p:nvPr/>
          </p:nvSpPr>
          <p:spPr>
            <a:xfrm>
              <a:off x="5715000" y="2376360"/>
              <a:ext cx="0" cy="982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7f7f"/>
                </a:solidFill>
                <a:latin typeface="Arial"/>
              </a:rPr>
              <a:t>Influencia de un impuesto sobre la producción en el nivel de producción de la industria</a:t>
            </a:r>
            <a:endParaRPr b="1" lang="en-US" sz="25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21" name="Footer Placeholder 2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5"/>
          <p:cNvSpPr/>
          <p:nvPr/>
        </p:nvSpPr>
        <p:spPr>
          <a:xfrm>
            <a:off x="2209680" y="171612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6"/>
          <p:cNvSpPr/>
          <p:nvPr/>
        </p:nvSpPr>
        <p:spPr>
          <a:xfrm>
            <a:off x="2238480" y="6006960"/>
            <a:ext cx="5140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Rectangle 7"/>
          <p:cNvSpPr/>
          <p:nvPr/>
        </p:nvSpPr>
        <p:spPr>
          <a:xfrm>
            <a:off x="1393920" y="144792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Rectangle 8"/>
          <p:cNvSpPr/>
          <p:nvPr/>
        </p:nvSpPr>
        <p:spPr>
          <a:xfrm>
            <a:off x="6839640" y="594360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9"/>
          <p:cNvSpPr/>
          <p:nvPr/>
        </p:nvSpPr>
        <p:spPr>
          <a:xfrm>
            <a:off x="2211480" y="2743200"/>
            <a:ext cx="388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Group 27"/>
          <p:cNvGrpSpPr/>
          <p:nvPr/>
        </p:nvGrpSpPr>
        <p:grpSpPr>
          <a:xfrm>
            <a:off x="2922480" y="2160720"/>
            <a:ext cx="3809880" cy="3426840"/>
            <a:chOff x="2922480" y="2160720"/>
            <a:chExt cx="3809880" cy="3426840"/>
          </a:xfrm>
        </p:grpSpPr>
        <p:sp>
          <p:nvSpPr>
            <p:cNvPr id="2030" name="Line 12"/>
            <p:cNvSpPr/>
            <p:nvPr/>
          </p:nvSpPr>
          <p:spPr>
            <a:xfrm>
              <a:off x="2922480" y="2160720"/>
              <a:ext cx="3300480" cy="32241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13"/>
            <p:cNvSpPr/>
            <p:nvPr/>
          </p:nvSpPr>
          <p:spPr>
            <a:xfrm>
              <a:off x="6386400" y="52243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2" name="Group 29"/>
          <p:cNvGrpSpPr/>
          <p:nvPr/>
        </p:nvGrpSpPr>
        <p:grpSpPr>
          <a:xfrm>
            <a:off x="1743480" y="2058840"/>
            <a:ext cx="5299560" cy="4267800"/>
            <a:chOff x="1743480" y="2058840"/>
            <a:chExt cx="5299560" cy="4267800"/>
          </a:xfrm>
        </p:grpSpPr>
        <p:sp>
          <p:nvSpPr>
            <p:cNvPr id="2033" name="Line 10"/>
            <p:cNvSpPr/>
            <p:nvPr/>
          </p:nvSpPr>
          <p:spPr>
            <a:xfrm>
              <a:off x="2224080" y="4191120"/>
              <a:ext cx="2792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11"/>
            <p:cNvSpPr/>
            <p:nvPr/>
          </p:nvSpPr>
          <p:spPr>
            <a:xfrm>
              <a:off x="1743480" y="39639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4"/>
            <p:cNvSpPr/>
            <p:nvPr/>
          </p:nvSpPr>
          <p:spPr>
            <a:xfrm>
              <a:off x="3348000" y="2435400"/>
              <a:ext cx="3360600" cy="2673000"/>
            </a:xfrm>
            <a:custGeom>
              <a:avLst/>
              <a:gdLst>
                <a:gd name="textAreaLeft" fmla="*/ 0 w 3360600"/>
                <a:gd name="textAreaRight" fmla="*/ 3360960 w 3360600"/>
                <a:gd name="textAreaTop" fmla="*/ 0 h 2673000"/>
                <a:gd name="textAreaBottom" fmla="*/ 2673360 h 2673000"/>
              </a:gdLst>
              <a:ahLst/>
              <a:rect l="textAreaLeft" t="textAreaTop" r="textAreaRight" b="textAreaBottom"/>
              <a:pathLst>
                <a:path w="2117" h="1684">
                  <a:moveTo>
                    <a:pt x="0" y="1683"/>
                  </a:moveTo>
                  <a:lnTo>
                    <a:pt x="284" y="1539"/>
                  </a:lnTo>
                  <a:lnTo>
                    <a:pt x="561" y="1400"/>
                  </a:lnTo>
                  <a:lnTo>
                    <a:pt x="825" y="1256"/>
                  </a:lnTo>
                  <a:lnTo>
                    <a:pt x="947" y="1184"/>
                  </a:lnTo>
                  <a:lnTo>
                    <a:pt x="1061" y="1107"/>
                  </a:lnTo>
                  <a:lnTo>
                    <a:pt x="1271" y="952"/>
                  </a:lnTo>
                  <a:lnTo>
                    <a:pt x="1460" y="787"/>
                  </a:lnTo>
                  <a:lnTo>
                    <a:pt x="1636" y="628"/>
                  </a:lnTo>
                  <a:lnTo>
                    <a:pt x="1710" y="556"/>
                  </a:lnTo>
                  <a:lnTo>
                    <a:pt x="1778" y="484"/>
                  </a:lnTo>
                  <a:lnTo>
                    <a:pt x="1839" y="417"/>
                  </a:lnTo>
                  <a:lnTo>
                    <a:pt x="1893" y="350"/>
                  </a:lnTo>
                  <a:lnTo>
                    <a:pt x="1981" y="226"/>
                  </a:lnTo>
                  <a:lnTo>
                    <a:pt x="2055" y="113"/>
                  </a:lnTo>
                  <a:lnTo>
                    <a:pt x="2116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15"/>
            <p:cNvSpPr/>
            <p:nvPr/>
          </p:nvSpPr>
          <p:spPr>
            <a:xfrm>
              <a:off x="6636240" y="205884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16"/>
            <p:cNvSpPr/>
            <p:nvPr/>
          </p:nvSpPr>
          <p:spPr>
            <a:xfrm>
              <a:off x="4807080" y="59259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Line 17"/>
            <p:cNvSpPr/>
            <p:nvPr/>
          </p:nvSpPr>
          <p:spPr>
            <a:xfrm>
              <a:off x="5029200" y="4205160"/>
              <a:ext cx="0" cy="1801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9" name="Group 31"/>
          <p:cNvGrpSpPr/>
          <p:nvPr/>
        </p:nvGrpSpPr>
        <p:grpSpPr>
          <a:xfrm>
            <a:off x="1743480" y="3354480"/>
            <a:ext cx="2810520" cy="2972160"/>
            <a:chOff x="1743480" y="3354480"/>
            <a:chExt cx="2810520" cy="2972160"/>
          </a:xfrm>
        </p:grpSpPr>
        <p:sp>
          <p:nvSpPr>
            <p:cNvPr id="2040" name="Line 20"/>
            <p:cNvSpPr/>
            <p:nvPr/>
          </p:nvSpPr>
          <p:spPr>
            <a:xfrm>
              <a:off x="2224080" y="3581280"/>
              <a:ext cx="2106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21"/>
            <p:cNvSpPr/>
            <p:nvPr/>
          </p:nvSpPr>
          <p:spPr>
            <a:xfrm>
              <a:off x="1743480" y="33544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Line 22"/>
            <p:cNvSpPr/>
            <p:nvPr/>
          </p:nvSpPr>
          <p:spPr>
            <a:xfrm>
              <a:off x="4343400" y="3595680"/>
              <a:ext cx="0" cy="2411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23"/>
            <p:cNvSpPr/>
            <p:nvPr/>
          </p:nvSpPr>
          <p:spPr>
            <a:xfrm>
              <a:off x="4121280" y="592596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4" name="Group 30"/>
          <p:cNvGrpSpPr/>
          <p:nvPr/>
        </p:nvGrpSpPr>
        <p:grpSpPr>
          <a:xfrm>
            <a:off x="2739960" y="1525680"/>
            <a:ext cx="6249240" cy="3171960"/>
            <a:chOff x="2739960" y="1525680"/>
            <a:chExt cx="6249240" cy="3171960"/>
          </a:xfrm>
        </p:grpSpPr>
        <p:sp>
          <p:nvSpPr>
            <p:cNvPr id="2045" name="Freeform 18"/>
            <p:cNvSpPr/>
            <p:nvPr/>
          </p:nvSpPr>
          <p:spPr>
            <a:xfrm>
              <a:off x="2739960" y="1981080"/>
              <a:ext cx="3206880" cy="2441520"/>
            </a:xfrm>
            <a:custGeom>
              <a:avLst/>
              <a:gdLst>
                <a:gd name="textAreaLeft" fmla="*/ 0 w 3206880"/>
                <a:gd name="textAreaRight" fmla="*/ 3207240 w 3206880"/>
                <a:gd name="textAreaTop" fmla="*/ 0 h 2441520"/>
                <a:gd name="textAreaBottom" fmla="*/ 2441880 h 2441520"/>
              </a:gdLst>
              <a:ahLst/>
              <a:rect l="textAreaLeft" t="textAreaTop" r="textAreaRight" b="textAreaBottom"/>
              <a:pathLst>
                <a:path w="2020" h="1538">
                  <a:moveTo>
                    <a:pt x="0" y="1537"/>
                  </a:moveTo>
                  <a:lnTo>
                    <a:pt x="269" y="1408"/>
                  </a:lnTo>
                  <a:lnTo>
                    <a:pt x="533" y="1279"/>
                  </a:lnTo>
                  <a:lnTo>
                    <a:pt x="785" y="1145"/>
                  </a:lnTo>
                  <a:lnTo>
                    <a:pt x="898" y="1078"/>
                  </a:lnTo>
                  <a:lnTo>
                    <a:pt x="1012" y="1011"/>
                  </a:lnTo>
                  <a:lnTo>
                    <a:pt x="1216" y="869"/>
                  </a:lnTo>
                  <a:lnTo>
                    <a:pt x="1396" y="722"/>
                  </a:lnTo>
                  <a:lnTo>
                    <a:pt x="1558" y="575"/>
                  </a:lnTo>
                  <a:lnTo>
                    <a:pt x="1630" y="503"/>
                  </a:lnTo>
                  <a:lnTo>
                    <a:pt x="1695" y="441"/>
                  </a:lnTo>
                  <a:lnTo>
                    <a:pt x="1755" y="378"/>
                  </a:lnTo>
                  <a:lnTo>
                    <a:pt x="1803" y="321"/>
                  </a:lnTo>
                  <a:lnTo>
                    <a:pt x="1851" y="263"/>
                  </a:lnTo>
                  <a:lnTo>
                    <a:pt x="1893" y="209"/>
                  </a:lnTo>
                  <a:lnTo>
                    <a:pt x="1959" y="102"/>
                  </a:lnTo>
                  <a:lnTo>
                    <a:pt x="2019" y="0"/>
                  </a:lnTo>
                </a:path>
              </a:pathLst>
            </a:custGeom>
            <a:noFill/>
            <a:ln cap="rnd" w="50760">
              <a:solidFill>
                <a:srgbClr val="996600"/>
              </a:solidFill>
              <a:custDash>
                <a:ds d="4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19"/>
            <p:cNvSpPr/>
            <p:nvPr/>
          </p:nvSpPr>
          <p:spPr>
            <a:xfrm>
              <a:off x="5728680" y="1525680"/>
              <a:ext cx="1205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= 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+ 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4"/>
            <p:cNvSpPr/>
            <p:nvPr/>
          </p:nvSpPr>
          <p:spPr>
            <a:xfrm>
              <a:off x="5032440" y="3049560"/>
              <a:ext cx="228600" cy="10684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144" h="673">
                  <a:moveTo>
                    <a:pt x="0" y="0"/>
                  </a:moveTo>
                  <a:lnTo>
                    <a:pt x="26" y="4"/>
                  </a:lnTo>
                  <a:lnTo>
                    <a:pt x="48" y="16"/>
                  </a:lnTo>
                  <a:lnTo>
                    <a:pt x="63" y="33"/>
                  </a:lnTo>
                  <a:lnTo>
                    <a:pt x="69" y="54"/>
                  </a:lnTo>
                  <a:lnTo>
                    <a:pt x="69" y="278"/>
                  </a:lnTo>
                  <a:lnTo>
                    <a:pt x="74" y="303"/>
                  </a:lnTo>
                  <a:lnTo>
                    <a:pt x="90" y="319"/>
                  </a:lnTo>
                  <a:lnTo>
                    <a:pt x="111" y="332"/>
                  </a:lnTo>
                  <a:lnTo>
                    <a:pt x="143" y="336"/>
                  </a:lnTo>
                  <a:lnTo>
                    <a:pt x="111" y="340"/>
                  </a:lnTo>
                  <a:lnTo>
                    <a:pt x="90" y="353"/>
                  </a:lnTo>
                  <a:lnTo>
                    <a:pt x="74" y="369"/>
                  </a:lnTo>
                  <a:lnTo>
                    <a:pt x="69" y="390"/>
                  </a:lnTo>
                  <a:lnTo>
                    <a:pt x="69" y="614"/>
                  </a:lnTo>
                  <a:lnTo>
                    <a:pt x="63" y="639"/>
                  </a:lnTo>
                  <a:lnTo>
                    <a:pt x="48" y="655"/>
                  </a:lnTo>
                  <a:lnTo>
                    <a:pt x="26" y="668"/>
                  </a:lnTo>
                  <a:lnTo>
                    <a:pt x="0" y="6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25"/>
            <p:cNvSpPr/>
            <p:nvPr/>
          </p:nvSpPr>
          <p:spPr>
            <a:xfrm>
              <a:off x="5243760" y="3292560"/>
              <a:ext cx="248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26"/>
            <p:cNvSpPr/>
            <p:nvPr/>
          </p:nvSpPr>
          <p:spPr>
            <a:xfrm>
              <a:off x="5780520" y="3811680"/>
              <a:ext cx="3208680" cy="885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impuesto se eleva de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 la producción disminuye 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precio sube a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Line 28"/>
            <p:cNvSpPr/>
            <p:nvPr/>
          </p:nvSpPr>
          <p:spPr>
            <a:xfrm>
              <a:off x="5029200" y="3100320"/>
              <a:ext cx="0" cy="10209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asticidad de la oferta a larg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ndustria de coste consta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curva de oferta a largo plazo es horizont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a pequeña subida del precio provoca un aumento extraordinariamente grande de la produc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asticidad de la oferta a larg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Industria de coste consta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lasticidad de la oferta a largo plazo es infinitamente elevad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factores son fácilmente accesibl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lasticidad de la oferta a largo plaz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Industria de coste crecie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oferta tiene una pendiente positiva y la elasticidad es positiv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magnitud de la elasticidad depende del grado en que aumenten los costes de los factor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oferta a largo plazo es más elástica que la oferta a corto plaz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7f7f7f"/>
                </a:solidFill>
                <a:latin typeface="Arial"/>
              </a:rPr>
              <a:t>La maximización de los beneficios</a:t>
            </a:r>
            <a:endParaRPr b="1" lang="en-US" sz="31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Maximizan las empresas los beneficio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2449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sibilidad de otros objetiv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aximización de los ingres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aximización de los dividend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aximización de los beneficios a corto plaz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curva de oferta a largo plazo de la industria 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scriba la elasticidad de la oferta a largo plazo en una industria de coste decrecien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oferta de vivienda a largo plaz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1: Viviendas ocupadas por sus propietar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las zonas suburbanas o rur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Mercado nacional para los factor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oferta de vivienda a largo plaz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Este caso es una industria de coste creciente o constante?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¿Qué podría predecir sobre la elasticidad de la oferta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oferta de vivienda a largo plaz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8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2: Alquiler de las vivienda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aplican las limitaciones de la planificación urban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elo urban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eleva el coste de construc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7f7f"/>
                </a:solidFill>
                <a:latin typeface="Arial"/>
              </a:rPr>
              <a:t>La oferta de vivienda a largo plaz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Este caso es una industria de coste creciente o constante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62626"/>
                </a:solidFill>
                <a:latin typeface="Arial"/>
              </a:rPr>
              <a:t>¿Qué podría predecir sobre la elasticidad de la oferta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directivos de las empresas pueden actuar de acuerdo con un complejo conjunto de objetivos y sujetos a algunas restriccione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mercados competitivos eligen su nivel de producción bajo la suposición de que la demanda para su propia producción sea horizontal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0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20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 corto plazo, una empresa competitiva maximiza sus beneficios eligiendo un nivel de producción en el que el precio sea igual al coste marginal a corto plaz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oferta del mercado a corto plazo es la suma horizontal de las curvas de oferta de las empresas de una industria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excedente del productor de una empresa es la diferencia entre su ingreso y el coste mínimo que sería necesario para obtener el nivel de producción maximizador de los benefici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renta económica es el pago de un factor de producción escaso menos la cantidad mínima necesaria para contratarl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3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A largo plazo, las empresas competitivas maximizadoras de los beneficios eligen el nivel de producción en el que el precio es igual al coste marginal a largo plazo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curva de oferta a largo plazo de una empresa puede ser horizontal, ya sea su pendiente positiva o negativa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8" name="Footer Placeholder 3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Fin del Capítulo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subTitle"/>
          </p:nvPr>
        </p:nvSpPr>
        <p:spPr>
          <a:xfrm>
            <a:off x="1523880" y="3352680"/>
            <a:ext cx="6400800" cy="99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"/>
              </a:rPr>
              <a:t>La maximización de los beneficios y la oferta competitiva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AlCAMPO</cp:lastModifiedBy>
  <dcterms:modified xsi:type="dcterms:W3CDTF">2012-09-28T13:29:06Z</dcterms:modified>
  <cp:revision>401</cp:revision>
  <dc:subject/>
  <dc:title>Chapter 1</dc:title>
</cp:coreProperties>
</file>